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65-148D-401F-A07E-95D9550E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952-3177-40B5-8C62-CCFE1B32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FBA-3147-4A00-81F4-F60D6F0F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7A5-725E-4F6F-A6AC-25437FFE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ADD-128D-41BA-95D5-827A7D7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D8A-8945-4B54-8457-D74C8E69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3F9-9D2B-4458-83C8-E43351C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B75-2893-40BE-AB02-66AB8E78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8F5-7083-4F26-A919-F85A05F0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5B6-332A-46D6-BD1F-DA81988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4C8-94DD-45E8-92D9-C25B8F87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163-3845-4D13-9145-A2D175B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918-FFED-4B32-9C33-A20220E34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276720"/>
            <a:ext cx="655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uggestions f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urch Invol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9000" y="665280"/>
            <a:ext cx="81784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902444"/>
                </a:solidFill>
                <a:latin typeface="Geometr231 Hv BT"/>
              </a:rPr>
              <a:t>CHURCH INVOLVEMEN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6172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1. Preven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2. Education /Trai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3. Care-Giv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74520" y="4584600"/>
            <a:ext cx="65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28200" y="5494320"/>
            <a:ext cx="165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8:10Z</dcterms:modified>
  <cp:revision>263</cp:revision>
  <dc:subject/>
  <dc:title>No Slide Title</dc:title>
</cp:coreProperties>
</file>