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0306-7360-431F-A0B9-D45023960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9155-C6E5-4F50-8CD6-986EE123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E5DA-1DBD-45E7-8629-F4BF7E639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2882-A5E4-4CFE-9379-33067BFDD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F2C6-A5CB-476C-9C27-4EBCBC58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57C9-3EAE-414E-85A5-95780B85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5451-7408-4BB2-8EB1-FFA3534A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CD55-EB75-4A2A-85E7-C5137A26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CC24-80CD-46BD-B049-3594B160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2636-1617-43D6-9101-D3301B03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9883-D685-4401-8846-71145990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832C-B4DE-40DE-8DE1-1954F6D5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914400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eometr231 Hv BT"/>
              </a:rPr>
              <a:t>B I B L I C A L,   M O R A L L Y - B A S E D   H O P E   I N   T H E   C R I S E S   O F   H U M A N   T R A G E 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DBAD-1F1E-4EF9-934A-9ACA4ABD1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284880"/>
            <a:ext cx="350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metr231 Hv BT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Geometr231 Hv BT"/>
              </a:rPr>
              <a:t>FRICA… Operation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924680" y="6494400"/>
            <a:ext cx="914040" cy="149040"/>
            <a:chOff x="7924680" y="6494400"/>
            <a:chExt cx="914040" cy="149040"/>
          </a:xfrm>
        </p:grpSpPr>
        <p:sp>
          <p:nvSpPr>
            <p:cNvPr id="8" name=""/>
            <p:cNvSpPr/>
            <p:nvPr/>
          </p:nvSpPr>
          <p:spPr>
            <a:xfrm>
              <a:off x="7924680" y="6495840"/>
              <a:ext cx="84960" cy="119160"/>
            </a:xfrm>
            <a:custGeom>
              <a:avLst/>
              <a:gdLst/>
              <a:ahLst/>
              <a:rect l="l" t="t" r="r" b="b"/>
              <a:pathLst>
                <a:path w="86" h="126">
                  <a:moveTo>
                    <a:pt x="84" y="124"/>
                  </a:moveTo>
                  <a:lnTo>
                    <a:pt x="82" y="124"/>
                  </a:lnTo>
                  <a:lnTo>
                    <a:pt x="80" y="126"/>
                  </a:lnTo>
                  <a:lnTo>
                    <a:pt x="78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6" y="126"/>
                  </a:lnTo>
                  <a:lnTo>
                    <a:pt x="58" y="126"/>
                  </a:lnTo>
                  <a:lnTo>
                    <a:pt x="52" y="124"/>
                  </a:lnTo>
                  <a:lnTo>
                    <a:pt x="46" y="124"/>
                  </a:lnTo>
                  <a:lnTo>
                    <a:pt x="40" y="122"/>
                  </a:lnTo>
                  <a:lnTo>
                    <a:pt x="34" y="118"/>
                  </a:lnTo>
                  <a:lnTo>
                    <a:pt x="28" y="116"/>
                  </a:lnTo>
                  <a:lnTo>
                    <a:pt x="22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32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0"/>
                  </a:lnTo>
                  <a:lnTo>
                    <a:pt x="74" y="30"/>
                  </a:lnTo>
                  <a:lnTo>
                    <a:pt x="74" y="28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2"/>
                  </a:lnTo>
                  <a:lnTo>
                    <a:pt x="48" y="34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4" y="62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8" y="78"/>
                  </a:lnTo>
                  <a:lnTo>
                    <a:pt x="40" y="82"/>
                  </a:lnTo>
                  <a:lnTo>
                    <a:pt x="42" y="84"/>
                  </a:lnTo>
                  <a:lnTo>
                    <a:pt x="44" y="86"/>
                  </a:lnTo>
                  <a:lnTo>
                    <a:pt x="46" y="88"/>
                  </a:lnTo>
                  <a:lnTo>
                    <a:pt x="48" y="90"/>
                  </a:lnTo>
                  <a:lnTo>
                    <a:pt x="52" y="92"/>
                  </a:lnTo>
                  <a:lnTo>
                    <a:pt x="54" y="94"/>
                  </a:lnTo>
                  <a:lnTo>
                    <a:pt x="58" y="94"/>
                  </a:lnTo>
                  <a:lnTo>
                    <a:pt x="60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6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86" y="90"/>
                  </a:lnTo>
                  <a:lnTo>
                    <a:pt x="84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21520" y="6526440"/>
              <a:ext cx="90360" cy="889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46" y="30"/>
                  </a:move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2"/>
                  </a:lnTo>
                  <a:lnTo>
                    <a:pt x="40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2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8" y="60"/>
                  </a:lnTo>
                  <a:lnTo>
                    <a:pt x="58" y="58"/>
                  </a:lnTo>
                  <a:lnTo>
                    <a:pt x="60" y="56"/>
                  </a:lnTo>
                  <a:lnTo>
                    <a:pt x="60" y="54"/>
                  </a:lnTo>
                  <a:lnTo>
                    <a:pt x="62" y="52"/>
                  </a:lnTo>
                  <a:lnTo>
                    <a:pt x="62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60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close/>
                  <a:moveTo>
                    <a:pt x="46" y="0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6" y="26"/>
                  </a:lnTo>
                  <a:lnTo>
                    <a:pt x="88" y="30"/>
                  </a:lnTo>
                  <a:lnTo>
                    <a:pt x="90" y="34"/>
                  </a:lnTo>
                  <a:lnTo>
                    <a:pt x="92" y="38"/>
                  </a:lnTo>
                  <a:lnTo>
                    <a:pt x="92" y="42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2"/>
                  </a:lnTo>
                  <a:lnTo>
                    <a:pt x="88" y="66"/>
                  </a:lnTo>
                  <a:lnTo>
                    <a:pt x="86" y="70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4" y="84"/>
                  </a:lnTo>
                  <a:lnTo>
                    <a:pt x="72" y="86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0" y="92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6" y="94"/>
                  </a:lnTo>
                  <a:lnTo>
                    <a:pt x="42" y="94"/>
                  </a:lnTo>
                  <a:lnTo>
                    <a:pt x="38" y="94"/>
                  </a:lnTo>
                  <a:lnTo>
                    <a:pt x="32" y="92"/>
                  </a:lnTo>
                  <a:lnTo>
                    <a:pt x="28" y="90"/>
                  </a:lnTo>
                  <a:lnTo>
                    <a:pt x="24" y="88"/>
                  </a:lnTo>
                  <a:lnTo>
                    <a:pt x="20" y="86"/>
                  </a:lnTo>
                  <a:lnTo>
                    <a:pt x="18" y="84"/>
                  </a:lnTo>
                  <a:lnTo>
                    <a:pt x="14" y="80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24120" y="6526440"/>
              <a:ext cx="92880" cy="115200"/>
            </a:xfrm>
            <a:custGeom>
              <a:avLst/>
              <a:gdLst/>
              <a:ahLst/>
              <a:rect l="l" t="t" r="r" b="b"/>
              <a:pathLst>
                <a:path w="94" h="122">
                  <a:moveTo>
                    <a:pt x="48" y="64"/>
                  </a:moveTo>
                  <a:lnTo>
                    <a:pt x="50" y="64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58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2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close/>
                  <a:moveTo>
                    <a:pt x="30" y="88"/>
                  </a:moveTo>
                  <a:lnTo>
                    <a:pt x="30" y="122"/>
                  </a:lnTo>
                  <a:lnTo>
                    <a:pt x="0" y="122"/>
                  </a:ln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4" y="38"/>
                  </a:lnTo>
                  <a:lnTo>
                    <a:pt x="94" y="42"/>
                  </a:lnTo>
                  <a:lnTo>
                    <a:pt x="94" y="46"/>
                  </a:lnTo>
                  <a:lnTo>
                    <a:pt x="94" y="52"/>
                  </a:lnTo>
                  <a:lnTo>
                    <a:pt x="94" y="56"/>
                  </a:lnTo>
                  <a:lnTo>
                    <a:pt x="92" y="60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6"/>
                  </a:lnTo>
                  <a:lnTo>
                    <a:pt x="82" y="80"/>
                  </a:lnTo>
                  <a:lnTo>
                    <a:pt x="78" y="84"/>
                  </a:lnTo>
                  <a:lnTo>
                    <a:pt x="76" y="86"/>
                  </a:lnTo>
                  <a:lnTo>
                    <a:pt x="72" y="88"/>
                  </a:lnTo>
                  <a:lnTo>
                    <a:pt x="68" y="90"/>
                  </a:lnTo>
                  <a:lnTo>
                    <a:pt x="64" y="92"/>
                  </a:lnTo>
                  <a:lnTo>
                    <a:pt x="58" y="94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6" y="92"/>
                  </a:lnTo>
                  <a:lnTo>
                    <a:pt x="34" y="90"/>
                  </a:lnTo>
                  <a:lnTo>
                    <a:pt x="32" y="90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20600" y="6528240"/>
              <a:ext cx="88560" cy="113400"/>
            </a:xfrm>
            <a:custGeom>
              <a:avLst/>
              <a:gdLst/>
              <a:ahLst/>
              <a:rect l="l" t="t" r="r" b="b"/>
              <a:pathLst>
                <a:path w="90" h="120">
                  <a:moveTo>
                    <a:pt x="20" y="120"/>
                  </a:moveTo>
                  <a:lnTo>
                    <a:pt x="32" y="8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46" y="44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54" y="120"/>
                  </a:lnTo>
                  <a:lnTo>
                    <a:pt x="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15640" y="6526440"/>
              <a:ext cx="48960" cy="8676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0" y="92"/>
                  </a:move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0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76840" y="6495840"/>
              <a:ext cx="29520" cy="117360"/>
            </a:xfrm>
            <a:custGeom>
              <a:avLst/>
              <a:gdLst/>
              <a:ahLst/>
              <a:rect l="l" t="t" r="r" b="b"/>
              <a:pathLst>
                <a:path w="30" h="124">
                  <a:moveTo>
                    <a:pt x="0" y="124"/>
                  </a:moveTo>
                  <a:lnTo>
                    <a:pt x="0" y="34"/>
                  </a:lnTo>
                  <a:lnTo>
                    <a:pt x="30" y="34"/>
                  </a:lnTo>
                  <a:lnTo>
                    <a:pt x="30" y="124"/>
                  </a:lnTo>
                  <a:lnTo>
                    <a:pt x="0" y="124"/>
                  </a:lnTo>
                  <a:close/>
                  <a:moveTo>
                    <a:pt x="0" y="2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16440" y="6526440"/>
              <a:ext cx="82800" cy="11700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42" y="52"/>
                  </a:moveTo>
                  <a:lnTo>
                    <a:pt x="44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0" y="52"/>
                  </a:lnTo>
                  <a:lnTo>
                    <a:pt x="42" y="52"/>
                  </a:lnTo>
                  <a:close/>
                  <a:moveTo>
                    <a:pt x="52" y="78"/>
                  </a:moveTo>
                  <a:lnTo>
                    <a:pt x="50" y="80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0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6" y="76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16" y="70"/>
                  </a:lnTo>
                  <a:lnTo>
                    <a:pt x="12" y="68"/>
                  </a:lnTo>
                  <a:lnTo>
                    <a:pt x="10" y="66"/>
                  </a:lnTo>
                  <a:lnTo>
                    <a:pt x="8" y="62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84" y="2"/>
                  </a:lnTo>
                  <a:lnTo>
                    <a:pt x="76" y="16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4" y="36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4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6" y="66"/>
                  </a:lnTo>
                  <a:lnTo>
                    <a:pt x="78" y="68"/>
                  </a:lnTo>
                  <a:lnTo>
                    <a:pt x="78" y="70"/>
                  </a:lnTo>
                  <a:lnTo>
                    <a:pt x="80" y="72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80" y="78"/>
                  </a:lnTo>
                  <a:lnTo>
                    <a:pt x="82" y="78"/>
                  </a:lnTo>
                  <a:lnTo>
                    <a:pt x="82" y="80"/>
                  </a:lnTo>
                  <a:lnTo>
                    <a:pt x="82" y="82"/>
                  </a:lnTo>
                  <a:lnTo>
                    <a:pt x="82" y="84"/>
                  </a:lnTo>
                  <a:lnTo>
                    <a:pt x="82" y="86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80" y="102"/>
                  </a:lnTo>
                  <a:lnTo>
                    <a:pt x="78" y="104"/>
                  </a:lnTo>
                  <a:lnTo>
                    <a:pt x="76" y="108"/>
                  </a:lnTo>
                  <a:lnTo>
                    <a:pt x="72" y="110"/>
                  </a:lnTo>
                  <a:lnTo>
                    <a:pt x="70" y="114"/>
                  </a:lnTo>
                  <a:lnTo>
                    <a:pt x="68" y="116"/>
                  </a:lnTo>
                  <a:lnTo>
                    <a:pt x="64" y="118"/>
                  </a:lnTo>
                  <a:lnTo>
                    <a:pt x="62" y="120"/>
                  </a:lnTo>
                  <a:lnTo>
                    <a:pt x="58" y="122"/>
                  </a:lnTo>
                  <a:lnTo>
                    <a:pt x="54" y="122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4" y="124"/>
                  </a:lnTo>
                  <a:lnTo>
                    <a:pt x="30" y="122"/>
                  </a:lnTo>
                  <a:lnTo>
                    <a:pt x="28" y="122"/>
                  </a:lnTo>
                  <a:lnTo>
                    <a:pt x="24" y="122"/>
                  </a:lnTo>
                  <a:lnTo>
                    <a:pt x="22" y="120"/>
                  </a:lnTo>
                  <a:lnTo>
                    <a:pt x="18" y="120"/>
                  </a:lnTo>
                  <a:lnTo>
                    <a:pt x="16" y="118"/>
                  </a:lnTo>
                  <a:lnTo>
                    <a:pt x="14" y="116"/>
                  </a:lnTo>
                  <a:lnTo>
                    <a:pt x="12" y="116"/>
                  </a:lnTo>
                  <a:lnTo>
                    <a:pt x="10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0" y="106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2" y="90"/>
                  </a:lnTo>
                  <a:lnTo>
                    <a:pt x="24" y="92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8" y="94"/>
                  </a:lnTo>
                  <a:lnTo>
                    <a:pt x="30" y="94"/>
                  </a:lnTo>
                  <a:lnTo>
                    <a:pt x="32" y="96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0" y="96"/>
                  </a:lnTo>
                  <a:lnTo>
                    <a:pt x="42" y="96"/>
                  </a:lnTo>
                  <a:lnTo>
                    <a:pt x="44" y="96"/>
                  </a:lnTo>
                  <a:lnTo>
                    <a:pt x="44" y="94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50" y="90"/>
                  </a:lnTo>
                  <a:lnTo>
                    <a:pt x="50" y="88"/>
                  </a:lnTo>
                  <a:lnTo>
                    <a:pt x="52" y="88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2" y="82"/>
                  </a:lnTo>
                  <a:lnTo>
                    <a:pt x="52" y="80"/>
                  </a:lnTo>
                  <a:lnTo>
                    <a:pt x="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13280" y="6495840"/>
              <a:ext cx="76680" cy="117360"/>
            </a:xfrm>
            <a:custGeom>
              <a:avLst/>
              <a:gdLst/>
              <a:ahLst/>
              <a:rect l="l" t="t" r="r" b="b"/>
              <a:pathLst>
                <a:path w="78" h="124">
                  <a:moveTo>
                    <a:pt x="0" y="1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50" y="32"/>
                  </a:lnTo>
                  <a:lnTo>
                    <a:pt x="52" y="32"/>
                  </a:lnTo>
                  <a:lnTo>
                    <a:pt x="54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2" y="40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6" y="46"/>
                  </a:lnTo>
                  <a:lnTo>
                    <a:pt x="76" y="48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8" y="58"/>
                  </a:lnTo>
                  <a:lnTo>
                    <a:pt x="78" y="62"/>
                  </a:lnTo>
                  <a:lnTo>
                    <a:pt x="78" y="124"/>
                  </a:lnTo>
                  <a:lnTo>
                    <a:pt x="48" y="124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2"/>
                  </a:lnTo>
                  <a:lnTo>
                    <a:pt x="48" y="70"/>
                  </a:lnTo>
                  <a:lnTo>
                    <a:pt x="48" y="68"/>
                  </a:lnTo>
                  <a:lnTo>
                    <a:pt x="46" y="66"/>
                  </a:lnTo>
                  <a:lnTo>
                    <a:pt x="44" y="64"/>
                  </a:lnTo>
                  <a:lnTo>
                    <a:pt x="42" y="62"/>
                  </a:lnTo>
                  <a:lnTo>
                    <a:pt x="40" y="62"/>
                  </a:lnTo>
                  <a:lnTo>
                    <a:pt x="38" y="62"/>
                  </a:lnTo>
                  <a:lnTo>
                    <a:pt x="36" y="62"/>
                  </a:lnTo>
                  <a:lnTo>
                    <a:pt x="36" y="64"/>
                  </a:lnTo>
                  <a:lnTo>
                    <a:pt x="34" y="64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6"/>
                  </a:lnTo>
                  <a:lnTo>
                    <a:pt x="3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200" y="6503760"/>
              <a:ext cx="48960" cy="111600"/>
            </a:xfrm>
            <a:custGeom>
              <a:avLst/>
              <a:gdLst/>
              <a:ahLst/>
              <a:rect l="l" t="t" r="r" b="b"/>
              <a:pathLst>
                <a:path w="50" h="118">
                  <a:moveTo>
                    <a:pt x="44" y="116"/>
                  </a:moveTo>
                  <a:lnTo>
                    <a:pt x="42" y="116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8"/>
                  </a:lnTo>
                  <a:lnTo>
                    <a:pt x="26" y="118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4" y="114"/>
                  </a:lnTo>
                  <a:lnTo>
                    <a:pt x="12" y="112"/>
                  </a:lnTo>
                  <a:lnTo>
                    <a:pt x="10" y="110"/>
                  </a:lnTo>
                  <a:lnTo>
                    <a:pt x="10" y="108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16"/>
                  </a:lnTo>
                  <a:lnTo>
                    <a:pt x="36" y="0"/>
                  </a:lnTo>
                  <a:lnTo>
                    <a:pt x="36" y="26"/>
                  </a:lnTo>
                  <a:lnTo>
                    <a:pt x="48" y="26"/>
                  </a:lnTo>
                  <a:lnTo>
                    <a:pt x="48" y="54"/>
                  </a:lnTo>
                  <a:lnTo>
                    <a:pt x="36" y="54"/>
                  </a:lnTo>
                  <a:lnTo>
                    <a:pt x="36" y="74"/>
                  </a:lnTo>
                  <a:lnTo>
                    <a:pt x="36" y="76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6"/>
                  </a:lnTo>
                  <a:lnTo>
                    <a:pt x="46" y="86"/>
                  </a:lnTo>
                  <a:lnTo>
                    <a:pt x="48" y="86"/>
                  </a:lnTo>
                  <a:lnTo>
                    <a:pt x="50" y="8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12360" y="6494400"/>
              <a:ext cx="126360" cy="11916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96" y="50"/>
                  </a:moveTo>
                  <a:lnTo>
                    <a:pt x="76" y="50"/>
                  </a:lnTo>
                  <a:lnTo>
                    <a:pt x="76" y="48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6" y="84"/>
                  </a:lnTo>
                  <a:lnTo>
                    <a:pt x="58" y="84"/>
                  </a:lnTo>
                  <a:lnTo>
                    <a:pt x="60" y="86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68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74" y="78"/>
                  </a:lnTo>
                  <a:lnTo>
                    <a:pt x="76" y="78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2"/>
                  </a:lnTo>
                  <a:lnTo>
                    <a:pt x="94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4" y="94"/>
                  </a:lnTo>
                  <a:lnTo>
                    <a:pt x="82" y="96"/>
                  </a:lnTo>
                  <a:lnTo>
                    <a:pt x="80" y="98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72" y="100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60" y="100"/>
                  </a:lnTo>
                  <a:lnTo>
                    <a:pt x="56" y="100"/>
                  </a:lnTo>
                  <a:lnTo>
                    <a:pt x="54" y="98"/>
                  </a:lnTo>
                  <a:lnTo>
                    <a:pt x="50" y="98"/>
                  </a:lnTo>
                  <a:lnTo>
                    <a:pt x="48" y="96"/>
                  </a:lnTo>
                  <a:lnTo>
                    <a:pt x="44" y="94"/>
                  </a:lnTo>
                  <a:lnTo>
                    <a:pt x="42" y="92"/>
                  </a:lnTo>
                  <a:lnTo>
                    <a:pt x="40" y="90"/>
                  </a:lnTo>
                  <a:lnTo>
                    <a:pt x="38" y="88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78"/>
                  </a:lnTo>
                  <a:lnTo>
                    <a:pt x="32" y="74"/>
                  </a:lnTo>
                  <a:lnTo>
                    <a:pt x="30" y="70"/>
                  </a:lnTo>
                  <a:lnTo>
                    <a:pt x="30" y="66"/>
                  </a:lnTo>
                  <a:lnTo>
                    <a:pt x="30" y="62"/>
                  </a:lnTo>
                  <a:lnTo>
                    <a:pt x="30" y="58"/>
                  </a:lnTo>
                  <a:lnTo>
                    <a:pt x="30" y="54"/>
                  </a:lnTo>
                  <a:lnTo>
                    <a:pt x="32" y="50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74" y="24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2" y="28"/>
                  </a:lnTo>
                  <a:lnTo>
                    <a:pt x="84" y="30"/>
                  </a:lnTo>
                  <a:lnTo>
                    <a:pt x="86" y="32"/>
                  </a:lnTo>
                  <a:lnTo>
                    <a:pt x="88" y="34"/>
                  </a:lnTo>
                  <a:lnTo>
                    <a:pt x="90" y="36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6" y="48"/>
                  </a:lnTo>
                  <a:lnTo>
                    <a:pt x="96" y="50"/>
                  </a:lnTo>
                  <a:close/>
                  <a:moveTo>
                    <a:pt x="64" y="12"/>
                  </a:moveTo>
                  <a:lnTo>
                    <a:pt x="62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14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30" y="100"/>
                  </a:lnTo>
                  <a:lnTo>
                    <a:pt x="32" y="102"/>
                  </a:lnTo>
                  <a:lnTo>
                    <a:pt x="34" y="104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0" y="108"/>
                  </a:lnTo>
                  <a:lnTo>
                    <a:pt x="42" y="110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54" y="112"/>
                  </a:lnTo>
                  <a:lnTo>
                    <a:pt x="56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4" y="114"/>
                  </a:lnTo>
                  <a:lnTo>
                    <a:pt x="66" y="114"/>
                  </a:lnTo>
                  <a:lnTo>
                    <a:pt x="68" y="114"/>
                  </a:lnTo>
                  <a:lnTo>
                    <a:pt x="72" y="114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2" y="110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88" y="108"/>
                  </a:lnTo>
                  <a:lnTo>
                    <a:pt x="90" y="106"/>
                  </a:lnTo>
                  <a:lnTo>
                    <a:pt x="94" y="106"/>
                  </a:lnTo>
                  <a:lnTo>
                    <a:pt x="96" y="104"/>
                  </a:lnTo>
                  <a:lnTo>
                    <a:pt x="98" y="102"/>
                  </a:lnTo>
                  <a:lnTo>
                    <a:pt x="100" y="100"/>
                  </a:lnTo>
                  <a:lnTo>
                    <a:pt x="102" y="98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6" y="92"/>
                  </a:lnTo>
                  <a:lnTo>
                    <a:pt x="108" y="90"/>
                  </a:lnTo>
                  <a:lnTo>
                    <a:pt x="110" y="88"/>
                  </a:lnTo>
                  <a:lnTo>
                    <a:pt x="110" y="86"/>
                  </a:lnTo>
                  <a:lnTo>
                    <a:pt x="112" y="84"/>
                  </a:lnTo>
                  <a:lnTo>
                    <a:pt x="112" y="82"/>
                  </a:lnTo>
                  <a:lnTo>
                    <a:pt x="112" y="80"/>
                  </a:lnTo>
                  <a:lnTo>
                    <a:pt x="114" y="78"/>
                  </a:lnTo>
                  <a:lnTo>
                    <a:pt x="114" y="76"/>
                  </a:lnTo>
                  <a:lnTo>
                    <a:pt x="114" y="72"/>
                  </a:lnTo>
                  <a:lnTo>
                    <a:pt x="116" y="70"/>
                  </a:lnTo>
                  <a:lnTo>
                    <a:pt x="116" y="68"/>
                  </a:lnTo>
                  <a:lnTo>
                    <a:pt x="116" y="64"/>
                  </a:lnTo>
                  <a:lnTo>
                    <a:pt x="116" y="62"/>
                  </a:lnTo>
                  <a:lnTo>
                    <a:pt x="116" y="60"/>
                  </a:lnTo>
                  <a:lnTo>
                    <a:pt x="116" y="58"/>
                  </a:lnTo>
                  <a:lnTo>
                    <a:pt x="116" y="54"/>
                  </a:lnTo>
                  <a:lnTo>
                    <a:pt x="114" y="52"/>
                  </a:lnTo>
                  <a:lnTo>
                    <a:pt x="114" y="50"/>
                  </a:lnTo>
                  <a:lnTo>
                    <a:pt x="114" y="46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0" y="38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100" y="24"/>
                  </a:lnTo>
                  <a:lnTo>
                    <a:pt x="98" y="22"/>
                  </a:lnTo>
                  <a:lnTo>
                    <a:pt x="96" y="20"/>
                  </a:lnTo>
                  <a:lnTo>
                    <a:pt x="94" y="18"/>
                  </a:lnTo>
                  <a:lnTo>
                    <a:pt x="90" y="18"/>
                  </a:lnTo>
                  <a:lnTo>
                    <a:pt x="88" y="16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6" y="12"/>
                  </a:lnTo>
                  <a:lnTo>
                    <a:pt x="64" y="12"/>
                  </a:lnTo>
                  <a:close/>
                  <a:moveTo>
                    <a:pt x="64" y="0"/>
                  </a:moveTo>
                  <a:lnTo>
                    <a:pt x="68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100" y="10"/>
                  </a:lnTo>
                  <a:lnTo>
                    <a:pt x="102" y="12"/>
                  </a:lnTo>
                  <a:lnTo>
                    <a:pt x="106" y="12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2" y="18"/>
                  </a:lnTo>
                  <a:lnTo>
                    <a:pt x="114" y="20"/>
                  </a:lnTo>
                  <a:lnTo>
                    <a:pt x="116" y="24"/>
                  </a:lnTo>
                  <a:lnTo>
                    <a:pt x="118" y="26"/>
                  </a:lnTo>
                  <a:lnTo>
                    <a:pt x="120" y="30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4" y="38"/>
                  </a:lnTo>
                  <a:lnTo>
                    <a:pt x="124" y="40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50"/>
                  </a:lnTo>
                  <a:lnTo>
                    <a:pt x="128" y="52"/>
                  </a:lnTo>
                  <a:lnTo>
                    <a:pt x="128" y="56"/>
                  </a:lnTo>
                  <a:lnTo>
                    <a:pt x="128" y="58"/>
                  </a:lnTo>
                  <a:lnTo>
                    <a:pt x="128" y="62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28" y="70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80"/>
                  </a:lnTo>
                  <a:lnTo>
                    <a:pt x="124" y="82"/>
                  </a:lnTo>
                  <a:lnTo>
                    <a:pt x="124" y="86"/>
                  </a:lnTo>
                  <a:lnTo>
                    <a:pt x="122" y="88"/>
                  </a:lnTo>
                  <a:lnTo>
                    <a:pt x="120" y="92"/>
                  </a:lnTo>
                  <a:lnTo>
                    <a:pt x="120" y="94"/>
                  </a:lnTo>
                  <a:lnTo>
                    <a:pt x="118" y="98"/>
                  </a:lnTo>
                  <a:lnTo>
                    <a:pt x="116" y="100"/>
                  </a:lnTo>
                  <a:lnTo>
                    <a:pt x="114" y="102"/>
                  </a:lnTo>
                  <a:lnTo>
                    <a:pt x="112" y="104"/>
                  </a:lnTo>
                  <a:lnTo>
                    <a:pt x="110" y="106"/>
                  </a:lnTo>
                  <a:lnTo>
                    <a:pt x="108" y="108"/>
                  </a:lnTo>
                  <a:lnTo>
                    <a:pt x="106" y="112"/>
                  </a:lnTo>
                  <a:lnTo>
                    <a:pt x="102" y="114"/>
                  </a:lnTo>
                  <a:lnTo>
                    <a:pt x="100" y="11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0" y="120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2" y="124"/>
                  </a:lnTo>
                  <a:lnTo>
                    <a:pt x="80" y="124"/>
                  </a:lnTo>
                  <a:lnTo>
                    <a:pt x="76" y="124"/>
                  </a:lnTo>
                  <a:lnTo>
                    <a:pt x="74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58" y="126"/>
                  </a:lnTo>
                  <a:lnTo>
                    <a:pt x="56" y="126"/>
                  </a:lnTo>
                  <a:lnTo>
                    <a:pt x="52" y="124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0" y="122"/>
                  </a:lnTo>
                  <a:lnTo>
                    <a:pt x="38" y="120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6"/>
                  </a:lnTo>
                  <a:lnTo>
                    <a:pt x="26" y="114"/>
                  </a:lnTo>
                  <a:lnTo>
                    <a:pt x="22" y="112"/>
                  </a:lnTo>
                  <a:lnTo>
                    <a:pt x="20" y="110"/>
                  </a:lnTo>
                  <a:lnTo>
                    <a:pt x="18" y="108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10" y="96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" name=""/>
          <p:cNvGraphicFramePr/>
          <p:nvPr/>
        </p:nvGraphicFramePr>
        <p:xfrm>
          <a:off x="250920" y="5445000"/>
          <a:ext cx="990360" cy="113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5445000"/>
                    <a:ext cx="990360" cy="11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979640" y="907920"/>
          <a:ext cx="504036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907920"/>
                    <a:ext cx="5040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065240" y="990720"/>
            <a:ext cx="7012080" cy="1501200"/>
            <a:chOff x="1065240" y="990720"/>
            <a:chExt cx="7012080" cy="1501200"/>
          </a:xfrm>
        </p:grpSpPr>
        <p:sp>
          <p:nvSpPr>
            <p:cNvPr id="61" name=""/>
            <p:cNvSpPr/>
            <p:nvPr/>
          </p:nvSpPr>
          <p:spPr>
            <a:xfrm>
              <a:off x="159696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6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30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8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9" y="96"/>
                  </a:lnTo>
                  <a:lnTo>
                    <a:pt x="412" y="107"/>
                  </a:lnTo>
                  <a:lnTo>
                    <a:pt x="413" y="117"/>
                  </a:lnTo>
                  <a:lnTo>
                    <a:pt x="412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80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9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80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69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5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7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4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10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78596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5" h="460">
                  <a:moveTo>
                    <a:pt x="237" y="0"/>
                  </a:moveTo>
                  <a:lnTo>
                    <a:pt x="249" y="1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1" y="6"/>
                  </a:lnTo>
                  <a:lnTo>
                    <a:pt x="291" y="8"/>
                  </a:lnTo>
                  <a:lnTo>
                    <a:pt x="300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3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3" y="45"/>
                  </a:lnTo>
                  <a:lnTo>
                    <a:pt x="344" y="49"/>
                  </a:lnTo>
                  <a:lnTo>
                    <a:pt x="345" y="52"/>
                  </a:lnTo>
                  <a:lnTo>
                    <a:pt x="344" y="55"/>
                  </a:lnTo>
                  <a:lnTo>
                    <a:pt x="342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4" y="65"/>
                  </a:lnTo>
                  <a:lnTo>
                    <a:pt x="314" y="67"/>
                  </a:lnTo>
                  <a:lnTo>
                    <a:pt x="304" y="70"/>
                  </a:lnTo>
                  <a:lnTo>
                    <a:pt x="291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7" y="78"/>
                  </a:lnTo>
                  <a:lnTo>
                    <a:pt x="201" y="80"/>
                  </a:lnTo>
                  <a:lnTo>
                    <a:pt x="184" y="80"/>
                  </a:lnTo>
                  <a:lnTo>
                    <a:pt x="166" y="80"/>
                  </a:lnTo>
                  <a:lnTo>
                    <a:pt x="145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31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5" y="184"/>
                  </a:lnTo>
                  <a:lnTo>
                    <a:pt x="164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8" y="182"/>
                  </a:lnTo>
                  <a:lnTo>
                    <a:pt x="207" y="182"/>
                  </a:lnTo>
                  <a:lnTo>
                    <a:pt x="215" y="181"/>
                  </a:lnTo>
                  <a:lnTo>
                    <a:pt x="223" y="181"/>
                  </a:lnTo>
                  <a:lnTo>
                    <a:pt x="229" y="181"/>
                  </a:lnTo>
                  <a:lnTo>
                    <a:pt x="236" y="181"/>
                  </a:lnTo>
                  <a:lnTo>
                    <a:pt x="243" y="181"/>
                  </a:lnTo>
                  <a:lnTo>
                    <a:pt x="248" y="181"/>
                  </a:lnTo>
                  <a:lnTo>
                    <a:pt x="257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1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8"/>
                  </a:lnTo>
                  <a:lnTo>
                    <a:pt x="313" y="190"/>
                  </a:lnTo>
                  <a:lnTo>
                    <a:pt x="319" y="191"/>
                  </a:lnTo>
                  <a:lnTo>
                    <a:pt x="323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2" y="199"/>
                  </a:lnTo>
                  <a:lnTo>
                    <a:pt x="334" y="200"/>
                  </a:lnTo>
                  <a:lnTo>
                    <a:pt x="335" y="202"/>
                  </a:lnTo>
                  <a:lnTo>
                    <a:pt x="336" y="204"/>
                  </a:lnTo>
                  <a:lnTo>
                    <a:pt x="336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2" y="219"/>
                  </a:lnTo>
                  <a:lnTo>
                    <a:pt x="343" y="220"/>
                  </a:lnTo>
                  <a:lnTo>
                    <a:pt x="343" y="222"/>
                  </a:lnTo>
                  <a:lnTo>
                    <a:pt x="344" y="224"/>
                  </a:lnTo>
                  <a:lnTo>
                    <a:pt x="344" y="225"/>
                  </a:lnTo>
                  <a:lnTo>
                    <a:pt x="344" y="226"/>
                  </a:lnTo>
                  <a:lnTo>
                    <a:pt x="345" y="227"/>
                  </a:lnTo>
                  <a:lnTo>
                    <a:pt x="345" y="229"/>
                  </a:lnTo>
                  <a:lnTo>
                    <a:pt x="345" y="229"/>
                  </a:lnTo>
                  <a:lnTo>
                    <a:pt x="345" y="231"/>
                  </a:lnTo>
                  <a:lnTo>
                    <a:pt x="344" y="232"/>
                  </a:lnTo>
                  <a:lnTo>
                    <a:pt x="343" y="234"/>
                  </a:lnTo>
                  <a:lnTo>
                    <a:pt x="342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6" y="240"/>
                  </a:lnTo>
                  <a:lnTo>
                    <a:pt x="334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4" y="244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2" y="246"/>
                  </a:lnTo>
                  <a:lnTo>
                    <a:pt x="308" y="246"/>
                  </a:lnTo>
                  <a:lnTo>
                    <a:pt x="303" y="246"/>
                  </a:lnTo>
                  <a:lnTo>
                    <a:pt x="293" y="247"/>
                  </a:lnTo>
                  <a:lnTo>
                    <a:pt x="282" y="248"/>
                  </a:lnTo>
                  <a:lnTo>
                    <a:pt x="272" y="250"/>
                  </a:lnTo>
                  <a:lnTo>
                    <a:pt x="261" y="250"/>
                  </a:lnTo>
                  <a:lnTo>
                    <a:pt x="250" y="251"/>
                  </a:lnTo>
                  <a:lnTo>
                    <a:pt x="239" y="252"/>
                  </a:lnTo>
                  <a:lnTo>
                    <a:pt x="228" y="253"/>
                  </a:lnTo>
                  <a:lnTo>
                    <a:pt x="217" y="253"/>
                  </a:lnTo>
                  <a:lnTo>
                    <a:pt x="206" y="254"/>
                  </a:lnTo>
                  <a:lnTo>
                    <a:pt x="196" y="255"/>
                  </a:lnTo>
                  <a:lnTo>
                    <a:pt x="185" y="255"/>
                  </a:lnTo>
                  <a:lnTo>
                    <a:pt x="176" y="255"/>
                  </a:lnTo>
                  <a:lnTo>
                    <a:pt x="168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2" y="256"/>
                  </a:lnTo>
                  <a:lnTo>
                    <a:pt x="137" y="256"/>
                  </a:lnTo>
                  <a:lnTo>
                    <a:pt x="132" y="256"/>
                  </a:lnTo>
                  <a:lnTo>
                    <a:pt x="128" y="257"/>
                  </a:lnTo>
                  <a:lnTo>
                    <a:pt x="123" y="257"/>
                  </a:lnTo>
                  <a:lnTo>
                    <a:pt x="120" y="258"/>
                  </a:lnTo>
                  <a:lnTo>
                    <a:pt x="117" y="258"/>
                  </a:lnTo>
                  <a:lnTo>
                    <a:pt x="113" y="259"/>
                  </a:lnTo>
                  <a:lnTo>
                    <a:pt x="111" y="261"/>
                  </a:lnTo>
                  <a:lnTo>
                    <a:pt x="110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8" y="374"/>
                  </a:lnTo>
                  <a:lnTo>
                    <a:pt x="99" y="378"/>
                  </a:lnTo>
                  <a:lnTo>
                    <a:pt x="99" y="380"/>
                  </a:lnTo>
                  <a:lnTo>
                    <a:pt x="101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0" y="387"/>
                  </a:lnTo>
                  <a:lnTo>
                    <a:pt x="122" y="387"/>
                  </a:lnTo>
                  <a:lnTo>
                    <a:pt x="126" y="387"/>
                  </a:lnTo>
                  <a:lnTo>
                    <a:pt x="130" y="386"/>
                  </a:lnTo>
                  <a:lnTo>
                    <a:pt x="137" y="386"/>
                  </a:lnTo>
                  <a:lnTo>
                    <a:pt x="145" y="385"/>
                  </a:lnTo>
                  <a:lnTo>
                    <a:pt x="155" y="384"/>
                  </a:lnTo>
                  <a:lnTo>
                    <a:pt x="168" y="383"/>
                  </a:lnTo>
                  <a:lnTo>
                    <a:pt x="181" y="382"/>
                  </a:lnTo>
                  <a:lnTo>
                    <a:pt x="194" y="381"/>
                  </a:lnTo>
                  <a:lnTo>
                    <a:pt x="206" y="380"/>
                  </a:lnTo>
                  <a:lnTo>
                    <a:pt x="217" y="379"/>
                  </a:lnTo>
                  <a:lnTo>
                    <a:pt x="226" y="378"/>
                  </a:lnTo>
                  <a:lnTo>
                    <a:pt x="234" y="376"/>
                  </a:lnTo>
                  <a:lnTo>
                    <a:pt x="240" y="376"/>
                  </a:lnTo>
                  <a:lnTo>
                    <a:pt x="246" y="376"/>
                  </a:lnTo>
                  <a:lnTo>
                    <a:pt x="249" y="376"/>
                  </a:lnTo>
                  <a:lnTo>
                    <a:pt x="257" y="376"/>
                  </a:lnTo>
                  <a:lnTo>
                    <a:pt x="265" y="378"/>
                  </a:lnTo>
                  <a:lnTo>
                    <a:pt x="272" y="379"/>
                  </a:lnTo>
                  <a:lnTo>
                    <a:pt x="280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2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2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4" y="412"/>
                  </a:lnTo>
                  <a:lnTo>
                    <a:pt x="336" y="415"/>
                  </a:lnTo>
                  <a:lnTo>
                    <a:pt x="339" y="418"/>
                  </a:lnTo>
                  <a:lnTo>
                    <a:pt x="339" y="422"/>
                  </a:lnTo>
                  <a:lnTo>
                    <a:pt x="339" y="426"/>
                  </a:lnTo>
                  <a:lnTo>
                    <a:pt x="336" y="429"/>
                  </a:lnTo>
                  <a:lnTo>
                    <a:pt x="334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1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7" y="447"/>
                  </a:lnTo>
                  <a:lnTo>
                    <a:pt x="219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1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0" y="459"/>
                  </a:lnTo>
                  <a:lnTo>
                    <a:pt x="95" y="459"/>
                  </a:lnTo>
                  <a:lnTo>
                    <a:pt x="90" y="460"/>
                  </a:lnTo>
                  <a:lnTo>
                    <a:pt x="87" y="460"/>
                  </a:lnTo>
                  <a:lnTo>
                    <a:pt x="80" y="460"/>
                  </a:lnTo>
                  <a:lnTo>
                    <a:pt x="75" y="459"/>
                  </a:lnTo>
                  <a:lnTo>
                    <a:pt x="67" y="458"/>
                  </a:lnTo>
                  <a:lnTo>
                    <a:pt x="60" y="457"/>
                  </a:lnTo>
                  <a:lnTo>
                    <a:pt x="54" y="456"/>
                  </a:lnTo>
                  <a:lnTo>
                    <a:pt x="46" y="455"/>
                  </a:lnTo>
                  <a:lnTo>
                    <a:pt x="38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7" y="444"/>
                  </a:lnTo>
                  <a:lnTo>
                    <a:pt x="12" y="440"/>
                  </a:lnTo>
                  <a:lnTo>
                    <a:pt x="7" y="437"/>
                  </a:lnTo>
                  <a:lnTo>
                    <a:pt x="4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3" y="257"/>
                  </a:lnTo>
                  <a:lnTo>
                    <a:pt x="4" y="243"/>
                  </a:lnTo>
                  <a:lnTo>
                    <a:pt x="4" y="229"/>
                  </a:lnTo>
                  <a:lnTo>
                    <a:pt x="5" y="215"/>
                  </a:lnTo>
                  <a:lnTo>
                    <a:pt x="6" y="202"/>
                  </a:lnTo>
                  <a:lnTo>
                    <a:pt x="7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3" y="138"/>
                  </a:lnTo>
                  <a:lnTo>
                    <a:pt x="14" y="126"/>
                  </a:lnTo>
                  <a:lnTo>
                    <a:pt x="16" y="113"/>
                  </a:lnTo>
                  <a:lnTo>
                    <a:pt x="17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4" y="63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31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5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5" y="8"/>
                  </a:lnTo>
                  <a:lnTo>
                    <a:pt x="111" y="8"/>
                  </a:lnTo>
                  <a:lnTo>
                    <a:pt x="119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1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40040" y="2298600"/>
              <a:ext cx="156960" cy="193320"/>
            </a:xfrm>
            <a:custGeom>
              <a:avLst/>
              <a:gdLst/>
              <a:ahLst/>
              <a:rect l="l" t="t" r="r" b="b"/>
              <a:pathLst>
                <a:path w="394" h="489">
                  <a:moveTo>
                    <a:pt x="156" y="145"/>
                  </a:moveTo>
                  <a:lnTo>
                    <a:pt x="157" y="152"/>
                  </a:lnTo>
                  <a:lnTo>
                    <a:pt x="159" y="161"/>
                  </a:lnTo>
                  <a:lnTo>
                    <a:pt x="164" y="169"/>
                  </a:lnTo>
                  <a:lnTo>
                    <a:pt x="170" y="177"/>
                  </a:lnTo>
                  <a:lnTo>
                    <a:pt x="178" y="185"/>
                  </a:lnTo>
                  <a:lnTo>
                    <a:pt x="188" y="194"/>
                  </a:lnTo>
                  <a:lnTo>
                    <a:pt x="199" y="203"/>
                  </a:lnTo>
                  <a:lnTo>
                    <a:pt x="213" y="212"/>
                  </a:lnTo>
                  <a:lnTo>
                    <a:pt x="227" y="221"/>
                  </a:lnTo>
                  <a:lnTo>
                    <a:pt x="241" y="230"/>
                  </a:lnTo>
                  <a:lnTo>
                    <a:pt x="255" y="238"/>
                  </a:lnTo>
                  <a:lnTo>
                    <a:pt x="269" y="247"/>
                  </a:lnTo>
                  <a:lnTo>
                    <a:pt x="283" y="256"/>
                  </a:lnTo>
                  <a:lnTo>
                    <a:pt x="297" y="265"/>
                  </a:lnTo>
                  <a:lnTo>
                    <a:pt x="310" y="274"/>
                  </a:lnTo>
                  <a:lnTo>
                    <a:pt x="324" y="281"/>
                  </a:lnTo>
                  <a:lnTo>
                    <a:pt x="338" y="294"/>
                  </a:lnTo>
                  <a:lnTo>
                    <a:pt x="350" y="305"/>
                  </a:lnTo>
                  <a:lnTo>
                    <a:pt x="361" y="317"/>
                  </a:lnTo>
                  <a:lnTo>
                    <a:pt x="369" y="329"/>
                  </a:lnTo>
                  <a:lnTo>
                    <a:pt x="376" y="341"/>
                  </a:lnTo>
                  <a:lnTo>
                    <a:pt x="380" y="352"/>
                  </a:lnTo>
                  <a:lnTo>
                    <a:pt x="383" y="364"/>
                  </a:lnTo>
                  <a:lnTo>
                    <a:pt x="384" y="376"/>
                  </a:lnTo>
                  <a:lnTo>
                    <a:pt x="383" y="384"/>
                  </a:lnTo>
                  <a:lnTo>
                    <a:pt x="381" y="392"/>
                  </a:lnTo>
                  <a:lnTo>
                    <a:pt x="378" y="401"/>
                  </a:lnTo>
                  <a:lnTo>
                    <a:pt x="373" y="408"/>
                  </a:lnTo>
                  <a:lnTo>
                    <a:pt x="368" y="418"/>
                  </a:lnTo>
                  <a:lnTo>
                    <a:pt x="360" y="427"/>
                  </a:lnTo>
                  <a:lnTo>
                    <a:pt x="352" y="437"/>
                  </a:lnTo>
                  <a:lnTo>
                    <a:pt x="343" y="447"/>
                  </a:lnTo>
                  <a:lnTo>
                    <a:pt x="331" y="457"/>
                  </a:lnTo>
                  <a:lnTo>
                    <a:pt x="319" y="466"/>
                  </a:lnTo>
                  <a:lnTo>
                    <a:pt x="307" y="473"/>
                  </a:lnTo>
                  <a:lnTo>
                    <a:pt x="295" y="479"/>
                  </a:lnTo>
                  <a:lnTo>
                    <a:pt x="281" y="483"/>
                  </a:lnTo>
                  <a:lnTo>
                    <a:pt x="266" y="487"/>
                  </a:lnTo>
                  <a:lnTo>
                    <a:pt x="251" y="489"/>
                  </a:lnTo>
                  <a:lnTo>
                    <a:pt x="235" y="489"/>
                  </a:lnTo>
                  <a:lnTo>
                    <a:pt x="216" y="489"/>
                  </a:lnTo>
                  <a:lnTo>
                    <a:pt x="196" y="487"/>
                  </a:lnTo>
                  <a:lnTo>
                    <a:pt x="176" y="483"/>
                  </a:lnTo>
                  <a:lnTo>
                    <a:pt x="156" y="478"/>
                  </a:lnTo>
                  <a:lnTo>
                    <a:pt x="137" y="471"/>
                  </a:lnTo>
                  <a:lnTo>
                    <a:pt x="117" y="464"/>
                  </a:lnTo>
                  <a:lnTo>
                    <a:pt x="97" y="455"/>
                  </a:lnTo>
                  <a:lnTo>
                    <a:pt x="79" y="444"/>
                  </a:lnTo>
                  <a:lnTo>
                    <a:pt x="60" y="433"/>
                  </a:lnTo>
                  <a:lnTo>
                    <a:pt x="44" y="422"/>
                  </a:lnTo>
                  <a:lnTo>
                    <a:pt x="31" y="412"/>
                  </a:lnTo>
                  <a:lnTo>
                    <a:pt x="20" y="402"/>
                  </a:lnTo>
                  <a:lnTo>
                    <a:pt x="11" y="394"/>
                  </a:lnTo>
                  <a:lnTo>
                    <a:pt x="6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1" y="364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4" y="349"/>
                  </a:lnTo>
                  <a:lnTo>
                    <a:pt x="5" y="345"/>
                  </a:lnTo>
                  <a:lnTo>
                    <a:pt x="6" y="343"/>
                  </a:lnTo>
                  <a:lnTo>
                    <a:pt x="7" y="340"/>
                  </a:lnTo>
                  <a:lnTo>
                    <a:pt x="9" y="338"/>
                  </a:lnTo>
                  <a:lnTo>
                    <a:pt x="11" y="337"/>
                  </a:lnTo>
                  <a:lnTo>
                    <a:pt x="15" y="334"/>
                  </a:lnTo>
                  <a:lnTo>
                    <a:pt x="18" y="333"/>
                  </a:lnTo>
                  <a:lnTo>
                    <a:pt x="21" y="333"/>
                  </a:lnTo>
                  <a:lnTo>
                    <a:pt x="26" y="333"/>
                  </a:lnTo>
                  <a:lnTo>
                    <a:pt x="31" y="333"/>
                  </a:lnTo>
                  <a:lnTo>
                    <a:pt x="38" y="336"/>
                  </a:lnTo>
                  <a:lnTo>
                    <a:pt x="46" y="339"/>
                  </a:lnTo>
                  <a:lnTo>
                    <a:pt x="55" y="342"/>
                  </a:lnTo>
                  <a:lnTo>
                    <a:pt x="65" y="348"/>
                  </a:lnTo>
                  <a:lnTo>
                    <a:pt x="78" y="354"/>
                  </a:lnTo>
                  <a:lnTo>
                    <a:pt x="90" y="362"/>
                  </a:lnTo>
                  <a:lnTo>
                    <a:pt x="104" y="370"/>
                  </a:lnTo>
                  <a:lnTo>
                    <a:pt x="118" y="379"/>
                  </a:lnTo>
                  <a:lnTo>
                    <a:pt x="133" y="386"/>
                  </a:lnTo>
                  <a:lnTo>
                    <a:pt x="146" y="393"/>
                  </a:lnTo>
                  <a:lnTo>
                    <a:pt x="159" y="398"/>
                  </a:lnTo>
                  <a:lnTo>
                    <a:pt x="172" y="402"/>
                  </a:lnTo>
                  <a:lnTo>
                    <a:pt x="184" y="405"/>
                  </a:lnTo>
                  <a:lnTo>
                    <a:pt x="196" y="407"/>
                  </a:lnTo>
                  <a:lnTo>
                    <a:pt x="207" y="407"/>
                  </a:lnTo>
                  <a:lnTo>
                    <a:pt x="217" y="407"/>
                  </a:lnTo>
                  <a:lnTo>
                    <a:pt x="225" y="405"/>
                  </a:lnTo>
                  <a:lnTo>
                    <a:pt x="233" y="403"/>
                  </a:lnTo>
                  <a:lnTo>
                    <a:pt x="239" y="400"/>
                  </a:lnTo>
                  <a:lnTo>
                    <a:pt x="243" y="395"/>
                  </a:lnTo>
                  <a:lnTo>
                    <a:pt x="246" y="388"/>
                  </a:lnTo>
                  <a:lnTo>
                    <a:pt x="249" y="382"/>
                  </a:lnTo>
                  <a:lnTo>
                    <a:pt x="250" y="374"/>
                  </a:lnTo>
                  <a:lnTo>
                    <a:pt x="249" y="365"/>
                  </a:lnTo>
                  <a:lnTo>
                    <a:pt x="246" y="355"/>
                  </a:lnTo>
                  <a:lnTo>
                    <a:pt x="242" y="345"/>
                  </a:lnTo>
                  <a:lnTo>
                    <a:pt x="237" y="337"/>
                  </a:lnTo>
                  <a:lnTo>
                    <a:pt x="229" y="327"/>
                  </a:lnTo>
                  <a:lnTo>
                    <a:pt x="220" y="318"/>
                  </a:lnTo>
                  <a:lnTo>
                    <a:pt x="209" y="308"/>
                  </a:lnTo>
                  <a:lnTo>
                    <a:pt x="197" y="299"/>
                  </a:lnTo>
                  <a:lnTo>
                    <a:pt x="185" y="291"/>
                  </a:lnTo>
                  <a:lnTo>
                    <a:pt x="171" y="284"/>
                  </a:lnTo>
                  <a:lnTo>
                    <a:pt x="159" y="275"/>
                  </a:lnTo>
                  <a:lnTo>
                    <a:pt x="147" y="267"/>
                  </a:lnTo>
                  <a:lnTo>
                    <a:pt x="135" y="259"/>
                  </a:lnTo>
                  <a:lnTo>
                    <a:pt x="122" y="252"/>
                  </a:lnTo>
                  <a:lnTo>
                    <a:pt x="110" y="243"/>
                  </a:lnTo>
                  <a:lnTo>
                    <a:pt x="97" y="235"/>
                  </a:lnTo>
                  <a:lnTo>
                    <a:pt x="85" y="225"/>
                  </a:lnTo>
                  <a:lnTo>
                    <a:pt x="74" y="214"/>
                  </a:lnTo>
                  <a:lnTo>
                    <a:pt x="65" y="203"/>
                  </a:lnTo>
                  <a:lnTo>
                    <a:pt x="58" y="191"/>
                  </a:lnTo>
                  <a:lnTo>
                    <a:pt x="52" y="180"/>
                  </a:lnTo>
                  <a:lnTo>
                    <a:pt x="48" y="168"/>
                  </a:lnTo>
                  <a:lnTo>
                    <a:pt x="44" y="156"/>
                  </a:lnTo>
                  <a:lnTo>
                    <a:pt x="44" y="143"/>
                  </a:lnTo>
                  <a:lnTo>
                    <a:pt x="44" y="132"/>
                  </a:lnTo>
                  <a:lnTo>
                    <a:pt x="48" y="120"/>
                  </a:lnTo>
                  <a:lnTo>
                    <a:pt x="52" y="109"/>
                  </a:lnTo>
                  <a:lnTo>
                    <a:pt x="58" y="97"/>
                  </a:lnTo>
                  <a:lnTo>
                    <a:pt x="65" y="86"/>
                  </a:lnTo>
                  <a:lnTo>
                    <a:pt x="74" y="74"/>
                  </a:lnTo>
                  <a:lnTo>
                    <a:pt x="85" y="62"/>
                  </a:lnTo>
                  <a:lnTo>
                    <a:pt x="97" y="50"/>
                  </a:lnTo>
                  <a:lnTo>
                    <a:pt x="112" y="38"/>
                  </a:lnTo>
                  <a:lnTo>
                    <a:pt x="125" y="28"/>
                  </a:lnTo>
                  <a:lnTo>
                    <a:pt x="140" y="19"/>
                  </a:lnTo>
                  <a:lnTo>
                    <a:pt x="155" y="12"/>
                  </a:lnTo>
                  <a:lnTo>
                    <a:pt x="170" y="7"/>
                  </a:lnTo>
                  <a:lnTo>
                    <a:pt x="187" y="3"/>
                  </a:lnTo>
                  <a:lnTo>
                    <a:pt x="20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7" y="1"/>
                  </a:lnTo>
                  <a:lnTo>
                    <a:pt x="242" y="2"/>
                  </a:lnTo>
                  <a:lnTo>
                    <a:pt x="246" y="2"/>
                  </a:lnTo>
                  <a:lnTo>
                    <a:pt x="252" y="4"/>
                  </a:lnTo>
                  <a:lnTo>
                    <a:pt x="255" y="6"/>
                  </a:lnTo>
                  <a:lnTo>
                    <a:pt x="260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3" y="12"/>
                  </a:lnTo>
                  <a:lnTo>
                    <a:pt x="278" y="15"/>
                  </a:lnTo>
                  <a:lnTo>
                    <a:pt x="284" y="18"/>
                  </a:lnTo>
                  <a:lnTo>
                    <a:pt x="291" y="20"/>
                  </a:lnTo>
                  <a:lnTo>
                    <a:pt x="297" y="23"/>
                  </a:lnTo>
                  <a:lnTo>
                    <a:pt x="305" y="25"/>
                  </a:lnTo>
                  <a:lnTo>
                    <a:pt x="313" y="29"/>
                  </a:lnTo>
                  <a:lnTo>
                    <a:pt x="320" y="33"/>
                  </a:lnTo>
                  <a:lnTo>
                    <a:pt x="327" y="36"/>
                  </a:lnTo>
                  <a:lnTo>
                    <a:pt x="335" y="41"/>
                  </a:lnTo>
                  <a:lnTo>
                    <a:pt x="343" y="46"/>
                  </a:lnTo>
                  <a:lnTo>
                    <a:pt x="350" y="52"/>
                  </a:lnTo>
                  <a:lnTo>
                    <a:pt x="358" y="57"/>
                  </a:lnTo>
                  <a:lnTo>
                    <a:pt x="365" y="63"/>
                  </a:lnTo>
                  <a:lnTo>
                    <a:pt x="372" y="70"/>
                  </a:lnTo>
                  <a:lnTo>
                    <a:pt x="378" y="76"/>
                  </a:lnTo>
                  <a:lnTo>
                    <a:pt x="383" y="83"/>
                  </a:lnTo>
                  <a:lnTo>
                    <a:pt x="387" y="91"/>
                  </a:lnTo>
                  <a:lnTo>
                    <a:pt x="390" y="97"/>
                  </a:lnTo>
                  <a:lnTo>
                    <a:pt x="392" y="105"/>
                  </a:lnTo>
                  <a:lnTo>
                    <a:pt x="394" y="111"/>
                  </a:lnTo>
                  <a:lnTo>
                    <a:pt x="394" y="119"/>
                  </a:lnTo>
                  <a:lnTo>
                    <a:pt x="394" y="126"/>
                  </a:lnTo>
                  <a:lnTo>
                    <a:pt x="393" y="131"/>
                  </a:lnTo>
                  <a:lnTo>
                    <a:pt x="393" y="137"/>
                  </a:lnTo>
                  <a:lnTo>
                    <a:pt x="392" y="142"/>
                  </a:lnTo>
                  <a:lnTo>
                    <a:pt x="390" y="148"/>
                  </a:lnTo>
                  <a:lnTo>
                    <a:pt x="388" y="152"/>
                  </a:lnTo>
                  <a:lnTo>
                    <a:pt x="386" y="158"/>
                  </a:lnTo>
                  <a:lnTo>
                    <a:pt x="383" y="162"/>
                  </a:lnTo>
                  <a:lnTo>
                    <a:pt x="380" y="166"/>
                  </a:lnTo>
                  <a:lnTo>
                    <a:pt x="378" y="169"/>
                  </a:lnTo>
                  <a:lnTo>
                    <a:pt x="375" y="172"/>
                  </a:lnTo>
                  <a:lnTo>
                    <a:pt x="370" y="174"/>
                  </a:lnTo>
                  <a:lnTo>
                    <a:pt x="367" y="177"/>
                  </a:lnTo>
                  <a:lnTo>
                    <a:pt x="363" y="178"/>
                  </a:lnTo>
                  <a:lnTo>
                    <a:pt x="359" y="179"/>
                  </a:lnTo>
                  <a:lnTo>
                    <a:pt x="355" y="179"/>
                  </a:lnTo>
                  <a:lnTo>
                    <a:pt x="352" y="179"/>
                  </a:lnTo>
                  <a:lnTo>
                    <a:pt x="350" y="179"/>
                  </a:lnTo>
                  <a:lnTo>
                    <a:pt x="348" y="178"/>
                  </a:lnTo>
                  <a:lnTo>
                    <a:pt x="345" y="178"/>
                  </a:lnTo>
                  <a:lnTo>
                    <a:pt x="343" y="177"/>
                  </a:lnTo>
                  <a:lnTo>
                    <a:pt x="339" y="175"/>
                  </a:lnTo>
                  <a:lnTo>
                    <a:pt x="336" y="175"/>
                  </a:lnTo>
                  <a:lnTo>
                    <a:pt x="333" y="174"/>
                  </a:lnTo>
                  <a:lnTo>
                    <a:pt x="329" y="173"/>
                  </a:lnTo>
                  <a:lnTo>
                    <a:pt x="326" y="172"/>
                  </a:lnTo>
                  <a:lnTo>
                    <a:pt x="323" y="171"/>
                  </a:lnTo>
                  <a:lnTo>
                    <a:pt x="318" y="170"/>
                  </a:lnTo>
                  <a:lnTo>
                    <a:pt x="315" y="169"/>
                  </a:lnTo>
                  <a:lnTo>
                    <a:pt x="310" y="169"/>
                  </a:lnTo>
                  <a:lnTo>
                    <a:pt x="307" y="168"/>
                  </a:lnTo>
                  <a:lnTo>
                    <a:pt x="303" y="167"/>
                  </a:lnTo>
                  <a:lnTo>
                    <a:pt x="298" y="167"/>
                  </a:lnTo>
                  <a:lnTo>
                    <a:pt x="295" y="166"/>
                  </a:lnTo>
                  <a:lnTo>
                    <a:pt x="291" y="166"/>
                  </a:lnTo>
                  <a:lnTo>
                    <a:pt x="288" y="164"/>
                  </a:lnTo>
                  <a:lnTo>
                    <a:pt x="285" y="164"/>
                  </a:lnTo>
                  <a:lnTo>
                    <a:pt x="283" y="163"/>
                  </a:lnTo>
                  <a:lnTo>
                    <a:pt x="281" y="162"/>
                  </a:lnTo>
                  <a:lnTo>
                    <a:pt x="278" y="162"/>
                  </a:lnTo>
                  <a:lnTo>
                    <a:pt x="276" y="161"/>
                  </a:lnTo>
                  <a:lnTo>
                    <a:pt x="275" y="160"/>
                  </a:lnTo>
                  <a:lnTo>
                    <a:pt x="273" y="159"/>
                  </a:lnTo>
                  <a:lnTo>
                    <a:pt x="271" y="157"/>
                  </a:lnTo>
                  <a:lnTo>
                    <a:pt x="269" y="155"/>
                  </a:lnTo>
                  <a:lnTo>
                    <a:pt x="266" y="153"/>
                  </a:lnTo>
                  <a:lnTo>
                    <a:pt x="263" y="150"/>
                  </a:lnTo>
                  <a:lnTo>
                    <a:pt x="261" y="148"/>
                  </a:lnTo>
                  <a:lnTo>
                    <a:pt x="259" y="145"/>
                  </a:lnTo>
                  <a:lnTo>
                    <a:pt x="256" y="142"/>
                  </a:lnTo>
                  <a:lnTo>
                    <a:pt x="254" y="139"/>
                  </a:lnTo>
                  <a:lnTo>
                    <a:pt x="252" y="136"/>
                  </a:lnTo>
                  <a:lnTo>
                    <a:pt x="251" y="132"/>
                  </a:lnTo>
                  <a:lnTo>
                    <a:pt x="250" y="129"/>
                  </a:lnTo>
                  <a:lnTo>
                    <a:pt x="249" y="125"/>
                  </a:lnTo>
                  <a:lnTo>
                    <a:pt x="248" y="121"/>
                  </a:lnTo>
                  <a:lnTo>
                    <a:pt x="248" y="117"/>
                  </a:lnTo>
                  <a:lnTo>
                    <a:pt x="246" y="114"/>
                  </a:lnTo>
                  <a:lnTo>
                    <a:pt x="246" y="109"/>
                  </a:lnTo>
                  <a:lnTo>
                    <a:pt x="246" y="106"/>
                  </a:lnTo>
                  <a:lnTo>
                    <a:pt x="245" y="103"/>
                  </a:lnTo>
                  <a:lnTo>
                    <a:pt x="245" y="99"/>
                  </a:lnTo>
                  <a:lnTo>
                    <a:pt x="245" y="95"/>
                  </a:lnTo>
                  <a:lnTo>
                    <a:pt x="244" y="92"/>
                  </a:lnTo>
                  <a:lnTo>
                    <a:pt x="245" y="91"/>
                  </a:lnTo>
                  <a:lnTo>
                    <a:pt x="245" y="89"/>
                  </a:lnTo>
                  <a:lnTo>
                    <a:pt x="244" y="88"/>
                  </a:lnTo>
                  <a:lnTo>
                    <a:pt x="244" y="87"/>
                  </a:lnTo>
                  <a:lnTo>
                    <a:pt x="244" y="86"/>
                  </a:lnTo>
                  <a:lnTo>
                    <a:pt x="243" y="85"/>
                  </a:lnTo>
                  <a:lnTo>
                    <a:pt x="242" y="84"/>
                  </a:lnTo>
                  <a:lnTo>
                    <a:pt x="241" y="83"/>
                  </a:lnTo>
                  <a:lnTo>
                    <a:pt x="240" y="82"/>
                  </a:lnTo>
                  <a:lnTo>
                    <a:pt x="239" y="82"/>
                  </a:lnTo>
                  <a:lnTo>
                    <a:pt x="238" y="81"/>
                  </a:lnTo>
                  <a:lnTo>
                    <a:pt x="237" y="81"/>
                  </a:lnTo>
                  <a:lnTo>
                    <a:pt x="235" y="79"/>
                  </a:lnTo>
                  <a:lnTo>
                    <a:pt x="234" y="79"/>
                  </a:lnTo>
                  <a:lnTo>
                    <a:pt x="232" y="79"/>
                  </a:lnTo>
                  <a:lnTo>
                    <a:pt x="231" y="79"/>
                  </a:lnTo>
                  <a:lnTo>
                    <a:pt x="228" y="79"/>
                  </a:lnTo>
                  <a:lnTo>
                    <a:pt x="224" y="81"/>
                  </a:lnTo>
                  <a:lnTo>
                    <a:pt x="221" y="82"/>
                  </a:lnTo>
                  <a:lnTo>
                    <a:pt x="216" y="84"/>
                  </a:lnTo>
                  <a:lnTo>
                    <a:pt x="210" y="86"/>
                  </a:lnTo>
                  <a:lnTo>
                    <a:pt x="203" y="89"/>
                  </a:lnTo>
                  <a:lnTo>
                    <a:pt x="197" y="93"/>
                  </a:lnTo>
                  <a:lnTo>
                    <a:pt x="189" y="96"/>
                  </a:lnTo>
                  <a:lnTo>
                    <a:pt x="181" y="102"/>
                  </a:lnTo>
                  <a:lnTo>
                    <a:pt x="175" y="106"/>
                  </a:lnTo>
                  <a:lnTo>
                    <a:pt x="169" y="111"/>
                  </a:lnTo>
                  <a:lnTo>
                    <a:pt x="164" y="117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6" y="138"/>
                  </a:lnTo>
                  <a:lnTo>
                    <a:pt x="156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1788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1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5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2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6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40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2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1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4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8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10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7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32236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7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2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8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3" y="418"/>
                  </a:lnTo>
                  <a:lnTo>
                    <a:pt x="49" y="416"/>
                  </a:lnTo>
                  <a:lnTo>
                    <a:pt x="45" y="413"/>
                  </a:lnTo>
                  <a:lnTo>
                    <a:pt x="41" y="409"/>
                  </a:lnTo>
                  <a:lnTo>
                    <a:pt x="36" y="406"/>
                  </a:lnTo>
                  <a:lnTo>
                    <a:pt x="33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9" y="377"/>
                  </a:lnTo>
                  <a:lnTo>
                    <a:pt x="15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4" y="331"/>
                  </a:lnTo>
                  <a:lnTo>
                    <a:pt x="3" y="320"/>
                  </a:lnTo>
                  <a:lnTo>
                    <a:pt x="2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1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4" y="189"/>
                  </a:lnTo>
                  <a:lnTo>
                    <a:pt x="5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5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1" y="30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6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6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7" y="8"/>
                  </a:lnTo>
                  <a:lnTo>
                    <a:pt x="65" y="9"/>
                  </a:lnTo>
                  <a:lnTo>
                    <a:pt x="72" y="9"/>
                  </a:lnTo>
                  <a:lnTo>
                    <a:pt x="79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6" y="17"/>
                  </a:lnTo>
                  <a:lnTo>
                    <a:pt x="111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3" y="214"/>
                  </a:lnTo>
                  <a:lnTo>
                    <a:pt x="111" y="217"/>
                  </a:lnTo>
                  <a:lnTo>
                    <a:pt x="111" y="217"/>
                  </a:lnTo>
                  <a:lnTo>
                    <a:pt x="111" y="218"/>
                  </a:lnTo>
                  <a:lnTo>
                    <a:pt x="111" y="221"/>
                  </a:lnTo>
                  <a:lnTo>
                    <a:pt x="111" y="223"/>
                  </a:lnTo>
                  <a:lnTo>
                    <a:pt x="111" y="226"/>
                  </a:lnTo>
                  <a:lnTo>
                    <a:pt x="111" y="229"/>
                  </a:lnTo>
                  <a:lnTo>
                    <a:pt x="111" y="234"/>
                  </a:lnTo>
                  <a:lnTo>
                    <a:pt x="111" y="238"/>
                  </a:lnTo>
                  <a:lnTo>
                    <a:pt x="111" y="244"/>
                  </a:lnTo>
                  <a:lnTo>
                    <a:pt x="111" y="248"/>
                  </a:lnTo>
                  <a:lnTo>
                    <a:pt x="111" y="253"/>
                  </a:lnTo>
                  <a:lnTo>
                    <a:pt x="111" y="257"/>
                  </a:lnTo>
                  <a:lnTo>
                    <a:pt x="111" y="262"/>
                  </a:lnTo>
                  <a:lnTo>
                    <a:pt x="111" y="266"/>
                  </a:lnTo>
                  <a:lnTo>
                    <a:pt x="111" y="270"/>
                  </a:lnTo>
                  <a:lnTo>
                    <a:pt x="111" y="275"/>
                  </a:lnTo>
                  <a:lnTo>
                    <a:pt x="113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2" y="380"/>
                  </a:lnTo>
                  <a:lnTo>
                    <a:pt x="137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5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8" y="349"/>
                  </a:lnTo>
                  <a:lnTo>
                    <a:pt x="234" y="337"/>
                  </a:lnTo>
                  <a:lnTo>
                    <a:pt x="238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49" y="257"/>
                  </a:lnTo>
                  <a:lnTo>
                    <a:pt x="252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5" y="18"/>
                  </a:lnTo>
                  <a:lnTo>
                    <a:pt x="255" y="14"/>
                  </a:lnTo>
                  <a:lnTo>
                    <a:pt x="257" y="11"/>
                  </a:lnTo>
                  <a:lnTo>
                    <a:pt x="258" y="9"/>
                  </a:lnTo>
                  <a:lnTo>
                    <a:pt x="259" y="7"/>
                  </a:lnTo>
                  <a:lnTo>
                    <a:pt x="263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2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6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7" y="9"/>
                  </a:lnTo>
                  <a:lnTo>
                    <a:pt x="360" y="10"/>
                  </a:lnTo>
                  <a:lnTo>
                    <a:pt x="364" y="12"/>
                  </a:lnTo>
                  <a:lnTo>
                    <a:pt x="366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3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6" y="21"/>
                  </a:lnTo>
                  <a:lnTo>
                    <a:pt x="376" y="23"/>
                  </a:lnTo>
                  <a:lnTo>
                    <a:pt x="376" y="25"/>
                  </a:lnTo>
                  <a:lnTo>
                    <a:pt x="378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4" y="403"/>
                  </a:lnTo>
                  <a:lnTo>
                    <a:pt x="329" y="410"/>
                  </a:lnTo>
                  <a:lnTo>
                    <a:pt x="323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1" y="445"/>
                  </a:lnTo>
                  <a:lnTo>
                    <a:pt x="284" y="448"/>
                  </a:lnTo>
                  <a:lnTo>
                    <a:pt x="276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49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200" y="463"/>
                  </a:lnTo>
                  <a:lnTo>
                    <a:pt x="195" y="462"/>
                  </a:lnTo>
                  <a:lnTo>
                    <a:pt x="192" y="462"/>
                  </a:lnTo>
                  <a:lnTo>
                    <a:pt x="189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5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4" y="458"/>
                  </a:lnTo>
                  <a:lnTo>
                    <a:pt x="162" y="457"/>
                  </a:lnTo>
                  <a:lnTo>
                    <a:pt x="159" y="456"/>
                  </a:lnTo>
                  <a:lnTo>
                    <a:pt x="15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0812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4" h="465">
                  <a:moveTo>
                    <a:pt x="102" y="394"/>
                  </a:moveTo>
                  <a:lnTo>
                    <a:pt x="102" y="443"/>
                  </a:lnTo>
                  <a:lnTo>
                    <a:pt x="101" y="448"/>
                  </a:lnTo>
                  <a:lnTo>
                    <a:pt x="100" y="452"/>
                  </a:lnTo>
                  <a:lnTo>
                    <a:pt x="99" y="456"/>
                  </a:lnTo>
                  <a:lnTo>
                    <a:pt x="96" y="459"/>
                  </a:lnTo>
                  <a:lnTo>
                    <a:pt x="93" y="461"/>
                  </a:lnTo>
                  <a:lnTo>
                    <a:pt x="90" y="462"/>
                  </a:lnTo>
                  <a:lnTo>
                    <a:pt x="85" y="464"/>
                  </a:lnTo>
                  <a:lnTo>
                    <a:pt x="80" y="465"/>
                  </a:lnTo>
                  <a:lnTo>
                    <a:pt x="79" y="465"/>
                  </a:lnTo>
                  <a:lnTo>
                    <a:pt x="78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70" y="462"/>
                  </a:lnTo>
                  <a:lnTo>
                    <a:pt x="67" y="462"/>
                  </a:lnTo>
                  <a:lnTo>
                    <a:pt x="63" y="461"/>
                  </a:lnTo>
                  <a:lnTo>
                    <a:pt x="59" y="461"/>
                  </a:lnTo>
                  <a:lnTo>
                    <a:pt x="55" y="460"/>
                  </a:lnTo>
                  <a:lnTo>
                    <a:pt x="51" y="459"/>
                  </a:lnTo>
                  <a:lnTo>
                    <a:pt x="47" y="459"/>
                  </a:lnTo>
                  <a:lnTo>
                    <a:pt x="42" y="458"/>
                  </a:lnTo>
                  <a:lnTo>
                    <a:pt x="39" y="457"/>
                  </a:lnTo>
                  <a:lnTo>
                    <a:pt x="34" y="456"/>
                  </a:lnTo>
                  <a:lnTo>
                    <a:pt x="30" y="456"/>
                  </a:lnTo>
                  <a:lnTo>
                    <a:pt x="27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6" y="451"/>
                  </a:lnTo>
                  <a:lnTo>
                    <a:pt x="14" y="450"/>
                  </a:lnTo>
                  <a:lnTo>
                    <a:pt x="11" y="449"/>
                  </a:lnTo>
                  <a:lnTo>
                    <a:pt x="9" y="448"/>
                  </a:lnTo>
                  <a:lnTo>
                    <a:pt x="7" y="447"/>
                  </a:lnTo>
                  <a:lnTo>
                    <a:pt x="6" y="445"/>
                  </a:lnTo>
                  <a:lnTo>
                    <a:pt x="5" y="443"/>
                  </a:lnTo>
                  <a:lnTo>
                    <a:pt x="4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1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1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18" y="20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7" y="10"/>
                  </a:lnTo>
                  <a:lnTo>
                    <a:pt x="59" y="11"/>
                  </a:lnTo>
                  <a:lnTo>
                    <a:pt x="63" y="12"/>
                  </a:lnTo>
                  <a:lnTo>
                    <a:pt x="67" y="13"/>
                  </a:lnTo>
                  <a:lnTo>
                    <a:pt x="70" y="14"/>
                  </a:lnTo>
                  <a:lnTo>
                    <a:pt x="74" y="15"/>
                  </a:lnTo>
                  <a:lnTo>
                    <a:pt x="78" y="17"/>
                  </a:lnTo>
                  <a:lnTo>
                    <a:pt x="80" y="17"/>
                  </a:lnTo>
                  <a:lnTo>
                    <a:pt x="82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3" y="15"/>
                  </a:lnTo>
                  <a:lnTo>
                    <a:pt x="110" y="14"/>
                  </a:lnTo>
                  <a:lnTo>
                    <a:pt x="118" y="13"/>
                  </a:lnTo>
                  <a:lnTo>
                    <a:pt x="126" y="11"/>
                  </a:lnTo>
                  <a:lnTo>
                    <a:pt x="134" y="10"/>
                  </a:lnTo>
                  <a:lnTo>
                    <a:pt x="143" y="8"/>
                  </a:lnTo>
                  <a:lnTo>
                    <a:pt x="152" y="7"/>
                  </a:lnTo>
                  <a:lnTo>
                    <a:pt x="159" y="4"/>
                  </a:lnTo>
                  <a:lnTo>
                    <a:pt x="168" y="3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1" y="1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31" y="1"/>
                  </a:lnTo>
                  <a:lnTo>
                    <a:pt x="251" y="2"/>
                  </a:lnTo>
                  <a:lnTo>
                    <a:pt x="270" y="6"/>
                  </a:lnTo>
                  <a:lnTo>
                    <a:pt x="287" y="9"/>
                  </a:lnTo>
                  <a:lnTo>
                    <a:pt x="305" y="14"/>
                  </a:lnTo>
                  <a:lnTo>
                    <a:pt x="323" y="21"/>
                  </a:lnTo>
                  <a:lnTo>
                    <a:pt x="338" y="29"/>
                  </a:lnTo>
                  <a:lnTo>
                    <a:pt x="354" y="38"/>
                  </a:lnTo>
                  <a:lnTo>
                    <a:pt x="368" y="46"/>
                  </a:lnTo>
                  <a:lnTo>
                    <a:pt x="380" y="56"/>
                  </a:lnTo>
                  <a:lnTo>
                    <a:pt x="390" y="65"/>
                  </a:lnTo>
                  <a:lnTo>
                    <a:pt x="399" y="75"/>
                  </a:lnTo>
                  <a:lnTo>
                    <a:pt x="405" y="86"/>
                  </a:lnTo>
                  <a:lnTo>
                    <a:pt x="410" y="96"/>
                  </a:lnTo>
                  <a:lnTo>
                    <a:pt x="413" y="107"/>
                  </a:lnTo>
                  <a:lnTo>
                    <a:pt x="414" y="117"/>
                  </a:lnTo>
                  <a:lnTo>
                    <a:pt x="413" y="127"/>
                  </a:lnTo>
                  <a:lnTo>
                    <a:pt x="411" y="136"/>
                  </a:lnTo>
                  <a:lnTo>
                    <a:pt x="409" y="146"/>
                  </a:lnTo>
                  <a:lnTo>
                    <a:pt x="404" y="155"/>
                  </a:lnTo>
                  <a:lnTo>
                    <a:pt x="399" y="164"/>
                  </a:lnTo>
                  <a:lnTo>
                    <a:pt x="391" y="173"/>
                  </a:lnTo>
                  <a:lnTo>
                    <a:pt x="383" y="183"/>
                  </a:lnTo>
                  <a:lnTo>
                    <a:pt x="375" y="192"/>
                  </a:lnTo>
                  <a:lnTo>
                    <a:pt x="365" y="201"/>
                  </a:lnTo>
                  <a:lnTo>
                    <a:pt x="354" y="210"/>
                  </a:lnTo>
                  <a:lnTo>
                    <a:pt x="344" y="217"/>
                  </a:lnTo>
                  <a:lnTo>
                    <a:pt x="333" y="225"/>
                  </a:lnTo>
                  <a:lnTo>
                    <a:pt x="323" y="232"/>
                  </a:lnTo>
                  <a:lnTo>
                    <a:pt x="312" y="237"/>
                  </a:lnTo>
                  <a:lnTo>
                    <a:pt x="301" y="243"/>
                  </a:lnTo>
                  <a:lnTo>
                    <a:pt x="290" y="247"/>
                  </a:lnTo>
                  <a:lnTo>
                    <a:pt x="278" y="252"/>
                  </a:lnTo>
                  <a:lnTo>
                    <a:pt x="270" y="256"/>
                  </a:lnTo>
                  <a:lnTo>
                    <a:pt x="262" y="259"/>
                  </a:lnTo>
                  <a:lnTo>
                    <a:pt x="256" y="263"/>
                  </a:lnTo>
                  <a:lnTo>
                    <a:pt x="251" y="265"/>
                  </a:lnTo>
                  <a:lnTo>
                    <a:pt x="248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1" y="296"/>
                  </a:lnTo>
                  <a:lnTo>
                    <a:pt x="284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3" y="347"/>
                  </a:lnTo>
                  <a:lnTo>
                    <a:pt x="336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2" y="394"/>
                  </a:lnTo>
                  <a:lnTo>
                    <a:pt x="381" y="404"/>
                  </a:lnTo>
                  <a:lnTo>
                    <a:pt x="388" y="412"/>
                  </a:lnTo>
                  <a:lnTo>
                    <a:pt x="393" y="419"/>
                  </a:lnTo>
                  <a:lnTo>
                    <a:pt x="398" y="425"/>
                  </a:lnTo>
                  <a:lnTo>
                    <a:pt x="400" y="430"/>
                  </a:lnTo>
                  <a:lnTo>
                    <a:pt x="401" y="434"/>
                  </a:lnTo>
                  <a:lnTo>
                    <a:pt x="401" y="435"/>
                  </a:lnTo>
                  <a:lnTo>
                    <a:pt x="401" y="436"/>
                  </a:lnTo>
                  <a:lnTo>
                    <a:pt x="400" y="437"/>
                  </a:lnTo>
                  <a:lnTo>
                    <a:pt x="400" y="439"/>
                  </a:lnTo>
                  <a:lnTo>
                    <a:pt x="399" y="440"/>
                  </a:lnTo>
                  <a:lnTo>
                    <a:pt x="398" y="441"/>
                  </a:lnTo>
                  <a:lnTo>
                    <a:pt x="397" y="443"/>
                  </a:lnTo>
                  <a:lnTo>
                    <a:pt x="395" y="444"/>
                  </a:lnTo>
                  <a:lnTo>
                    <a:pt x="394" y="445"/>
                  </a:lnTo>
                  <a:lnTo>
                    <a:pt x="392" y="446"/>
                  </a:lnTo>
                  <a:lnTo>
                    <a:pt x="391" y="448"/>
                  </a:lnTo>
                  <a:lnTo>
                    <a:pt x="389" y="449"/>
                  </a:lnTo>
                  <a:lnTo>
                    <a:pt x="387" y="450"/>
                  </a:lnTo>
                  <a:lnTo>
                    <a:pt x="384" y="452"/>
                  </a:lnTo>
                  <a:lnTo>
                    <a:pt x="383" y="455"/>
                  </a:lnTo>
                  <a:lnTo>
                    <a:pt x="380" y="456"/>
                  </a:lnTo>
                  <a:lnTo>
                    <a:pt x="378" y="458"/>
                  </a:lnTo>
                  <a:lnTo>
                    <a:pt x="376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7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7" y="465"/>
                  </a:lnTo>
                  <a:lnTo>
                    <a:pt x="350" y="464"/>
                  </a:lnTo>
                  <a:lnTo>
                    <a:pt x="343" y="464"/>
                  </a:lnTo>
                  <a:lnTo>
                    <a:pt x="336" y="461"/>
                  </a:lnTo>
                  <a:lnTo>
                    <a:pt x="328" y="460"/>
                  </a:lnTo>
                  <a:lnTo>
                    <a:pt x="322" y="457"/>
                  </a:lnTo>
                  <a:lnTo>
                    <a:pt x="315" y="454"/>
                  </a:lnTo>
                  <a:lnTo>
                    <a:pt x="308" y="450"/>
                  </a:lnTo>
                  <a:lnTo>
                    <a:pt x="302" y="446"/>
                  </a:lnTo>
                  <a:lnTo>
                    <a:pt x="293" y="440"/>
                  </a:lnTo>
                  <a:lnTo>
                    <a:pt x="281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9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4" y="301"/>
                  </a:lnTo>
                  <a:lnTo>
                    <a:pt x="107" y="288"/>
                  </a:lnTo>
                  <a:lnTo>
                    <a:pt x="102" y="394"/>
                  </a:lnTo>
                  <a:close/>
                  <a:moveTo>
                    <a:pt x="113" y="223"/>
                  </a:moveTo>
                  <a:lnTo>
                    <a:pt x="122" y="223"/>
                  </a:lnTo>
                  <a:lnTo>
                    <a:pt x="132" y="221"/>
                  </a:lnTo>
                  <a:lnTo>
                    <a:pt x="144" y="217"/>
                  </a:lnTo>
                  <a:lnTo>
                    <a:pt x="156" y="212"/>
                  </a:lnTo>
                  <a:lnTo>
                    <a:pt x="170" y="205"/>
                  </a:lnTo>
                  <a:lnTo>
                    <a:pt x="186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9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3" y="111"/>
                  </a:lnTo>
                  <a:lnTo>
                    <a:pt x="295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4" y="79"/>
                  </a:lnTo>
                  <a:lnTo>
                    <a:pt x="288" y="75"/>
                  </a:lnTo>
                  <a:lnTo>
                    <a:pt x="282" y="72"/>
                  </a:lnTo>
                  <a:lnTo>
                    <a:pt x="273" y="70"/>
                  </a:lnTo>
                  <a:lnTo>
                    <a:pt x="263" y="67"/>
                  </a:lnTo>
                  <a:lnTo>
                    <a:pt x="251" y="66"/>
                  </a:lnTo>
                  <a:lnTo>
                    <a:pt x="237" y="65"/>
                  </a:lnTo>
                  <a:lnTo>
                    <a:pt x="228" y="66"/>
                  </a:lnTo>
                  <a:lnTo>
                    <a:pt x="219" y="66"/>
                  </a:lnTo>
                  <a:lnTo>
                    <a:pt x="210" y="66"/>
                  </a:lnTo>
                  <a:lnTo>
                    <a:pt x="202" y="67"/>
                  </a:lnTo>
                  <a:lnTo>
                    <a:pt x="195" y="67"/>
                  </a:lnTo>
                  <a:lnTo>
                    <a:pt x="187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5" y="72"/>
                  </a:lnTo>
                  <a:lnTo>
                    <a:pt x="158" y="73"/>
                  </a:lnTo>
                  <a:lnTo>
                    <a:pt x="152" y="74"/>
                  </a:lnTo>
                  <a:lnTo>
                    <a:pt x="146" y="75"/>
                  </a:lnTo>
                  <a:lnTo>
                    <a:pt x="140" y="77"/>
                  </a:lnTo>
                  <a:lnTo>
                    <a:pt x="135" y="78"/>
                  </a:lnTo>
                  <a:lnTo>
                    <a:pt x="131" y="79"/>
                  </a:lnTo>
                  <a:lnTo>
                    <a:pt x="126" y="82"/>
                  </a:lnTo>
                  <a:lnTo>
                    <a:pt x="123" y="84"/>
                  </a:lnTo>
                  <a:lnTo>
                    <a:pt x="119" y="86"/>
                  </a:lnTo>
                  <a:lnTo>
                    <a:pt x="117" y="89"/>
                  </a:lnTo>
                  <a:lnTo>
                    <a:pt x="115" y="92"/>
                  </a:lnTo>
                  <a:lnTo>
                    <a:pt x="113" y="96"/>
                  </a:lnTo>
                  <a:lnTo>
                    <a:pt x="112" y="99"/>
                  </a:lnTo>
                  <a:lnTo>
                    <a:pt x="111" y="104"/>
                  </a:lnTo>
                  <a:lnTo>
                    <a:pt x="111" y="108"/>
                  </a:lnTo>
                  <a:lnTo>
                    <a:pt x="111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10" y="222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lnTo>
                    <a:pt x="113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690640" y="2293920"/>
              <a:ext cx="168480" cy="194760"/>
            </a:xfrm>
            <a:custGeom>
              <a:avLst/>
              <a:gdLst/>
              <a:ahLst/>
              <a:rect l="l" t="t" r="r" b="b"/>
              <a:pathLst>
                <a:path w="425" h="491">
                  <a:moveTo>
                    <a:pt x="247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2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4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3" y="10"/>
                  </a:lnTo>
                  <a:lnTo>
                    <a:pt x="297" y="11"/>
                  </a:lnTo>
                  <a:lnTo>
                    <a:pt x="302" y="13"/>
                  </a:lnTo>
                  <a:lnTo>
                    <a:pt x="306" y="15"/>
                  </a:lnTo>
                  <a:lnTo>
                    <a:pt x="311" y="16"/>
                  </a:lnTo>
                  <a:lnTo>
                    <a:pt x="315" y="18"/>
                  </a:lnTo>
                  <a:lnTo>
                    <a:pt x="324" y="20"/>
                  </a:lnTo>
                  <a:lnTo>
                    <a:pt x="334" y="23"/>
                  </a:lnTo>
                  <a:lnTo>
                    <a:pt x="341" y="28"/>
                  </a:lnTo>
                  <a:lnTo>
                    <a:pt x="349" y="32"/>
                  </a:lnTo>
                  <a:lnTo>
                    <a:pt x="357" y="37"/>
                  </a:lnTo>
                  <a:lnTo>
                    <a:pt x="364" y="42"/>
                  </a:lnTo>
                  <a:lnTo>
                    <a:pt x="369" y="48"/>
                  </a:lnTo>
                  <a:lnTo>
                    <a:pt x="375" y="54"/>
                  </a:lnTo>
                  <a:lnTo>
                    <a:pt x="379" y="61"/>
                  </a:lnTo>
                  <a:lnTo>
                    <a:pt x="383" y="69"/>
                  </a:lnTo>
                  <a:lnTo>
                    <a:pt x="387" y="76"/>
                  </a:lnTo>
                  <a:lnTo>
                    <a:pt x="389" y="85"/>
                  </a:lnTo>
                  <a:lnTo>
                    <a:pt x="391" y="94"/>
                  </a:lnTo>
                  <a:lnTo>
                    <a:pt x="393" y="104"/>
                  </a:lnTo>
                  <a:lnTo>
                    <a:pt x="393" y="115"/>
                  </a:lnTo>
                  <a:lnTo>
                    <a:pt x="394" y="126"/>
                  </a:lnTo>
                  <a:lnTo>
                    <a:pt x="393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1" y="155"/>
                  </a:lnTo>
                  <a:lnTo>
                    <a:pt x="389" y="160"/>
                  </a:lnTo>
                  <a:lnTo>
                    <a:pt x="387" y="166"/>
                  </a:lnTo>
                  <a:lnTo>
                    <a:pt x="383" y="170"/>
                  </a:lnTo>
                  <a:lnTo>
                    <a:pt x="380" y="175"/>
                  </a:lnTo>
                  <a:lnTo>
                    <a:pt x="377" y="178"/>
                  </a:lnTo>
                  <a:lnTo>
                    <a:pt x="372" y="181"/>
                  </a:lnTo>
                  <a:lnTo>
                    <a:pt x="368" y="183"/>
                  </a:lnTo>
                  <a:lnTo>
                    <a:pt x="362" y="186"/>
                  </a:lnTo>
                  <a:lnTo>
                    <a:pt x="357" y="188"/>
                  </a:lnTo>
                  <a:lnTo>
                    <a:pt x="350" y="189"/>
                  </a:lnTo>
                  <a:lnTo>
                    <a:pt x="344" y="189"/>
                  </a:lnTo>
                  <a:lnTo>
                    <a:pt x="336" y="189"/>
                  </a:lnTo>
                  <a:lnTo>
                    <a:pt x="323" y="189"/>
                  </a:lnTo>
                  <a:lnTo>
                    <a:pt x="311" y="187"/>
                  </a:lnTo>
                  <a:lnTo>
                    <a:pt x="300" y="184"/>
                  </a:lnTo>
                  <a:lnTo>
                    <a:pt x="291" y="180"/>
                  </a:lnTo>
                  <a:lnTo>
                    <a:pt x="283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4" y="146"/>
                  </a:lnTo>
                  <a:lnTo>
                    <a:pt x="262" y="137"/>
                  </a:lnTo>
                  <a:lnTo>
                    <a:pt x="259" y="129"/>
                  </a:lnTo>
                  <a:lnTo>
                    <a:pt x="256" y="122"/>
                  </a:lnTo>
                  <a:lnTo>
                    <a:pt x="254" y="115"/>
                  </a:lnTo>
                  <a:lnTo>
                    <a:pt x="252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6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4" y="139"/>
                  </a:lnTo>
                  <a:lnTo>
                    <a:pt x="180" y="156"/>
                  </a:lnTo>
                  <a:lnTo>
                    <a:pt x="167" y="175"/>
                  </a:lnTo>
                  <a:lnTo>
                    <a:pt x="154" y="194"/>
                  </a:lnTo>
                  <a:lnTo>
                    <a:pt x="142" y="214"/>
                  </a:lnTo>
                  <a:lnTo>
                    <a:pt x="132" y="233"/>
                  </a:lnTo>
                  <a:lnTo>
                    <a:pt x="124" y="252"/>
                  </a:lnTo>
                  <a:lnTo>
                    <a:pt x="117" y="271"/>
                  </a:lnTo>
                  <a:lnTo>
                    <a:pt x="113" y="289"/>
                  </a:lnTo>
                  <a:lnTo>
                    <a:pt x="111" y="308"/>
                  </a:lnTo>
                  <a:lnTo>
                    <a:pt x="110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3" y="357"/>
                  </a:lnTo>
                  <a:lnTo>
                    <a:pt x="116" y="365"/>
                  </a:lnTo>
                  <a:lnTo>
                    <a:pt x="120" y="374"/>
                  </a:lnTo>
                  <a:lnTo>
                    <a:pt x="124" y="382"/>
                  </a:lnTo>
                  <a:lnTo>
                    <a:pt x="128" y="391"/>
                  </a:lnTo>
                  <a:lnTo>
                    <a:pt x="135" y="397"/>
                  </a:lnTo>
                  <a:lnTo>
                    <a:pt x="142" y="404"/>
                  </a:lnTo>
                  <a:lnTo>
                    <a:pt x="148" y="411"/>
                  </a:lnTo>
                  <a:lnTo>
                    <a:pt x="156" y="415"/>
                  </a:lnTo>
                  <a:lnTo>
                    <a:pt x="164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9" y="426"/>
                  </a:lnTo>
                  <a:lnTo>
                    <a:pt x="198" y="426"/>
                  </a:lnTo>
                  <a:lnTo>
                    <a:pt x="211" y="426"/>
                  </a:lnTo>
                  <a:lnTo>
                    <a:pt x="224" y="424"/>
                  </a:lnTo>
                  <a:lnTo>
                    <a:pt x="238" y="421"/>
                  </a:lnTo>
                  <a:lnTo>
                    <a:pt x="251" y="416"/>
                  </a:lnTo>
                  <a:lnTo>
                    <a:pt x="263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8" y="388"/>
                  </a:lnTo>
                  <a:lnTo>
                    <a:pt x="309" y="377"/>
                  </a:lnTo>
                  <a:lnTo>
                    <a:pt x="319" y="367"/>
                  </a:lnTo>
                  <a:lnTo>
                    <a:pt x="330" y="356"/>
                  </a:lnTo>
                  <a:lnTo>
                    <a:pt x="340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1" y="313"/>
                  </a:lnTo>
                  <a:lnTo>
                    <a:pt x="382" y="303"/>
                  </a:lnTo>
                  <a:lnTo>
                    <a:pt x="386" y="303"/>
                  </a:lnTo>
                  <a:lnTo>
                    <a:pt x="388" y="304"/>
                  </a:lnTo>
                  <a:lnTo>
                    <a:pt x="391" y="305"/>
                  </a:lnTo>
                  <a:lnTo>
                    <a:pt x="396" y="306"/>
                  </a:lnTo>
                  <a:lnTo>
                    <a:pt x="399" y="308"/>
                  </a:lnTo>
                  <a:lnTo>
                    <a:pt x="402" y="310"/>
                  </a:lnTo>
                  <a:lnTo>
                    <a:pt x="405" y="314"/>
                  </a:lnTo>
                  <a:lnTo>
                    <a:pt x="410" y="317"/>
                  </a:lnTo>
                  <a:lnTo>
                    <a:pt x="413" y="320"/>
                  </a:lnTo>
                  <a:lnTo>
                    <a:pt x="417" y="324"/>
                  </a:lnTo>
                  <a:lnTo>
                    <a:pt x="420" y="327"/>
                  </a:lnTo>
                  <a:lnTo>
                    <a:pt x="422" y="330"/>
                  </a:lnTo>
                  <a:lnTo>
                    <a:pt x="423" y="333"/>
                  </a:lnTo>
                  <a:lnTo>
                    <a:pt x="424" y="336"/>
                  </a:lnTo>
                  <a:lnTo>
                    <a:pt x="425" y="338"/>
                  </a:lnTo>
                  <a:lnTo>
                    <a:pt x="425" y="341"/>
                  </a:lnTo>
                  <a:lnTo>
                    <a:pt x="424" y="353"/>
                  </a:lnTo>
                  <a:lnTo>
                    <a:pt x="422" y="367"/>
                  </a:lnTo>
                  <a:lnTo>
                    <a:pt x="418" y="379"/>
                  </a:lnTo>
                  <a:lnTo>
                    <a:pt x="411" y="392"/>
                  </a:lnTo>
                  <a:lnTo>
                    <a:pt x="403" y="404"/>
                  </a:lnTo>
                  <a:lnTo>
                    <a:pt x="392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2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6" y="479"/>
                  </a:lnTo>
                  <a:lnTo>
                    <a:pt x="291" y="485"/>
                  </a:lnTo>
                  <a:lnTo>
                    <a:pt x="274" y="488"/>
                  </a:lnTo>
                  <a:lnTo>
                    <a:pt x="256" y="490"/>
                  </a:lnTo>
                  <a:lnTo>
                    <a:pt x="240" y="491"/>
                  </a:lnTo>
                  <a:lnTo>
                    <a:pt x="220" y="490"/>
                  </a:lnTo>
                  <a:lnTo>
                    <a:pt x="200" y="488"/>
                  </a:lnTo>
                  <a:lnTo>
                    <a:pt x="180" y="485"/>
                  </a:lnTo>
                  <a:lnTo>
                    <a:pt x="160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1" y="454"/>
                  </a:lnTo>
                  <a:lnTo>
                    <a:pt x="81" y="443"/>
                  </a:lnTo>
                  <a:lnTo>
                    <a:pt x="71" y="436"/>
                  </a:lnTo>
                  <a:lnTo>
                    <a:pt x="62" y="429"/>
                  </a:lnTo>
                  <a:lnTo>
                    <a:pt x="53" y="423"/>
                  </a:lnTo>
                  <a:lnTo>
                    <a:pt x="46" y="415"/>
                  </a:lnTo>
                  <a:lnTo>
                    <a:pt x="38" y="409"/>
                  </a:lnTo>
                  <a:lnTo>
                    <a:pt x="31" y="401"/>
                  </a:lnTo>
                  <a:lnTo>
                    <a:pt x="26" y="393"/>
                  </a:lnTo>
                  <a:lnTo>
                    <a:pt x="20" y="385"/>
                  </a:lnTo>
                  <a:lnTo>
                    <a:pt x="16" y="377"/>
                  </a:lnTo>
                  <a:lnTo>
                    <a:pt x="11" y="369"/>
                  </a:lnTo>
                  <a:lnTo>
                    <a:pt x="8" y="360"/>
                  </a:lnTo>
                  <a:lnTo>
                    <a:pt x="6" y="350"/>
                  </a:lnTo>
                  <a:lnTo>
                    <a:pt x="4" y="341"/>
                  </a:lnTo>
                  <a:lnTo>
                    <a:pt x="1" y="331"/>
                  </a:lnTo>
                  <a:lnTo>
                    <a:pt x="0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4" y="275"/>
                  </a:lnTo>
                  <a:lnTo>
                    <a:pt x="7" y="256"/>
                  </a:lnTo>
                  <a:lnTo>
                    <a:pt x="11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6" y="183"/>
                  </a:lnTo>
                  <a:lnTo>
                    <a:pt x="46" y="166"/>
                  </a:lnTo>
                  <a:lnTo>
                    <a:pt x="58" y="148"/>
                  </a:lnTo>
                  <a:lnTo>
                    <a:pt x="70" y="132"/>
                  </a:lnTo>
                  <a:lnTo>
                    <a:pt x="82" y="115"/>
                  </a:lnTo>
                  <a:lnTo>
                    <a:pt x="95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7" y="60"/>
                  </a:lnTo>
                  <a:lnTo>
                    <a:pt x="153" y="48"/>
                  </a:lnTo>
                  <a:lnTo>
                    <a:pt x="167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8" y="7"/>
                  </a:lnTo>
                  <a:lnTo>
                    <a:pt x="228" y="4"/>
                  </a:lnTo>
                  <a:lnTo>
                    <a:pt x="238" y="1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8288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7" h="460">
                  <a:moveTo>
                    <a:pt x="239" y="0"/>
                  </a:moveTo>
                  <a:lnTo>
                    <a:pt x="251" y="1"/>
                  </a:lnTo>
                  <a:lnTo>
                    <a:pt x="262" y="1"/>
                  </a:lnTo>
                  <a:lnTo>
                    <a:pt x="273" y="3"/>
                  </a:lnTo>
                  <a:lnTo>
                    <a:pt x="283" y="6"/>
                  </a:lnTo>
                  <a:lnTo>
                    <a:pt x="293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7" y="20"/>
                  </a:lnTo>
                  <a:lnTo>
                    <a:pt x="324" y="24"/>
                  </a:lnTo>
                  <a:lnTo>
                    <a:pt x="330" y="29"/>
                  </a:lnTo>
                  <a:lnTo>
                    <a:pt x="335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5" y="45"/>
                  </a:lnTo>
                  <a:lnTo>
                    <a:pt x="346" y="49"/>
                  </a:lnTo>
                  <a:lnTo>
                    <a:pt x="347" y="52"/>
                  </a:lnTo>
                  <a:lnTo>
                    <a:pt x="346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2" y="63"/>
                  </a:lnTo>
                  <a:lnTo>
                    <a:pt x="326" y="65"/>
                  </a:lnTo>
                  <a:lnTo>
                    <a:pt x="316" y="67"/>
                  </a:lnTo>
                  <a:lnTo>
                    <a:pt x="305" y="70"/>
                  </a:lnTo>
                  <a:lnTo>
                    <a:pt x="293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50" y="76"/>
                  </a:lnTo>
                  <a:lnTo>
                    <a:pt x="234" y="77"/>
                  </a:lnTo>
                  <a:lnTo>
                    <a:pt x="219" y="78"/>
                  </a:lnTo>
                  <a:lnTo>
                    <a:pt x="202" y="80"/>
                  </a:lnTo>
                  <a:lnTo>
                    <a:pt x="186" y="80"/>
                  </a:lnTo>
                  <a:lnTo>
                    <a:pt x="168" y="80"/>
                  </a:lnTo>
                  <a:lnTo>
                    <a:pt x="147" y="80"/>
                  </a:lnTo>
                  <a:lnTo>
                    <a:pt x="144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5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6" y="86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3" y="187"/>
                  </a:lnTo>
                  <a:lnTo>
                    <a:pt x="125" y="187"/>
                  </a:lnTo>
                  <a:lnTo>
                    <a:pt x="133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7" y="184"/>
                  </a:lnTo>
                  <a:lnTo>
                    <a:pt x="166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200" y="182"/>
                  </a:lnTo>
                  <a:lnTo>
                    <a:pt x="209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1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50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3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4" y="186"/>
                  </a:lnTo>
                  <a:lnTo>
                    <a:pt x="309" y="188"/>
                  </a:lnTo>
                  <a:lnTo>
                    <a:pt x="315" y="190"/>
                  </a:lnTo>
                  <a:lnTo>
                    <a:pt x="320" y="191"/>
                  </a:lnTo>
                  <a:lnTo>
                    <a:pt x="325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6" y="200"/>
                  </a:lnTo>
                  <a:lnTo>
                    <a:pt x="337" y="202"/>
                  </a:lnTo>
                  <a:lnTo>
                    <a:pt x="338" y="204"/>
                  </a:lnTo>
                  <a:lnTo>
                    <a:pt x="338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5" y="222"/>
                  </a:lnTo>
                  <a:lnTo>
                    <a:pt x="345" y="224"/>
                  </a:lnTo>
                  <a:lnTo>
                    <a:pt x="346" y="225"/>
                  </a:lnTo>
                  <a:lnTo>
                    <a:pt x="346" y="226"/>
                  </a:lnTo>
                  <a:lnTo>
                    <a:pt x="346" y="227"/>
                  </a:lnTo>
                  <a:lnTo>
                    <a:pt x="347" y="229"/>
                  </a:lnTo>
                  <a:lnTo>
                    <a:pt x="347" y="229"/>
                  </a:lnTo>
                  <a:lnTo>
                    <a:pt x="346" y="231"/>
                  </a:lnTo>
                  <a:lnTo>
                    <a:pt x="346" y="232"/>
                  </a:lnTo>
                  <a:lnTo>
                    <a:pt x="345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8" y="240"/>
                  </a:lnTo>
                  <a:lnTo>
                    <a:pt x="336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6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4" y="246"/>
                  </a:lnTo>
                  <a:lnTo>
                    <a:pt x="309" y="246"/>
                  </a:lnTo>
                  <a:lnTo>
                    <a:pt x="305" y="246"/>
                  </a:lnTo>
                  <a:lnTo>
                    <a:pt x="295" y="247"/>
                  </a:lnTo>
                  <a:lnTo>
                    <a:pt x="284" y="248"/>
                  </a:lnTo>
                  <a:lnTo>
                    <a:pt x="274" y="250"/>
                  </a:lnTo>
                  <a:lnTo>
                    <a:pt x="263" y="250"/>
                  </a:lnTo>
                  <a:lnTo>
                    <a:pt x="252" y="251"/>
                  </a:lnTo>
                  <a:lnTo>
                    <a:pt x="241" y="252"/>
                  </a:lnTo>
                  <a:lnTo>
                    <a:pt x="230" y="253"/>
                  </a:lnTo>
                  <a:lnTo>
                    <a:pt x="219" y="253"/>
                  </a:lnTo>
                  <a:lnTo>
                    <a:pt x="208" y="254"/>
                  </a:lnTo>
                  <a:lnTo>
                    <a:pt x="197" y="255"/>
                  </a:lnTo>
                  <a:lnTo>
                    <a:pt x="187" y="255"/>
                  </a:lnTo>
                  <a:lnTo>
                    <a:pt x="178" y="255"/>
                  </a:lnTo>
                  <a:lnTo>
                    <a:pt x="168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4" y="256"/>
                  </a:lnTo>
                  <a:lnTo>
                    <a:pt x="138" y="256"/>
                  </a:lnTo>
                  <a:lnTo>
                    <a:pt x="134" y="256"/>
                  </a:lnTo>
                  <a:lnTo>
                    <a:pt x="128" y="257"/>
                  </a:lnTo>
                  <a:lnTo>
                    <a:pt x="125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5" y="259"/>
                  </a:lnTo>
                  <a:lnTo>
                    <a:pt x="113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5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1" y="380"/>
                  </a:lnTo>
                  <a:lnTo>
                    <a:pt x="103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2" y="386"/>
                  </a:lnTo>
                  <a:lnTo>
                    <a:pt x="116" y="387"/>
                  </a:lnTo>
                  <a:lnTo>
                    <a:pt x="122" y="387"/>
                  </a:lnTo>
                  <a:lnTo>
                    <a:pt x="124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7" y="385"/>
                  </a:lnTo>
                  <a:lnTo>
                    <a:pt x="157" y="384"/>
                  </a:lnTo>
                  <a:lnTo>
                    <a:pt x="168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8" y="380"/>
                  </a:lnTo>
                  <a:lnTo>
                    <a:pt x="219" y="379"/>
                  </a:lnTo>
                  <a:lnTo>
                    <a:pt x="228" y="378"/>
                  </a:lnTo>
                  <a:lnTo>
                    <a:pt x="235" y="376"/>
                  </a:lnTo>
                  <a:lnTo>
                    <a:pt x="242" y="376"/>
                  </a:lnTo>
                  <a:lnTo>
                    <a:pt x="246" y="376"/>
                  </a:lnTo>
                  <a:lnTo>
                    <a:pt x="251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4" y="379"/>
                  </a:lnTo>
                  <a:lnTo>
                    <a:pt x="282" y="381"/>
                  </a:lnTo>
                  <a:lnTo>
                    <a:pt x="288" y="383"/>
                  </a:lnTo>
                  <a:lnTo>
                    <a:pt x="296" y="386"/>
                  </a:lnTo>
                  <a:lnTo>
                    <a:pt x="304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4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6" y="412"/>
                  </a:lnTo>
                  <a:lnTo>
                    <a:pt x="338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8" y="429"/>
                  </a:lnTo>
                  <a:lnTo>
                    <a:pt x="336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7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9" y="447"/>
                  </a:lnTo>
                  <a:lnTo>
                    <a:pt x="221" y="448"/>
                  </a:lnTo>
                  <a:lnTo>
                    <a:pt x="212" y="449"/>
                  </a:lnTo>
                  <a:lnTo>
                    <a:pt x="201" y="450"/>
                  </a:lnTo>
                  <a:lnTo>
                    <a:pt x="191" y="451"/>
                  </a:lnTo>
                  <a:lnTo>
                    <a:pt x="179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2" y="459"/>
                  </a:lnTo>
                  <a:lnTo>
                    <a:pt x="95" y="459"/>
                  </a:lnTo>
                  <a:lnTo>
                    <a:pt x="92" y="460"/>
                  </a:lnTo>
                  <a:lnTo>
                    <a:pt x="88" y="460"/>
                  </a:lnTo>
                  <a:lnTo>
                    <a:pt x="82" y="460"/>
                  </a:lnTo>
                  <a:lnTo>
                    <a:pt x="75" y="459"/>
                  </a:lnTo>
                  <a:lnTo>
                    <a:pt x="69" y="458"/>
                  </a:lnTo>
                  <a:lnTo>
                    <a:pt x="62" y="457"/>
                  </a:lnTo>
                  <a:lnTo>
                    <a:pt x="54" y="456"/>
                  </a:lnTo>
                  <a:lnTo>
                    <a:pt x="48" y="455"/>
                  </a:lnTo>
                  <a:lnTo>
                    <a:pt x="40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8" y="444"/>
                  </a:lnTo>
                  <a:lnTo>
                    <a:pt x="13" y="440"/>
                  </a:lnTo>
                  <a:lnTo>
                    <a:pt x="9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6" y="229"/>
                  </a:lnTo>
                  <a:lnTo>
                    <a:pt x="7" y="215"/>
                  </a:lnTo>
                  <a:lnTo>
                    <a:pt x="8" y="202"/>
                  </a:lnTo>
                  <a:lnTo>
                    <a:pt x="9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6" y="126"/>
                  </a:lnTo>
                  <a:lnTo>
                    <a:pt x="17" y="113"/>
                  </a:lnTo>
                  <a:lnTo>
                    <a:pt x="19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8" y="52"/>
                  </a:lnTo>
                  <a:lnTo>
                    <a:pt x="30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6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3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6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9" y="0"/>
                  </a:lnTo>
                  <a:lnTo>
                    <a:pt x="234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14496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1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1" y="183"/>
                  </a:lnTo>
                  <a:lnTo>
                    <a:pt x="190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3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5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3" y="186"/>
                  </a:lnTo>
                  <a:lnTo>
                    <a:pt x="308" y="188"/>
                  </a:lnTo>
                  <a:lnTo>
                    <a:pt x="314" y="190"/>
                  </a:lnTo>
                  <a:lnTo>
                    <a:pt x="319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8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3" y="256"/>
                  </a:lnTo>
                  <a:lnTo>
                    <a:pt x="137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1" y="258"/>
                  </a:lnTo>
                  <a:lnTo>
                    <a:pt x="117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7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1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4" y="376"/>
                  </a:lnTo>
                  <a:lnTo>
                    <a:pt x="241" y="376"/>
                  </a:lnTo>
                  <a:lnTo>
                    <a:pt x="245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5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39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7" y="460"/>
                  </a:lnTo>
                  <a:lnTo>
                    <a:pt x="81" y="460"/>
                  </a:lnTo>
                  <a:lnTo>
                    <a:pt x="74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3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8" y="444"/>
                  </a:lnTo>
                  <a:lnTo>
                    <a:pt x="12" y="440"/>
                  </a:lnTo>
                  <a:lnTo>
                    <a:pt x="8" y="437"/>
                  </a:lnTo>
                  <a:lnTo>
                    <a:pt x="5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1" y="8"/>
                  </a:lnTo>
                  <a:lnTo>
                    <a:pt x="105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3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314880" y="2293920"/>
              <a:ext cx="153720" cy="18828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252" y="423"/>
                  </a:moveTo>
                  <a:lnTo>
                    <a:pt x="243" y="429"/>
                  </a:lnTo>
                  <a:lnTo>
                    <a:pt x="234" y="435"/>
                  </a:lnTo>
                  <a:lnTo>
                    <a:pt x="225" y="439"/>
                  </a:lnTo>
                  <a:lnTo>
                    <a:pt x="216" y="445"/>
                  </a:lnTo>
                  <a:lnTo>
                    <a:pt x="206" y="449"/>
                  </a:lnTo>
                  <a:lnTo>
                    <a:pt x="197" y="454"/>
                  </a:lnTo>
                  <a:lnTo>
                    <a:pt x="187" y="458"/>
                  </a:lnTo>
                  <a:lnTo>
                    <a:pt x="178" y="462"/>
                  </a:lnTo>
                  <a:lnTo>
                    <a:pt x="168" y="466"/>
                  </a:lnTo>
                  <a:lnTo>
                    <a:pt x="159" y="469"/>
                  </a:lnTo>
                  <a:lnTo>
                    <a:pt x="151" y="471"/>
                  </a:lnTo>
                  <a:lnTo>
                    <a:pt x="143" y="474"/>
                  </a:lnTo>
                  <a:lnTo>
                    <a:pt x="135" y="476"/>
                  </a:lnTo>
                  <a:lnTo>
                    <a:pt x="127" y="477"/>
                  </a:lnTo>
                  <a:lnTo>
                    <a:pt x="121" y="477"/>
                  </a:lnTo>
                  <a:lnTo>
                    <a:pt x="114" y="477"/>
                  </a:lnTo>
                  <a:lnTo>
                    <a:pt x="110" y="477"/>
                  </a:lnTo>
                  <a:lnTo>
                    <a:pt x="105" y="477"/>
                  </a:lnTo>
                  <a:lnTo>
                    <a:pt x="99" y="476"/>
                  </a:lnTo>
                  <a:lnTo>
                    <a:pt x="92" y="475"/>
                  </a:lnTo>
                  <a:lnTo>
                    <a:pt x="84" y="474"/>
                  </a:lnTo>
                  <a:lnTo>
                    <a:pt x="77" y="471"/>
                  </a:lnTo>
                  <a:lnTo>
                    <a:pt x="68" y="469"/>
                  </a:lnTo>
                  <a:lnTo>
                    <a:pt x="59" y="466"/>
                  </a:lnTo>
                  <a:lnTo>
                    <a:pt x="49" y="464"/>
                  </a:lnTo>
                  <a:lnTo>
                    <a:pt x="41" y="461"/>
                  </a:lnTo>
                  <a:lnTo>
                    <a:pt x="34" y="458"/>
                  </a:lnTo>
                  <a:lnTo>
                    <a:pt x="27" y="456"/>
                  </a:lnTo>
                  <a:lnTo>
                    <a:pt x="21" y="454"/>
                  </a:lnTo>
                  <a:lnTo>
                    <a:pt x="17" y="451"/>
                  </a:lnTo>
                  <a:lnTo>
                    <a:pt x="13" y="449"/>
                  </a:lnTo>
                  <a:lnTo>
                    <a:pt x="10" y="447"/>
                  </a:lnTo>
                  <a:lnTo>
                    <a:pt x="8" y="445"/>
                  </a:lnTo>
                  <a:lnTo>
                    <a:pt x="6" y="442"/>
                  </a:lnTo>
                  <a:lnTo>
                    <a:pt x="5" y="438"/>
                  </a:lnTo>
                  <a:lnTo>
                    <a:pt x="3" y="434"/>
                  </a:lnTo>
                  <a:lnTo>
                    <a:pt x="3" y="428"/>
                  </a:lnTo>
                  <a:lnTo>
                    <a:pt x="2" y="422"/>
                  </a:lnTo>
                  <a:lnTo>
                    <a:pt x="2" y="415"/>
                  </a:lnTo>
                  <a:lnTo>
                    <a:pt x="0" y="406"/>
                  </a:lnTo>
                  <a:lnTo>
                    <a:pt x="4" y="42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8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89" y="0"/>
                  </a:lnTo>
                  <a:lnTo>
                    <a:pt x="112" y="1"/>
                  </a:lnTo>
                  <a:lnTo>
                    <a:pt x="134" y="3"/>
                  </a:lnTo>
                  <a:lnTo>
                    <a:pt x="155" y="6"/>
                  </a:lnTo>
                  <a:lnTo>
                    <a:pt x="175" y="9"/>
                  </a:lnTo>
                  <a:lnTo>
                    <a:pt x="194" y="13"/>
                  </a:lnTo>
                  <a:lnTo>
                    <a:pt x="211" y="19"/>
                  </a:lnTo>
                  <a:lnTo>
                    <a:pt x="228" y="24"/>
                  </a:lnTo>
                  <a:lnTo>
                    <a:pt x="243" y="30"/>
                  </a:lnTo>
                  <a:lnTo>
                    <a:pt x="258" y="37"/>
                  </a:lnTo>
                  <a:lnTo>
                    <a:pt x="271" y="43"/>
                  </a:lnTo>
                  <a:lnTo>
                    <a:pt x="283" y="51"/>
                  </a:lnTo>
                  <a:lnTo>
                    <a:pt x="295" y="57"/>
                  </a:lnTo>
                  <a:lnTo>
                    <a:pt x="306" y="65"/>
                  </a:lnTo>
                  <a:lnTo>
                    <a:pt x="316" y="73"/>
                  </a:lnTo>
                  <a:lnTo>
                    <a:pt x="325" y="82"/>
                  </a:lnTo>
                  <a:lnTo>
                    <a:pt x="333" y="89"/>
                  </a:lnTo>
                  <a:lnTo>
                    <a:pt x="340" y="98"/>
                  </a:lnTo>
                  <a:lnTo>
                    <a:pt x="347" y="107"/>
                  </a:lnTo>
                  <a:lnTo>
                    <a:pt x="354" y="115"/>
                  </a:lnTo>
                  <a:lnTo>
                    <a:pt x="360" y="124"/>
                  </a:lnTo>
                  <a:lnTo>
                    <a:pt x="366" y="133"/>
                  </a:lnTo>
                  <a:lnTo>
                    <a:pt x="370" y="141"/>
                  </a:lnTo>
                  <a:lnTo>
                    <a:pt x="375" y="150"/>
                  </a:lnTo>
                  <a:lnTo>
                    <a:pt x="378" y="159"/>
                  </a:lnTo>
                  <a:lnTo>
                    <a:pt x="381" y="168"/>
                  </a:lnTo>
                  <a:lnTo>
                    <a:pt x="384" y="177"/>
                  </a:lnTo>
                  <a:lnTo>
                    <a:pt x="386" y="185"/>
                  </a:lnTo>
                  <a:lnTo>
                    <a:pt x="388" y="193"/>
                  </a:lnTo>
                  <a:lnTo>
                    <a:pt x="389" y="202"/>
                  </a:lnTo>
                  <a:lnTo>
                    <a:pt x="390" y="211"/>
                  </a:lnTo>
                  <a:lnTo>
                    <a:pt x="390" y="220"/>
                  </a:lnTo>
                  <a:lnTo>
                    <a:pt x="389" y="233"/>
                  </a:lnTo>
                  <a:lnTo>
                    <a:pt x="388" y="246"/>
                  </a:lnTo>
                  <a:lnTo>
                    <a:pt x="385" y="259"/>
                  </a:lnTo>
                  <a:lnTo>
                    <a:pt x="381" y="273"/>
                  </a:lnTo>
                  <a:lnTo>
                    <a:pt x="376" y="286"/>
                  </a:lnTo>
                  <a:lnTo>
                    <a:pt x="370" y="299"/>
                  </a:lnTo>
                  <a:lnTo>
                    <a:pt x="363" y="312"/>
                  </a:lnTo>
                  <a:lnTo>
                    <a:pt x="354" y="327"/>
                  </a:lnTo>
                  <a:lnTo>
                    <a:pt x="345" y="340"/>
                  </a:lnTo>
                  <a:lnTo>
                    <a:pt x="334" y="352"/>
                  </a:lnTo>
                  <a:lnTo>
                    <a:pt x="323" y="365"/>
                  </a:lnTo>
                  <a:lnTo>
                    <a:pt x="311" y="378"/>
                  </a:lnTo>
                  <a:lnTo>
                    <a:pt x="297" y="390"/>
                  </a:lnTo>
                  <a:lnTo>
                    <a:pt x="283" y="401"/>
                  </a:lnTo>
                  <a:lnTo>
                    <a:pt x="269" y="412"/>
                  </a:lnTo>
                  <a:lnTo>
                    <a:pt x="252" y="423"/>
                  </a:lnTo>
                  <a:close/>
                  <a:moveTo>
                    <a:pt x="136" y="59"/>
                  </a:moveTo>
                  <a:lnTo>
                    <a:pt x="133" y="59"/>
                  </a:lnTo>
                  <a:lnTo>
                    <a:pt x="131" y="59"/>
                  </a:lnTo>
                  <a:lnTo>
                    <a:pt x="127" y="60"/>
                  </a:lnTo>
                  <a:lnTo>
                    <a:pt x="125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6" y="70"/>
                  </a:lnTo>
                  <a:lnTo>
                    <a:pt x="115" y="73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4" y="84"/>
                  </a:lnTo>
                  <a:lnTo>
                    <a:pt x="114" y="88"/>
                  </a:lnTo>
                  <a:lnTo>
                    <a:pt x="114" y="97"/>
                  </a:lnTo>
                  <a:lnTo>
                    <a:pt x="114" y="107"/>
                  </a:lnTo>
                  <a:lnTo>
                    <a:pt x="114" y="116"/>
                  </a:lnTo>
                  <a:lnTo>
                    <a:pt x="113" y="126"/>
                  </a:lnTo>
                  <a:lnTo>
                    <a:pt x="113" y="136"/>
                  </a:lnTo>
                  <a:lnTo>
                    <a:pt x="113" y="146"/>
                  </a:lnTo>
                  <a:lnTo>
                    <a:pt x="113" y="157"/>
                  </a:lnTo>
                  <a:lnTo>
                    <a:pt x="113" y="167"/>
                  </a:lnTo>
                  <a:lnTo>
                    <a:pt x="112" y="178"/>
                  </a:lnTo>
                  <a:lnTo>
                    <a:pt x="112" y="189"/>
                  </a:lnTo>
                  <a:lnTo>
                    <a:pt x="112" y="200"/>
                  </a:lnTo>
                  <a:lnTo>
                    <a:pt x="112" y="212"/>
                  </a:lnTo>
                  <a:lnTo>
                    <a:pt x="112" y="223"/>
                  </a:lnTo>
                  <a:lnTo>
                    <a:pt x="112" y="234"/>
                  </a:lnTo>
                  <a:lnTo>
                    <a:pt x="112" y="246"/>
                  </a:lnTo>
                  <a:lnTo>
                    <a:pt x="112" y="258"/>
                  </a:lnTo>
                  <a:lnTo>
                    <a:pt x="112" y="265"/>
                  </a:lnTo>
                  <a:lnTo>
                    <a:pt x="112" y="273"/>
                  </a:lnTo>
                  <a:lnTo>
                    <a:pt x="112" y="280"/>
                  </a:lnTo>
                  <a:lnTo>
                    <a:pt x="112" y="287"/>
                  </a:lnTo>
                  <a:lnTo>
                    <a:pt x="112" y="295"/>
                  </a:lnTo>
                  <a:lnTo>
                    <a:pt x="112" y="301"/>
                  </a:lnTo>
                  <a:lnTo>
                    <a:pt x="112" y="308"/>
                  </a:lnTo>
                  <a:lnTo>
                    <a:pt x="112" y="315"/>
                  </a:lnTo>
                  <a:lnTo>
                    <a:pt x="112" y="321"/>
                  </a:lnTo>
                  <a:lnTo>
                    <a:pt x="113" y="327"/>
                  </a:lnTo>
                  <a:lnTo>
                    <a:pt x="113" y="332"/>
                  </a:lnTo>
                  <a:lnTo>
                    <a:pt x="113" y="337"/>
                  </a:lnTo>
                  <a:lnTo>
                    <a:pt x="113" y="341"/>
                  </a:lnTo>
                  <a:lnTo>
                    <a:pt x="114" y="346"/>
                  </a:lnTo>
                  <a:lnTo>
                    <a:pt x="114" y="349"/>
                  </a:lnTo>
                  <a:lnTo>
                    <a:pt x="114" y="352"/>
                  </a:lnTo>
                  <a:lnTo>
                    <a:pt x="114" y="353"/>
                  </a:lnTo>
                  <a:lnTo>
                    <a:pt x="114" y="354"/>
                  </a:lnTo>
                  <a:lnTo>
                    <a:pt x="114" y="355"/>
                  </a:lnTo>
                  <a:lnTo>
                    <a:pt x="114" y="357"/>
                  </a:lnTo>
                  <a:lnTo>
                    <a:pt x="114" y="358"/>
                  </a:lnTo>
                  <a:lnTo>
                    <a:pt x="114" y="358"/>
                  </a:lnTo>
                  <a:lnTo>
                    <a:pt x="114" y="359"/>
                  </a:lnTo>
                  <a:lnTo>
                    <a:pt x="114" y="360"/>
                  </a:lnTo>
                  <a:lnTo>
                    <a:pt x="114" y="364"/>
                  </a:lnTo>
                  <a:lnTo>
                    <a:pt x="114" y="369"/>
                  </a:lnTo>
                  <a:lnTo>
                    <a:pt x="115" y="372"/>
                  </a:lnTo>
                  <a:lnTo>
                    <a:pt x="115" y="376"/>
                  </a:lnTo>
                  <a:lnTo>
                    <a:pt x="115" y="380"/>
                  </a:lnTo>
                  <a:lnTo>
                    <a:pt x="115" y="383"/>
                  </a:lnTo>
                  <a:lnTo>
                    <a:pt x="116" y="386"/>
                  </a:lnTo>
                  <a:lnTo>
                    <a:pt x="116" y="389"/>
                  </a:lnTo>
                  <a:lnTo>
                    <a:pt x="117" y="391"/>
                  </a:lnTo>
                  <a:lnTo>
                    <a:pt x="117" y="393"/>
                  </a:lnTo>
                  <a:lnTo>
                    <a:pt x="119" y="395"/>
                  </a:lnTo>
                  <a:lnTo>
                    <a:pt x="120" y="396"/>
                  </a:lnTo>
                  <a:lnTo>
                    <a:pt x="121" y="397"/>
                  </a:lnTo>
                  <a:lnTo>
                    <a:pt x="122" y="398"/>
                  </a:lnTo>
                  <a:lnTo>
                    <a:pt x="123" y="398"/>
                  </a:lnTo>
                  <a:lnTo>
                    <a:pt x="125" y="400"/>
                  </a:lnTo>
                  <a:lnTo>
                    <a:pt x="126" y="398"/>
                  </a:lnTo>
                  <a:lnTo>
                    <a:pt x="128" y="398"/>
                  </a:lnTo>
                  <a:lnTo>
                    <a:pt x="131" y="397"/>
                  </a:lnTo>
                  <a:lnTo>
                    <a:pt x="133" y="396"/>
                  </a:lnTo>
                  <a:lnTo>
                    <a:pt x="136" y="394"/>
                  </a:lnTo>
                  <a:lnTo>
                    <a:pt x="140" y="392"/>
                  </a:lnTo>
                  <a:lnTo>
                    <a:pt x="144" y="389"/>
                  </a:lnTo>
                  <a:lnTo>
                    <a:pt x="148" y="386"/>
                  </a:lnTo>
                  <a:lnTo>
                    <a:pt x="153" y="382"/>
                  </a:lnTo>
                  <a:lnTo>
                    <a:pt x="157" y="379"/>
                  </a:lnTo>
                  <a:lnTo>
                    <a:pt x="163" y="374"/>
                  </a:lnTo>
                  <a:lnTo>
                    <a:pt x="168" y="370"/>
                  </a:lnTo>
                  <a:lnTo>
                    <a:pt x="174" y="364"/>
                  </a:lnTo>
                  <a:lnTo>
                    <a:pt x="179" y="359"/>
                  </a:lnTo>
                  <a:lnTo>
                    <a:pt x="186" y="352"/>
                  </a:lnTo>
                  <a:lnTo>
                    <a:pt x="193" y="346"/>
                  </a:lnTo>
                  <a:lnTo>
                    <a:pt x="199" y="339"/>
                  </a:lnTo>
                  <a:lnTo>
                    <a:pt x="206" y="332"/>
                  </a:lnTo>
                  <a:lnTo>
                    <a:pt x="211" y="326"/>
                  </a:lnTo>
                  <a:lnTo>
                    <a:pt x="218" y="318"/>
                  </a:lnTo>
                  <a:lnTo>
                    <a:pt x="223" y="310"/>
                  </a:lnTo>
                  <a:lnTo>
                    <a:pt x="229" y="304"/>
                  </a:lnTo>
                  <a:lnTo>
                    <a:pt x="234" y="296"/>
                  </a:lnTo>
                  <a:lnTo>
                    <a:pt x="240" y="288"/>
                  </a:lnTo>
                  <a:lnTo>
                    <a:pt x="246" y="279"/>
                  </a:lnTo>
                  <a:lnTo>
                    <a:pt x="250" y="272"/>
                  </a:lnTo>
                  <a:lnTo>
                    <a:pt x="253" y="262"/>
                  </a:lnTo>
                  <a:lnTo>
                    <a:pt x="257" y="252"/>
                  </a:lnTo>
                  <a:lnTo>
                    <a:pt x="259" y="242"/>
                  </a:lnTo>
                  <a:lnTo>
                    <a:pt x="260" y="231"/>
                  </a:lnTo>
                  <a:lnTo>
                    <a:pt x="261" y="220"/>
                  </a:lnTo>
                  <a:lnTo>
                    <a:pt x="262" y="208"/>
                  </a:lnTo>
                  <a:lnTo>
                    <a:pt x="261" y="195"/>
                  </a:lnTo>
                  <a:lnTo>
                    <a:pt x="260" y="183"/>
                  </a:lnTo>
                  <a:lnTo>
                    <a:pt x="257" y="171"/>
                  </a:lnTo>
                  <a:lnTo>
                    <a:pt x="253" y="159"/>
                  </a:lnTo>
                  <a:lnTo>
                    <a:pt x="249" y="147"/>
                  </a:lnTo>
                  <a:lnTo>
                    <a:pt x="243" y="135"/>
                  </a:lnTo>
                  <a:lnTo>
                    <a:pt x="237" y="123"/>
                  </a:lnTo>
                  <a:lnTo>
                    <a:pt x="229" y="109"/>
                  </a:lnTo>
                  <a:lnTo>
                    <a:pt x="221" y="97"/>
                  </a:lnTo>
                  <a:lnTo>
                    <a:pt x="211" y="87"/>
                  </a:lnTo>
                  <a:lnTo>
                    <a:pt x="201" y="78"/>
                  </a:lnTo>
                  <a:lnTo>
                    <a:pt x="190" y="72"/>
                  </a:lnTo>
                  <a:lnTo>
                    <a:pt x="178" y="66"/>
                  </a:lnTo>
                  <a:lnTo>
                    <a:pt x="165" y="62"/>
                  </a:lnTo>
                  <a:lnTo>
                    <a:pt x="152" y="60"/>
                  </a:lnTo>
                  <a:lnTo>
                    <a:pt x="136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49884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6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1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9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2" y="418"/>
                  </a:lnTo>
                  <a:lnTo>
                    <a:pt x="49" y="416"/>
                  </a:lnTo>
                  <a:lnTo>
                    <a:pt x="44" y="413"/>
                  </a:lnTo>
                  <a:lnTo>
                    <a:pt x="41" y="409"/>
                  </a:lnTo>
                  <a:lnTo>
                    <a:pt x="37" y="406"/>
                  </a:lnTo>
                  <a:lnTo>
                    <a:pt x="32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8" y="377"/>
                  </a:lnTo>
                  <a:lnTo>
                    <a:pt x="16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5" y="331"/>
                  </a:lnTo>
                  <a:lnTo>
                    <a:pt x="3" y="320"/>
                  </a:lnTo>
                  <a:lnTo>
                    <a:pt x="1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5" y="189"/>
                  </a:lnTo>
                  <a:lnTo>
                    <a:pt x="6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6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0" y="30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7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80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2" y="214"/>
                  </a:lnTo>
                  <a:lnTo>
                    <a:pt x="112" y="217"/>
                  </a:lnTo>
                  <a:lnTo>
                    <a:pt x="112" y="217"/>
                  </a:lnTo>
                  <a:lnTo>
                    <a:pt x="112" y="218"/>
                  </a:lnTo>
                  <a:lnTo>
                    <a:pt x="112" y="221"/>
                  </a:lnTo>
                  <a:lnTo>
                    <a:pt x="112" y="223"/>
                  </a:lnTo>
                  <a:lnTo>
                    <a:pt x="112" y="226"/>
                  </a:lnTo>
                  <a:lnTo>
                    <a:pt x="112" y="229"/>
                  </a:lnTo>
                  <a:lnTo>
                    <a:pt x="112" y="234"/>
                  </a:lnTo>
                  <a:lnTo>
                    <a:pt x="112" y="238"/>
                  </a:lnTo>
                  <a:lnTo>
                    <a:pt x="112" y="244"/>
                  </a:lnTo>
                  <a:lnTo>
                    <a:pt x="112" y="248"/>
                  </a:lnTo>
                  <a:lnTo>
                    <a:pt x="112" y="253"/>
                  </a:lnTo>
                  <a:lnTo>
                    <a:pt x="112" y="257"/>
                  </a:lnTo>
                  <a:lnTo>
                    <a:pt x="112" y="262"/>
                  </a:lnTo>
                  <a:lnTo>
                    <a:pt x="112" y="266"/>
                  </a:lnTo>
                  <a:lnTo>
                    <a:pt x="112" y="270"/>
                  </a:lnTo>
                  <a:lnTo>
                    <a:pt x="112" y="275"/>
                  </a:lnTo>
                  <a:lnTo>
                    <a:pt x="112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3" y="380"/>
                  </a:lnTo>
                  <a:lnTo>
                    <a:pt x="136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4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9" y="349"/>
                  </a:lnTo>
                  <a:lnTo>
                    <a:pt x="234" y="337"/>
                  </a:lnTo>
                  <a:lnTo>
                    <a:pt x="239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50" y="257"/>
                  </a:lnTo>
                  <a:lnTo>
                    <a:pt x="251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5" y="14"/>
                  </a:lnTo>
                  <a:lnTo>
                    <a:pt x="256" y="11"/>
                  </a:lnTo>
                  <a:lnTo>
                    <a:pt x="258" y="9"/>
                  </a:lnTo>
                  <a:lnTo>
                    <a:pt x="260" y="7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5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6" y="9"/>
                  </a:lnTo>
                  <a:lnTo>
                    <a:pt x="360" y="10"/>
                  </a:lnTo>
                  <a:lnTo>
                    <a:pt x="363" y="12"/>
                  </a:lnTo>
                  <a:lnTo>
                    <a:pt x="367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2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7" y="21"/>
                  </a:lnTo>
                  <a:lnTo>
                    <a:pt x="377" y="23"/>
                  </a:lnTo>
                  <a:lnTo>
                    <a:pt x="377" y="25"/>
                  </a:lnTo>
                  <a:lnTo>
                    <a:pt x="377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5" y="403"/>
                  </a:lnTo>
                  <a:lnTo>
                    <a:pt x="329" y="410"/>
                  </a:lnTo>
                  <a:lnTo>
                    <a:pt x="324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2" y="445"/>
                  </a:lnTo>
                  <a:lnTo>
                    <a:pt x="284" y="448"/>
                  </a:lnTo>
                  <a:lnTo>
                    <a:pt x="275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50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199" y="463"/>
                  </a:lnTo>
                  <a:lnTo>
                    <a:pt x="196" y="462"/>
                  </a:lnTo>
                  <a:lnTo>
                    <a:pt x="192" y="462"/>
                  </a:lnTo>
                  <a:lnTo>
                    <a:pt x="188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6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5" y="458"/>
                  </a:lnTo>
                  <a:lnTo>
                    <a:pt x="161" y="457"/>
                  </a:lnTo>
                  <a:lnTo>
                    <a:pt x="159" y="456"/>
                  </a:lnTo>
                  <a:lnTo>
                    <a:pt x="156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676680" y="2293920"/>
              <a:ext cx="169920" cy="194760"/>
            </a:xfrm>
            <a:custGeom>
              <a:avLst/>
              <a:gdLst/>
              <a:ahLst/>
              <a:rect l="l" t="t" r="r" b="b"/>
              <a:pathLst>
                <a:path w="426" h="491">
                  <a:moveTo>
                    <a:pt x="246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1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5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2" y="10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5" y="15"/>
                  </a:lnTo>
                  <a:lnTo>
                    <a:pt x="310" y="16"/>
                  </a:lnTo>
                  <a:lnTo>
                    <a:pt x="314" y="18"/>
                  </a:lnTo>
                  <a:lnTo>
                    <a:pt x="324" y="20"/>
                  </a:lnTo>
                  <a:lnTo>
                    <a:pt x="333" y="23"/>
                  </a:lnTo>
                  <a:lnTo>
                    <a:pt x="342" y="28"/>
                  </a:lnTo>
                  <a:lnTo>
                    <a:pt x="350" y="32"/>
                  </a:lnTo>
                  <a:lnTo>
                    <a:pt x="356" y="37"/>
                  </a:lnTo>
                  <a:lnTo>
                    <a:pt x="363" y="42"/>
                  </a:lnTo>
                  <a:lnTo>
                    <a:pt x="368" y="48"/>
                  </a:lnTo>
                  <a:lnTo>
                    <a:pt x="374" y="54"/>
                  </a:lnTo>
                  <a:lnTo>
                    <a:pt x="378" y="61"/>
                  </a:lnTo>
                  <a:lnTo>
                    <a:pt x="383" y="69"/>
                  </a:lnTo>
                  <a:lnTo>
                    <a:pt x="386" y="76"/>
                  </a:lnTo>
                  <a:lnTo>
                    <a:pt x="389" y="85"/>
                  </a:lnTo>
                  <a:lnTo>
                    <a:pt x="392" y="94"/>
                  </a:lnTo>
                  <a:lnTo>
                    <a:pt x="393" y="104"/>
                  </a:lnTo>
                  <a:lnTo>
                    <a:pt x="394" y="115"/>
                  </a:lnTo>
                  <a:lnTo>
                    <a:pt x="394" y="126"/>
                  </a:lnTo>
                  <a:lnTo>
                    <a:pt x="394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0" y="155"/>
                  </a:lnTo>
                  <a:lnTo>
                    <a:pt x="388" y="160"/>
                  </a:lnTo>
                  <a:lnTo>
                    <a:pt x="386" y="166"/>
                  </a:lnTo>
                  <a:lnTo>
                    <a:pt x="384" y="170"/>
                  </a:lnTo>
                  <a:lnTo>
                    <a:pt x="381" y="175"/>
                  </a:lnTo>
                  <a:lnTo>
                    <a:pt x="376" y="178"/>
                  </a:lnTo>
                  <a:lnTo>
                    <a:pt x="372" y="181"/>
                  </a:lnTo>
                  <a:lnTo>
                    <a:pt x="367" y="183"/>
                  </a:lnTo>
                  <a:lnTo>
                    <a:pt x="362" y="186"/>
                  </a:lnTo>
                  <a:lnTo>
                    <a:pt x="356" y="188"/>
                  </a:lnTo>
                  <a:lnTo>
                    <a:pt x="350" y="189"/>
                  </a:lnTo>
                  <a:lnTo>
                    <a:pt x="343" y="189"/>
                  </a:lnTo>
                  <a:lnTo>
                    <a:pt x="335" y="189"/>
                  </a:lnTo>
                  <a:lnTo>
                    <a:pt x="322" y="189"/>
                  </a:lnTo>
                  <a:lnTo>
                    <a:pt x="310" y="187"/>
                  </a:lnTo>
                  <a:lnTo>
                    <a:pt x="300" y="184"/>
                  </a:lnTo>
                  <a:lnTo>
                    <a:pt x="290" y="180"/>
                  </a:lnTo>
                  <a:lnTo>
                    <a:pt x="282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5" y="146"/>
                  </a:lnTo>
                  <a:lnTo>
                    <a:pt x="261" y="137"/>
                  </a:lnTo>
                  <a:lnTo>
                    <a:pt x="259" y="129"/>
                  </a:lnTo>
                  <a:lnTo>
                    <a:pt x="257" y="122"/>
                  </a:lnTo>
                  <a:lnTo>
                    <a:pt x="254" y="115"/>
                  </a:lnTo>
                  <a:lnTo>
                    <a:pt x="251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5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3" y="139"/>
                  </a:lnTo>
                  <a:lnTo>
                    <a:pt x="181" y="156"/>
                  </a:lnTo>
                  <a:lnTo>
                    <a:pt x="166" y="175"/>
                  </a:lnTo>
                  <a:lnTo>
                    <a:pt x="153" y="194"/>
                  </a:lnTo>
                  <a:lnTo>
                    <a:pt x="141" y="214"/>
                  </a:lnTo>
                  <a:lnTo>
                    <a:pt x="131" y="233"/>
                  </a:lnTo>
                  <a:lnTo>
                    <a:pt x="123" y="252"/>
                  </a:lnTo>
                  <a:lnTo>
                    <a:pt x="118" y="271"/>
                  </a:lnTo>
                  <a:lnTo>
                    <a:pt x="112" y="289"/>
                  </a:lnTo>
                  <a:lnTo>
                    <a:pt x="110" y="308"/>
                  </a:lnTo>
                  <a:lnTo>
                    <a:pt x="109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2" y="357"/>
                  </a:lnTo>
                  <a:lnTo>
                    <a:pt x="116" y="365"/>
                  </a:lnTo>
                  <a:lnTo>
                    <a:pt x="119" y="374"/>
                  </a:lnTo>
                  <a:lnTo>
                    <a:pt x="123" y="382"/>
                  </a:lnTo>
                  <a:lnTo>
                    <a:pt x="129" y="391"/>
                  </a:lnTo>
                  <a:lnTo>
                    <a:pt x="134" y="397"/>
                  </a:lnTo>
                  <a:lnTo>
                    <a:pt x="141" y="404"/>
                  </a:lnTo>
                  <a:lnTo>
                    <a:pt x="148" y="411"/>
                  </a:lnTo>
                  <a:lnTo>
                    <a:pt x="155" y="415"/>
                  </a:lnTo>
                  <a:lnTo>
                    <a:pt x="163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8" y="426"/>
                  </a:lnTo>
                  <a:lnTo>
                    <a:pt x="198" y="426"/>
                  </a:lnTo>
                  <a:lnTo>
                    <a:pt x="212" y="426"/>
                  </a:lnTo>
                  <a:lnTo>
                    <a:pt x="225" y="424"/>
                  </a:lnTo>
                  <a:lnTo>
                    <a:pt x="238" y="421"/>
                  </a:lnTo>
                  <a:lnTo>
                    <a:pt x="250" y="416"/>
                  </a:lnTo>
                  <a:lnTo>
                    <a:pt x="262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9" y="388"/>
                  </a:lnTo>
                  <a:lnTo>
                    <a:pt x="309" y="377"/>
                  </a:lnTo>
                  <a:lnTo>
                    <a:pt x="320" y="367"/>
                  </a:lnTo>
                  <a:lnTo>
                    <a:pt x="330" y="356"/>
                  </a:lnTo>
                  <a:lnTo>
                    <a:pt x="341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2" y="313"/>
                  </a:lnTo>
                  <a:lnTo>
                    <a:pt x="382" y="303"/>
                  </a:lnTo>
                  <a:lnTo>
                    <a:pt x="385" y="303"/>
                  </a:lnTo>
                  <a:lnTo>
                    <a:pt x="388" y="304"/>
                  </a:lnTo>
                  <a:lnTo>
                    <a:pt x="392" y="305"/>
                  </a:lnTo>
                  <a:lnTo>
                    <a:pt x="395" y="306"/>
                  </a:lnTo>
                  <a:lnTo>
                    <a:pt x="398" y="308"/>
                  </a:lnTo>
                  <a:lnTo>
                    <a:pt x="401" y="310"/>
                  </a:lnTo>
                  <a:lnTo>
                    <a:pt x="406" y="314"/>
                  </a:lnTo>
                  <a:lnTo>
                    <a:pt x="409" y="317"/>
                  </a:lnTo>
                  <a:lnTo>
                    <a:pt x="414" y="320"/>
                  </a:lnTo>
                  <a:lnTo>
                    <a:pt x="417" y="324"/>
                  </a:lnTo>
                  <a:lnTo>
                    <a:pt x="419" y="327"/>
                  </a:lnTo>
                  <a:lnTo>
                    <a:pt x="421" y="330"/>
                  </a:lnTo>
                  <a:lnTo>
                    <a:pt x="424" y="333"/>
                  </a:lnTo>
                  <a:lnTo>
                    <a:pt x="425" y="336"/>
                  </a:lnTo>
                  <a:lnTo>
                    <a:pt x="425" y="338"/>
                  </a:lnTo>
                  <a:lnTo>
                    <a:pt x="426" y="341"/>
                  </a:lnTo>
                  <a:lnTo>
                    <a:pt x="425" y="353"/>
                  </a:lnTo>
                  <a:lnTo>
                    <a:pt x="421" y="367"/>
                  </a:lnTo>
                  <a:lnTo>
                    <a:pt x="417" y="379"/>
                  </a:lnTo>
                  <a:lnTo>
                    <a:pt x="410" y="392"/>
                  </a:lnTo>
                  <a:lnTo>
                    <a:pt x="403" y="404"/>
                  </a:lnTo>
                  <a:lnTo>
                    <a:pt x="393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3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7" y="479"/>
                  </a:lnTo>
                  <a:lnTo>
                    <a:pt x="290" y="485"/>
                  </a:lnTo>
                  <a:lnTo>
                    <a:pt x="273" y="488"/>
                  </a:lnTo>
                  <a:lnTo>
                    <a:pt x="257" y="490"/>
                  </a:lnTo>
                  <a:lnTo>
                    <a:pt x="239" y="491"/>
                  </a:lnTo>
                  <a:lnTo>
                    <a:pt x="219" y="490"/>
                  </a:lnTo>
                  <a:lnTo>
                    <a:pt x="201" y="488"/>
                  </a:lnTo>
                  <a:lnTo>
                    <a:pt x="181" y="485"/>
                  </a:lnTo>
                  <a:lnTo>
                    <a:pt x="161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0" y="454"/>
                  </a:lnTo>
                  <a:lnTo>
                    <a:pt x="80" y="443"/>
                  </a:lnTo>
                  <a:lnTo>
                    <a:pt x="70" y="436"/>
                  </a:lnTo>
                  <a:lnTo>
                    <a:pt x="61" y="429"/>
                  </a:lnTo>
                  <a:lnTo>
                    <a:pt x="53" y="423"/>
                  </a:lnTo>
                  <a:lnTo>
                    <a:pt x="45" y="415"/>
                  </a:lnTo>
                  <a:lnTo>
                    <a:pt x="38" y="409"/>
                  </a:lnTo>
                  <a:lnTo>
                    <a:pt x="32" y="401"/>
                  </a:lnTo>
                  <a:lnTo>
                    <a:pt x="25" y="393"/>
                  </a:lnTo>
                  <a:lnTo>
                    <a:pt x="21" y="385"/>
                  </a:lnTo>
                  <a:lnTo>
                    <a:pt x="15" y="377"/>
                  </a:lnTo>
                  <a:lnTo>
                    <a:pt x="12" y="369"/>
                  </a:lnTo>
                  <a:lnTo>
                    <a:pt x="8" y="360"/>
                  </a:lnTo>
                  <a:lnTo>
                    <a:pt x="5" y="350"/>
                  </a:lnTo>
                  <a:lnTo>
                    <a:pt x="3" y="341"/>
                  </a:lnTo>
                  <a:lnTo>
                    <a:pt x="2" y="331"/>
                  </a:lnTo>
                  <a:lnTo>
                    <a:pt x="1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3" y="275"/>
                  </a:lnTo>
                  <a:lnTo>
                    <a:pt x="6" y="256"/>
                  </a:lnTo>
                  <a:lnTo>
                    <a:pt x="12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5" y="183"/>
                  </a:lnTo>
                  <a:lnTo>
                    <a:pt x="46" y="166"/>
                  </a:lnTo>
                  <a:lnTo>
                    <a:pt x="57" y="148"/>
                  </a:lnTo>
                  <a:lnTo>
                    <a:pt x="69" y="132"/>
                  </a:lnTo>
                  <a:lnTo>
                    <a:pt x="82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8" y="60"/>
                  </a:lnTo>
                  <a:lnTo>
                    <a:pt x="152" y="48"/>
                  </a:lnTo>
                  <a:lnTo>
                    <a:pt x="166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7" y="7"/>
                  </a:lnTo>
                  <a:lnTo>
                    <a:pt x="228" y="4"/>
                  </a:lnTo>
                  <a:lnTo>
                    <a:pt x="237" y="1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5452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5" h="487">
                  <a:moveTo>
                    <a:pt x="246" y="340"/>
                  </a:moveTo>
                  <a:lnTo>
                    <a:pt x="152" y="347"/>
                  </a:lnTo>
                  <a:lnTo>
                    <a:pt x="150" y="347"/>
                  </a:lnTo>
                  <a:lnTo>
                    <a:pt x="148" y="350"/>
                  </a:lnTo>
                  <a:lnTo>
                    <a:pt x="144" y="354"/>
                  </a:lnTo>
                  <a:lnTo>
                    <a:pt x="141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3" y="400"/>
                  </a:lnTo>
                  <a:lnTo>
                    <a:pt x="119" y="412"/>
                  </a:lnTo>
                  <a:lnTo>
                    <a:pt x="113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4" y="449"/>
                  </a:lnTo>
                  <a:lnTo>
                    <a:pt x="101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8" y="467"/>
                  </a:lnTo>
                  <a:lnTo>
                    <a:pt x="97" y="469"/>
                  </a:lnTo>
                  <a:lnTo>
                    <a:pt x="96" y="471"/>
                  </a:lnTo>
                  <a:lnTo>
                    <a:pt x="95" y="475"/>
                  </a:lnTo>
                  <a:lnTo>
                    <a:pt x="94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89" y="481"/>
                  </a:lnTo>
                  <a:lnTo>
                    <a:pt x="87" y="482"/>
                  </a:lnTo>
                  <a:lnTo>
                    <a:pt x="86" y="483"/>
                  </a:lnTo>
                  <a:lnTo>
                    <a:pt x="83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69" y="487"/>
                  </a:lnTo>
                  <a:lnTo>
                    <a:pt x="65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6" y="486"/>
                  </a:lnTo>
                  <a:lnTo>
                    <a:pt x="41" y="486"/>
                  </a:lnTo>
                  <a:lnTo>
                    <a:pt x="35" y="484"/>
                  </a:lnTo>
                  <a:lnTo>
                    <a:pt x="30" y="483"/>
                  </a:lnTo>
                  <a:lnTo>
                    <a:pt x="24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1" y="478"/>
                  </a:lnTo>
                  <a:lnTo>
                    <a:pt x="7" y="476"/>
                  </a:lnTo>
                  <a:lnTo>
                    <a:pt x="4" y="473"/>
                  </a:lnTo>
                  <a:lnTo>
                    <a:pt x="2" y="471"/>
                  </a:lnTo>
                  <a:lnTo>
                    <a:pt x="1" y="468"/>
                  </a:lnTo>
                  <a:lnTo>
                    <a:pt x="0" y="466"/>
                  </a:lnTo>
                  <a:lnTo>
                    <a:pt x="0" y="462"/>
                  </a:lnTo>
                  <a:lnTo>
                    <a:pt x="0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6" y="426"/>
                  </a:lnTo>
                  <a:lnTo>
                    <a:pt x="11" y="413"/>
                  </a:lnTo>
                  <a:lnTo>
                    <a:pt x="16" y="398"/>
                  </a:lnTo>
                  <a:lnTo>
                    <a:pt x="22" y="382"/>
                  </a:lnTo>
                  <a:lnTo>
                    <a:pt x="28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2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7" y="216"/>
                  </a:lnTo>
                  <a:lnTo>
                    <a:pt x="97" y="193"/>
                  </a:lnTo>
                  <a:lnTo>
                    <a:pt x="106" y="171"/>
                  </a:lnTo>
                  <a:lnTo>
                    <a:pt x="115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8" y="96"/>
                  </a:lnTo>
                  <a:lnTo>
                    <a:pt x="144" y="81"/>
                  </a:lnTo>
                  <a:lnTo>
                    <a:pt x="151" y="67"/>
                  </a:lnTo>
                  <a:lnTo>
                    <a:pt x="155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69" y="27"/>
                  </a:lnTo>
                  <a:lnTo>
                    <a:pt x="172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79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3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3"/>
                  </a:lnTo>
                  <a:lnTo>
                    <a:pt x="238" y="4"/>
                  </a:lnTo>
                  <a:lnTo>
                    <a:pt x="246" y="6"/>
                  </a:lnTo>
                  <a:lnTo>
                    <a:pt x="253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4" y="10"/>
                  </a:lnTo>
                  <a:lnTo>
                    <a:pt x="280" y="10"/>
                  </a:lnTo>
                  <a:lnTo>
                    <a:pt x="286" y="11"/>
                  </a:lnTo>
                  <a:lnTo>
                    <a:pt x="292" y="12"/>
                  </a:lnTo>
                  <a:lnTo>
                    <a:pt x="298" y="12"/>
                  </a:lnTo>
                  <a:lnTo>
                    <a:pt x="303" y="13"/>
                  </a:lnTo>
                  <a:lnTo>
                    <a:pt x="308" y="14"/>
                  </a:lnTo>
                  <a:lnTo>
                    <a:pt x="312" y="15"/>
                  </a:lnTo>
                  <a:lnTo>
                    <a:pt x="317" y="17"/>
                  </a:lnTo>
                  <a:lnTo>
                    <a:pt x="319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5" y="22"/>
                  </a:lnTo>
                  <a:lnTo>
                    <a:pt x="328" y="24"/>
                  </a:lnTo>
                  <a:lnTo>
                    <a:pt x="329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4" y="42"/>
                  </a:lnTo>
                  <a:lnTo>
                    <a:pt x="336" y="47"/>
                  </a:lnTo>
                  <a:lnTo>
                    <a:pt x="338" y="57"/>
                  </a:lnTo>
                  <a:lnTo>
                    <a:pt x="341" y="70"/>
                  </a:lnTo>
                  <a:lnTo>
                    <a:pt x="344" y="86"/>
                  </a:lnTo>
                  <a:lnTo>
                    <a:pt x="350" y="106"/>
                  </a:lnTo>
                  <a:lnTo>
                    <a:pt x="354" y="129"/>
                  </a:lnTo>
                  <a:lnTo>
                    <a:pt x="361" y="156"/>
                  </a:lnTo>
                  <a:lnTo>
                    <a:pt x="368" y="185"/>
                  </a:lnTo>
                  <a:lnTo>
                    <a:pt x="375" y="216"/>
                  </a:lnTo>
                  <a:lnTo>
                    <a:pt x="382" y="245"/>
                  </a:lnTo>
                  <a:lnTo>
                    <a:pt x="388" y="272"/>
                  </a:lnTo>
                  <a:lnTo>
                    <a:pt x="394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2" y="372"/>
                  </a:lnTo>
                  <a:lnTo>
                    <a:pt x="415" y="386"/>
                  </a:lnTo>
                  <a:lnTo>
                    <a:pt x="417" y="398"/>
                  </a:lnTo>
                  <a:lnTo>
                    <a:pt x="419" y="408"/>
                  </a:lnTo>
                  <a:lnTo>
                    <a:pt x="421" y="417"/>
                  </a:lnTo>
                  <a:lnTo>
                    <a:pt x="423" y="425"/>
                  </a:lnTo>
                  <a:lnTo>
                    <a:pt x="424" y="430"/>
                  </a:lnTo>
                  <a:lnTo>
                    <a:pt x="425" y="434"/>
                  </a:lnTo>
                  <a:lnTo>
                    <a:pt x="425" y="436"/>
                  </a:lnTo>
                  <a:lnTo>
                    <a:pt x="424" y="440"/>
                  </a:lnTo>
                  <a:lnTo>
                    <a:pt x="421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5" y="452"/>
                  </a:lnTo>
                  <a:lnTo>
                    <a:pt x="396" y="454"/>
                  </a:lnTo>
                  <a:lnTo>
                    <a:pt x="386" y="455"/>
                  </a:lnTo>
                  <a:lnTo>
                    <a:pt x="374" y="455"/>
                  </a:lnTo>
                  <a:lnTo>
                    <a:pt x="366" y="455"/>
                  </a:lnTo>
                  <a:lnTo>
                    <a:pt x="359" y="454"/>
                  </a:lnTo>
                  <a:lnTo>
                    <a:pt x="352" y="452"/>
                  </a:lnTo>
                  <a:lnTo>
                    <a:pt x="345" y="450"/>
                  </a:lnTo>
                  <a:lnTo>
                    <a:pt x="340" y="448"/>
                  </a:lnTo>
                  <a:lnTo>
                    <a:pt x="335" y="445"/>
                  </a:lnTo>
                  <a:lnTo>
                    <a:pt x="331" y="441"/>
                  </a:lnTo>
                  <a:lnTo>
                    <a:pt x="328" y="437"/>
                  </a:lnTo>
                  <a:lnTo>
                    <a:pt x="324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5" y="417"/>
                  </a:lnTo>
                  <a:lnTo>
                    <a:pt x="312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0" y="385"/>
                  </a:lnTo>
                  <a:lnTo>
                    <a:pt x="298" y="380"/>
                  </a:lnTo>
                  <a:lnTo>
                    <a:pt x="295" y="373"/>
                  </a:lnTo>
                  <a:lnTo>
                    <a:pt x="292" y="369"/>
                  </a:lnTo>
                  <a:lnTo>
                    <a:pt x="290" y="363"/>
                  </a:lnTo>
                  <a:lnTo>
                    <a:pt x="289" y="359"/>
                  </a:lnTo>
                  <a:lnTo>
                    <a:pt x="287" y="355"/>
                  </a:lnTo>
                  <a:lnTo>
                    <a:pt x="286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1" y="343"/>
                  </a:lnTo>
                  <a:lnTo>
                    <a:pt x="280" y="341"/>
                  </a:lnTo>
                  <a:lnTo>
                    <a:pt x="278" y="340"/>
                  </a:lnTo>
                  <a:lnTo>
                    <a:pt x="276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6" y="340"/>
                  </a:lnTo>
                  <a:close/>
                  <a:moveTo>
                    <a:pt x="181" y="268"/>
                  </a:moveTo>
                  <a:lnTo>
                    <a:pt x="181" y="269"/>
                  </a:lnTo>
                  <a:lnTo>
                    <a:pt x="180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79" y="275"/>
                  </a:lnTo>
                  <a:lnTo>
                    <a:pt x="179" y="276"/>
                  </a:lnTo>
                  <a:lnTo>
                    <a:pt x="179" y="276"/>
                  </a:lnTo>
                  <a:lnTo>
                    <a:pt x="179" y="277"/>
                  </a:lnTo>
                  <a:lnTo>
                    <a:pt x="180" y="277"/>
                  </a:lnTo>
                  <a:lnTo>
                    <a:pt x="180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5" y="280"/>
                  </a:lnTo>
                  <a:lnTo>
                    <a:pt x="246" y="267"/>
                  </a:lnTo>
                  <a:lnTo>
                    <a:pt x="250" y="267"/>
                  </a:lnTo>
                  <a:lnTo>
                    <a:pt x="254" y="267"/>
                  </a:lnTo>
                  <a:lnTo>
                    <a:pt x="257" y="267"/>
                  </a:lnTo>
                  <a:lnTo>
                    <a:pt x="260" y="267"/>
                  </a:lnTo>
                  <a:lnTo>
                    <a:pt x="263" y="267"/>
                  </a:lnTo>
                  <a:lnTo>
                    <a:pt x="265" y="266"/>
                  </a:lnTo>
                  <a:lnTo>
                    <a:pt x="266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0" y="265"/>
                  </a:lnTo>
                  <a:lnTo>
                    <a:pt x="271" y="265"/>
                  </a:lnTo>
                  <a:lnTo>
                    <a:pt x="271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3" y="225"/>
                  </a:lnTo>
                  <a:lnTo>
                    <a:pt x="259" y="213"/>
                  </a:lnTo>
                  <a:lnTo>
                    <a:pt x="255" y="199"/>
                  </a:lnTo>
                  <a:lnTo>
                    <a:pt x="250" y="184"/>
                  </a:lnTo>
                  <a:lnTo>
                    <a:pt x="247" y="171"/>
                  </a:lnTo>
                  <a:lnTo>
                    <a:pt x="244" y="160"/>
                  </a:lnTo>
                  <a:lnTo>
                    <a:pt x="242" y="150"/>
                  </a:lnTo>
                  <a:lnTo>
                    <a:pt x="239" y="143"/>
                  </a:lnTo>
                  <a:lnTo>
                    <a:pt x="238" y="137"/>
                  </a:lnTo>
                  <a:lnTo>
                    <a:pt x="237" y="134"/>
                  </a:lnTo>
                  <a:lnTo>
                    <a:pt x="237" y="130"/>
                  </a:lnTo>
                  <a:lnTo>
                    <a:pt x="235" y="134"/>
                  </a:lnTo>
                  <a:lnTo>
                    <a:pt x="233" y="139"/>
                  </a:lnTo>
                  <a:lnTo>
                    <a:pt x="229" y="146"/>
                  </a:lnTo>
                  <a:lnTo>
                    <a:pt x="226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6" y="226"/>
                  </a:lnTo>
                  <a:lnTo>
                    <a:pt x="193" y="237"/>
                  </a:lnTo>
                  <a:lnTo>
                    <a:pt x="189" y="246"/>
                  </a:lnTo>
                  <a:lnTo>
                    <a:pt x="186" y="254"/>
                  </a:lnTo>
                  <a:lnTo>
                    <a:pt x="183" y="260"/>
                  </a:lnTo>
                  <a:lnTo>
                    <a:pt x="182" y="265"/>
                  </a:lnTo>
                  <a:lnTo>
                    <a:pt x="181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03056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1" y="484"/>
                  </a:lnTo>
                  <a:lnTo>
                    <a:pt x="226" y="484"/>
                  </a:lnTo>
                  <a:lnTo>
                    <a:pt x="220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89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7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7" y="462"/>
                  </a:lnTo>
                  <a:lnTo>
                    <a:pt x="157" y="459"/>
                  </a:lnTo>
                  <a:lnTo>
                    <a:pt x="152" y="327"/>
                  </a:lnTo>
                  <a:lnTo>
                    <a:pt x="157" y="105"/>
                  </a:lnTo>
                  <a:lnTo>
                    <a:pt x="157" y="103"/>
                  </a:lnTo>
                  <a:lnTo>
                    <a:pt x="157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6" y="90"/>
                  </a:lnTo>
                  <a:lnTo>
                    <a:pt x="131" y="90"/>
                  </a:lnTo>
                  <a:lnTo>
                    <a:pt x="125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2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1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59" y="0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1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2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2" y="54"/>
                  </a:lnTo>
                  <a:lnTo>
                    <a:pt x="411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8" y="80"/>
                  </a:lnTo>
                  <a:lnTo>
                    <a:pt x="347" y="81"/>
                  </a:lnTo>
                  <a:lnTo>
                    <a:pt x="337" y="82"/>
                  </a:lnTo>
                  <a:lnTo>
                    <a:pt x="327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5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4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73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10200" y="2293920"/>
              <a:ext cx="4752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8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7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5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2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87960" y="2295360"/>
              <a:ext cx="1728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7" y="454"/>
                  </a:lnTo>
                  <a:lnTo>
                    <a:pt x="119" y="445"/>
                  </a:lnTo>
                  <a:lnTo>
                    <a:pt x="99" y="434"/>
                  </a:lnTo>
                  <a:lnTo>
                    <a:pt x="79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5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2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2" y="231"/>
                  </a:lnTo>
                  <a:lnTo>
                    <a:pt x="5" y="208"/>
                  </a:lnTo>
                  <a:lnTo>
                    <a:pt x="9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4" y="79"/>
                  </a:lnTo>
                  <a:lnTo>
                    <a:pt x="81" y="60"/>
                  </a:lnTo>
                  <a:lnTo>
                    <a:pt x="98" y="44"/>
                  </a:lnTo>
                  <a:lnTo>
                    <a:pt x="113" y="31"/>
                  </a:lnTo>
                  <a:lnTo>
                    <a:pt x="130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6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0" y="16"/>
                  </a:lnTo>
                  <a:lnTo>
                    <a:pt x="275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8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39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7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5" y="369"/>
                  </a:lnTo>
                  <a:lnTo>
                    <a:pt x="380" y="390"/>
                  </a:lnTo>
                  <a:lnTo>
                    <a:pt x="374" y="400"/>
                  </a:lnTo>
                  <a:lnTo>
                    <a:pt x="366" y="410"/>
                  </a:lnTo>
                  <a:lnTo>
                    <a:pt x="357" y="419"/>
                  </a:lnTo>
                  <a:lnTo>
                    <a:pt x="349" y="427"/>
                  </a:lnTo>
                  <a:lnTo>
                    <a:pt x="340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4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5" y="51"/>
                  </a:lnTo>
                  <a:lnTo>
                    <a:pt x="219" y="54"/>
                  </a:lnTo>
                  <a:lnTo>
                    <a:pt x="213" y="56"/>
                  </a:lnTo>
                  <a:lnTo>
                    <a:pt x="204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5" y="281"/>
                  </a:lnTo>
                  <a:lnTo>
                    <a:pt x="116" y="296"/>
                  </a:lnTo>
                  <a:lnTo>
                    <a:pt x="119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4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5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8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10" y="221"/>
                  </a:lnTo>
                  <a:lnTo>
                    <a:pt x="311" y="207"/>
                  </a:lnTo>
                  <a:lnTo>
                    <a:pt x="310" y="194"/>
                  </a:lnTo>
                  <a:lnTo>
                    <a:pt x="310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9" y="91"/>
                  </a:lnTo>
                  <a:lnTo>
                    <a:pt x="283" y="80"/>
                  </a:lnTo>
                  <a:lnTo>
                    <a:pt x="276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3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4910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1" y="21"/>
                  </a:lnTo>
                  <a:lnTo>
                    <a:pt x="282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6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7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2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1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0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49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4" y="322"/>
                  </a:lnTo>
                  <a:lnTo>
                    <a:pt x="154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2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1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59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7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7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6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8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69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1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2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29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72160" y="2295360"/>
              <a:ext cx="137880" cy="186840"/>
            </a:xfrm>
            <a:custGeom>
              <a:avLst/>
              <a:gdLst/>
              <a:ahLst/>
              <a:rect l="l" t="t" r="r" b="b"/>
              <a:pathLst>
                <a:path w="347" h="472">
                  <a:moveTo>
                    <a:pt x="108" y="148"/>
                  </a:moveTo>
                  <a:lnTo>
                    <a:pt x="108" y="181"/>
                  </a:lnTo>
                  <a:lnTo>
                    <a:pt x="108" y="184"/>
                  </a:lnTo>
                  <a:lnTo>
                    <a:pt x="108" y="185"/>
                  </a:lnTo>
                  <a:lnTo>
                    <a:pt x="109" y="187"/>
                  </a:lnTo>
                  <a:lnTo>
                    <a:pt x="110" y="187"/>
                  </a:lnTo>
                  <a:lnTo>
                    <a:pt x="112" y="188"/>
                  </a:lnTo>
                  <a:lnTo>
                    <a:pt x="113" y="189"/>
                  </a:lnTo>
                  <a:lnTo>
                    <a:pt x="115" y="189"/>
                  </a:lnTo>
                  <a:lnTo>
                    <a:pt x="119" y="189"/>
                  </a:lnTo>
                  <a:lnTo>
                    <a:pt x="120" y="189"/>
                  </a:lnTo>
                  <a:lnTo>
                    <a:pt x="121" y="189"/>
                  </a:lnTo>
                  <a:lnTo>
                    <a:pt x="122" y="189"/>
                  </a:lnTo>
                  <a:lnTo>
                    <a:pt x="123" y="189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1" y="189"/>
                  </a:lnTo>
                  <a:lnTo>
                    <a:pt x="133" y="189"/>
                  </a:lnTo>
                  <a:lnTo>
                    <a:pt x="134" y="189"/>
                  </a:lnTo>
                  <a:lnTo>
                    <a:pt x="136" y="189"/>
                  </a:lnTo>
                  <a:lnTo>
                    <a:pt x="138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4" y="189"/>
                  </a:lnTo>
                  <a:lnTo>
                    <a:pt x="149" y="189"/>
                  </a:lnTo>
                  <a:lnTo>
                    <a:pt x="155" y="189"/>
                  </a:lnTo>
                  <a:lnTo>
                    <a:pt x="161" y="189"/>
                  </a:lnTo>
                  <a:lnTo>
                    <a:pt x="166" y="189"/>
                  </a:lnTo>
                  <a:lnTo>
                    <a:pt x="172" y="189"/>
                  </a:lnTo>
                  <a:lnTo>
                    <a:pt x="178" y="189"/>
                  </a:lnTo>
                  <a:lnTo>
                    <a:pt x="184" y="189"/>
                  </a:lnTo>
                  <a:lnTo>
                    <a:pt x="189" y="189"/>
                  </a:lnTo>
                  <a:lnTo>
                    <a:pt x="196" y="190"/>
                  </a:lnTo>
                  <a:lnTo>
                    <a:pt x="202" y="190"/>
                  </a:lnTo>
                  <a:lnTo>
                    <a:pt x="209" y="190"/>
                  </a:lnTo>
                  <a:lnTo>
                    <a:pt x="216" y="190"/>
                  </a:lnTo>
                  <a:lnTo>
                    <a:pt x="222" y="191"/>
                  </a:lnTo>
                  <a:lnTo>
                    <a:pt x="230" y="191"/>
                  </a:lnTo>
                  <a:lnTo>
                    <a:pt x="238" y="192"/>
                  </a:lnTo>
                  <a:lnTo>
                    <a:pt x="246" y="192"/>
                  </a:lnTo>
                  <a:lnTo>
                    <a:pt x="254" y="194"/>
                  </a:lnTo>
                  <a:lnTo>
                    <a:pt x="262" y="195"/>
                  </a:lnTo>
                  <a:lnTo>
                    <a:pt x="270" y="197"/>
                  </a:lnTo>
                  <a:lnTo>
                    <a:pt x="278" y="199"/>
                  </a:lnTo>
                  <a:lnTo>
                    <a:pt x="284" y="201"/>
                  </a:lnTo>
                  <a:lnTo>
                    <a:pt x="292" y="203"/>
                  </a:lnTo>
                  <a:lnTo>
                    <a:pt x="299" y="207"/>
                  </a:lnTo>
                  <a:lnTo>
                    <a:pt x="305" y="211"/>
                  </a:lnTo>
                  <a:lnTo>
                    <a:pt x="311" y="214"/>
                  </a:lnTo>
                  <a:lnTo>
                    <a:pt x="316" y="218"/>
                  </a:lnTo>
                  <a:lnTo>
                    <a:pt x="321" y="222"/>
                  </a:lnTo>
                  <a:lnTo>
                    <a:pt x="324" y="226"/>
                  </a:lnTo>
                  <a:lnTo>
                    <a:pt x="327" y="230"/>
                  </a:lnTo>
                  <a:lnTo>
                    <a:pt x="329" y="233"/>
                  </a:lnTo>
                  <a:lnTo>
                    <a:pt x="331" y="237"/>
                  </a:lnTo>
                  <a:lnTo>
                    <a:pt x="331" y="240"/>
                  </a:lnTo>
                  <a:lnTo>
                    <a:pt x="331" y="243"/>
                  </a:lnTo>
                  <a:lnTo>
                    <a:pt x="329" y="245"/>
                  </a:lnTo>
                  <a:lnTo>
                    <a:pt x="326" y="246"/>
                  </a:lnTo>
                  <a:lnTo>
                    <a:pt x="323" y="249"/>
                  </a:lnTo>
                  <a:lnTo>
                    <a:pt x="318" y="251"/>
                  </a:lnTo>
                  <a:lnTo>
                    <a:pt x="313" y="252"/>
                  </a:lnTo>
                  <a:lnTo>
                    <a:pt x="306" y="254"/>
                  </a:lnTo>
                  <a:lnTo>
                    <a:pt x="300" y="255"/>
                  </a:lnTo>
                  <a:lnTo>
                    <a:pt x="291" y="256"/>
                  </a:lnTo>
                  <a:lnTo>
                    <a:pt x="283" y="259"/>
                  </a:lnTo>
                  <a:lnTo>
                    <a:pt x="274" y="260"/>
                  </a:lnTo>
                  <a:lnTo>
                    <a:pt x="265" y="260"/>
                  </a:lnTo>
                  <a:lnTo>
                    <a:pt x="255" y="261"/>
                  </a:lnTo>
                  <a:lnTo>
                    <a:pt x="246" y="262"/>
                  </a:lnTo>
                  <a:lnTo>
                    <a:pt x="236" y="262"/>
                  </a:lnTo>
                  <a:lnTo>
                    <a:pt x="226" y="263"/>
                  </a:lnTo>
                  <a:lnTo>
                    <a:pt x="215" y="263"/>
                  </a:lnTo>
                  <a:lnTo>
                    <a:pt x="205" y="263"/>
                  </a:lnTo>
                  <a:lnTo>
                    <a:pt x="194" y="264"/>
                  </a:lnTo>
                  <a:lnTo>
                    <a:pt x="184" y="264"/>
                  </a:lnTo>
                  <a:lnTo>
                    <a:pt x="173" y="264"/>
                  </a:lnTo>
                  <a:lnTo>
                    <a:pt x="163" y="264"/>
                  </a:lnTo>
                  <a:lnTo>
                    <a:pt x="152" y="264"/>
                  </a:lnTo>
                  <a:lnTo>
                    <a:pt x="142" y="264"/>
                  </a:lnTo>
                  <a:lnTo>
                    <a:pt x="140" y="264"/>
                  </a:lnTo>
                  <a:lnTo>
                    <a:pt x="137" y="264"/>
                  </a:lnTo>
                  <a:lnTo>
                    <a:pt x="135" y="264"/>
                  </a:lnTo>
                  <a:lnTo>
                    <a:pt x="133" y="264"/>
                  </a:lnTo>
                  <a:lnTo>
                    <a:pt x="132" y="264"/>
                  </a:lnTo>
                  <a:lnTo>
                    <a:pt x="131" y="264"/>
                  </a:lnTo>
                  <a:lnTo>
                    <a:pt x="130" y="264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7" y="264"/>
                  </a:lnTo>
                  <a:lnTo>
                    <a:pt x="127" y="264"/>
                  </a:lnTo>
                  <a:lnTo>
                    <a:pt x="126" y="264"/>
                  </a:lnTo>
                  <a:lnTo>
                    <a:pt x="126" y="264"/>
                  </a:lnTo>
                  <a:lnTo>
                    <a:pt x="125" y="264"/>
                  </a:lnTo>
                  <a:lnTo>
                    <a:pt x="124" y="264"/>
                  </a:lnTo>
                  <a:lnTo>
                    <a:pt x="124" y="264"/>
                  </a:lnTo>
                  <a:lnTo>
                    <a:pt x="119" y="264"/>
                  </a:lnTo>
                  <a:lnTo>
                    <a:pt x="115" y="265"/>
                  </a:lnTo>
                  <a:lnTo>
                    <a:pt x="112" y="267"/>
                  </a:lnTo>
                  <a:lnTo>
                    <a:pt x="109" y="270"/>
                  </a:lnTo>
                  <a:lnTo>
                    <a:pt x="106" y="272"/>
                  </a:lnTo>
                  <a:lnTo>
                    <a:pt x="104" y="275"/>
                  </a:lnTo>
                  <a:lnTo>
                    <a:pt x="104" y="280"/>
                  </a:lnTo>
                  <a:lnTo>
                    <a:pt x="103" y="284"/>
                  </a:lnTo>
                  <a:lnTo>
                    <a:pt x="103" y="435"/>
                  </a:lnTo>
                  <a:lnTo>
                    <a:pt x="103" y="440"/>
                  </a:lnTo>
                  <a:lnTo>
                    <a:pt x="103" y="444"/>
                  </a:lnTo>
                  <a:lnTo>
                    <a:pt x="102" y="448"/>
                  </a:lnTo>
                  <a:lnTo>
                    <a:pt x="102" y="453"/>
                  </a:lnTo>
                  <a:lnTo>
                    <a:pt x="101" y="456"/>
                  </a:lnTo>
                  <a:lnTo>
                    <a:pt x="100" y="458"/>
                  </a:lnTo>
                  <a:lnTo>
                    <a:pt x="99" y="462"/>
                  </a:lnTo>
                  <a:lnTo>
                    <a:pt x="96" y="464"/>
                  </a:lnTo>
                  <a:lnTo>
                    <a:pt x="95" y="465"/>
                  </a:lnTo>
                  <a:lnTo>
                    <a:pt x="93" y="467"/>
                  </a:lnTo>
                  <a:lnTo>
                    <a:pt x="91" y="468"/>
                  </a:lnTo>
                  <a:lnTo>
                    <a:pt x="88" y="469"/>
                  </a:lnTo>
                  <a:lnTo>
                    <a:pt x="85" y="471"/>
                  </a:lnTo>
                  <a:lnTo>
                    <a:pt x="82" y="472"/>
                  </a:lnTo>
                  <a:lnTo>
                    <a:pt x="78" y="472"/>
                  </a:lnTo>
                  <a:lnTo>
                    <a:pt x="74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0" y="471"/>
                  </a:lnTo>
                  <a:lnTo>
                    <a:pt x="56" y="471"/>
                  </a:lnTo>
                  <a:lnTo>
                    <a:pt x="51" y="469"/>
                  </a:lnTo>
                  <a:lnTo>
                    <a:pt x="47" y="468"/>
                  </a:lnTo>
                  <a:lnTo>
                    <a:pt x="42" y="466"/>
                  </a:lnTo>
                  <a:lnTo>
                    <a:pt x="38" y="465"/>
                  </a:lnTo>
                  <a:lnTo>
                    <a:pt x="34" y="463"/>
                  </a:lnTo>
                  <a:lnTo>
                    <a:pt x="29" y="462"/>
                  </a:lnTo>
                  <a:lnTo>
                    <a:pt x="25" y="459"/>
                  </a:lnTo>
                  <a:lnTo>
                    <a:pt x="21" y="458"/>
                  </a:lnTo>
                  <a:lnTo>
                    <a:pt x="18" y="456"/>
                  </a:lnTo>
                  <a:lnTo>
                    <a:pt x="15" y="455"/>
                  </a:lnTo>
                  <a:lnTo>
                    <a:pt x="13" y="453"/>
                  </a:lnTo>
                  <a:lnTo>
                    <a:pt x="10" y="452"/>
                  </a:lnTo>
                  <a:lnTo>
                    <a:pt x="8" y="450"/>
                  </a:lnTo>
                  <a:lnTo>
                    <a:pt x="6" y="448"/>
                  </a:lnTo>
                  <a:lnTo>
                    <a:pt x="5" y="447"/>
                  </a:lnTo>
                  <a:lnTo>
                    <a:pt x="3" y="446"/>
                  </a:lnTo>
                  <a:lnTo>
                    <a:pt x="3" y="445"/>
                  </a:lnTo>
                  <a:lnTo>
                    <a:pt x="2" y="444"/>
                  </a:lnTo>
                  <a:lnTo>
                    <a:pt x="0" y="443"/>
                  </a:lnTo>
                  <a:lnTo>
                    <a:pt x="0" y="442"/>
                  </a:lnTo>
                  <a:lnTo>
                    <a:pt x="0" y="274"/>
                  </a:lnTo>
                  <a:lnTo>
                    <a:pt x="6" y="45"/>
                  </a:lnTo>
                  <a:lnTo>
                    <a:pt x="6" y="38"/>
                  </a:lnTo>
                  <a:lnTo>
                    <a:pt x="6" y="31"/>
                  </a:lnTo>
                  <a:lnTo>
                    <a:pt x="7" y="26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7" y="5"/>
                  </a:lnTo>
                  <a:lnTo>
                    <a:pt x="34" y="4"/>
                  </a:lnTo>
                  <a:lnTo>
                    <a:pt x="42" y="3"/>
                  </a:lnTo>
                  <a:lnTo>
                    <a:pt x="52" y="3"/>
                  </a:lnTo>
                  <a:lnTo>
                    <a:pt x="63" y="2"/>
                  </a:lnTo>
                  <a:lnTo>
                    <a:pt x="77" y="2"/>
                  </a:lnTo>
                  <a:lnTo>
                    <a:pt x="91" y="2"/>
                  </a:lnTo>
                  <a:lnTo>
                    <a:pt x="240" y="0"/>
                  </a:lnTo>
                  <a:lnTo>
                    <a:pt x="252" y="2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5" y="6"/>
                  </a:lnTo>
                  <a:lnTo>
                    <a:pt x="294" y="9"/>
                  </a:lnTo>
                  <a:lnTo>
                    <a:pt x="303" y="13"/>
                  </a:lnTo>
                  <a:lnTo>
                    <a:pt x="311" y="16"/>
                  </a:lnTo>
                  <a:lnTo>
                    <a:pt x="318" y="21"/>
                  </a:lnTo>
                  <a:lnTo>
                    <a:pt x="325" y="26"/>
                  </a:lnTo>
                  <a:lnTo>
                    <a:pt x="331" y="31"/>
                  </a:lnTo>
                  <a:lnTo>
                    <a:pt x="336" y="36"/>
                  </a:lnTo>
                  <a:lnTo>
                    <a:pt x="339" y="41"/>
                  </a:lnTo>
                  <a:lnTo>
                    <a:pt x="343" y="46"/>
                  </a:lnTo>
                  <a:lnTo>
                    <a:pt x="345" y="50"/>
                  </a:lnTo>
                  <a:lnTo>
                    <a:pt x="346" y="54"/>
                  </a:lnTo>
                  <a:lnTo>
                    <a:pt x="347" y="60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9" y="69"/>
                  </a:lnTo>
                  <a:lnTo>
                    <a:pt x="334" y="71"/>
                  </a:lnTo>
                  <a:lnTo>
                    <a:pt x="326" y="73"/>
                  </a:lnTo>
                  <a:lnTo>
                    <a:pt x="317" y="74"/>
                  </a:lnTo>
                  <a:lnTo>
                    <a:pt x="307" y="75"/>
                  </a:lnTo>
                  <a:lnTo>
                    <a:pt x="295" y="75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9" y="77"/>
                  </a:lnTo>
                  <a:lnTo>
                    <a:pt x="116" y="77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2" y="80"/>
                  </a:lnTo>
                  <a:lnTo>
                    <a:pt x="111" y="82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09" y="89"/>
                  </a:lnTo>
                  <a:lnTo>
                    <a:pt x="108" y="92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8" y="109"/>
                  </a:lnTo>
                  <a:lnTo>
                    <a:pt x="108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92300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9" y="434"/>
                  </a:lnTo>
                  <a:lnTo>
                    <a:pt x="80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4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5" y="208"/>
                  </a:lnTo>
                  <a:lnTo>
                    <a:pt x="10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5" y="79"/>
                  </a:lnTo>
                  <a:lnTo>
                    <a:pt x="81" y="60"/>
                  </a:lnTo>
                  <a:lnTo>
                    <a:pt x="97" y="44"/>
                  </a:lnTo>
                  <a:lnTo>
                    <a:pt x="113" y="31"/>
                  </a:lnTo>
                  <a:lnTo>
                    <a:pt x="129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3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5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1" y="16"/>
                  </a:lnTo>
                  <a:lnTo>
                    <a:pt x="276" y="16"/>
                  </a:lnTo>
                  <a:lnTo>
                    <a:pt x="282" y="17"/>
                  </a:lnTo>
                  <a:lnTo>
                    <a:pt x="287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9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40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6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2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4" y="369"/>
                  </a:lnTo>
                  <a:lnTo>
                    <a:pt x="381" y="390"/>
                  </a:lnTo>
                  <a:lnTo>
                    <a:pt x="373" y="400"/>
                  </a:lnTo>
                  <a:lnTo>
                    <a:pt x="366" y="410"/>
                  </a:lnTo>
                  <a:lnTo>
                    <a:pt x="358" y="419"/>
                  </a:lnTo>
                  <a:lnTo>
                    <a:pt x="349" y="427"/>
                  </a:lnTo>
                  <a:lnTo>
                    <a:pt x="341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5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4" y="51"/>
                  </a:lnTo>
                  <a:lnTo>
                    <a:pt x="219" y="54"/>
                  </a:lnTo>
                  <a:lnTo>
                    <a:pt x="214" y="56"/>
                  </a:lnTo>
                  <a:lnTo>
                    <a:pt x="203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6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3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6" y="401"/>
                  </a:lnTo>
                  <a:lnTo>
                    <a:pt x="163" y="408"/>
                  </a:lnTo>
                  <a:lnTo>
                    <a:pt x="169" y="412"/>
                  </a:lnTo>
                  <a:lnTo>
                    <a:pt x="177" y="416"/>
                  </a:lnTo>
                  <a:lnTo>
                    <a:pt x="185" y="418"/>
                  </a:lnTo>
                  <a:lnTo>
                    <a:pt x="192" y="419"/>
                  </a:lnTo>
                  <a:lnTo>
                    <a:pt x="199" y="419"/>
                  </a:lnTo>
                  <a:lnTo>
                    <a:pt x="206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9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3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1" y="207"/>
                  </a:lnTo>
                  <a:lnTo>
                    <a:pt x="311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8" y="91"/>
                  </a:lnTo>
                  <a:lnTo>
                    <a:pt x="283" y="80"/>
                  </a:lnTo>
                  <a:lnTo>
                    <a:pt x="277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12604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8" y="456"/>
                  </a:lnTo>
                  <a:lnTo>
                    <a:pt x="96" y="459"/>
                  </a:lnTo>
                  <a:lnTo>
                    <a:pt x="92" y="461"/>
                  </a:lnTo>
                  <a:lnTo>
                    <a:pt x="89" y="462"/>
                  </a:lnTo>
                  <a:lnTo>
                    <a:pt x="85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7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50" y="459"/>
                  </a:lnTo>
                  <a:lnTo>
                    <a:pt x="46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4" y="456"/>
                  </a:lnTo>
                  <a:lnTo>
                    <a:pt x="29" y="456"/>
                  </a:lnTo>
                  <a:lnTo>
                    <a:pt x="26" y="455"/>
                  </a:lnTo>
                  <a:lnTo>
                    <a:pt x="22" y="454"/>
                  </a:lnTo>
                  <a:lnTo>
                    <a:pt x="18" y="452"/>
                  </a:lnTo>
                  <a:lnTo>
                    <a:pt x="15" y="451"/>
                  </a:lnTo>
                  <a:lnTo>
                    <a:pt x="13" y="450"/>
                  </a:lnTo>
                  <a:lnTo>
                    <a:pt x="11" y="449"/>
                  </a:lnTo>
                  <a:lnTo>
                    <a:pt x="8" y="448"/>
                  </a:lnTo>
                  <a:lnTo>
                    <a:pt x="6" y="447"/>
                  </a:lnTo>
                  <a:lnTo>
                    <a:pt x="5" y="445"/>
                  </a:lnTo>
                  <a:lnTo>
                    <a:pt x="4" y="443"/>
                  </a:lnTo>
                  <a:lnTo>
                    <a:pt x="3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6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6" y="11"/>
                  </a:lnTo>
                  <a:lnTo>
                    <a:pt x="133" y="10"/>
                  </a:lnTo>
                  <a:lnTo>
                    <a:pt x="142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7" y="3"/>
                  </a:lnTo>
                  <a:lnTo>
                    <a:pt x="175" y="2"/>
                  </a:lnTo>
                  <a:lnTo>
                    <a:pt x="183" y="2"/>
                  </a:lnTo>
                  <a:lnTo>
                    <a:pt x="190" y="1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30" y="1"/>
                  </a:lnTo>
                  <a:lnTo>
                    <a:pt x="250" y="2"/>
                  </a:lnTo>
                  <a:lnTo>
                    <a:pt x="269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7" y="29"/>
                  </a:lnTo>
                  <a:lnTo>
                    <a:pt x="353" y="38"/>
                  </a:lnTo>
                  <a:lnTo>
                    <a:pt x="367" y="46"/>
                  </a:lnTo>
                  <a:lnTo>
                    <a:pt x="379" y="56"/>
                  </a:lnTo>
                  <a:lnTo>
                    <a:pt x="389" y="65"/>
                  </a:lnTo>
                  <a:lnTo>
                    <a:pt x="398" y="75"/>
                  </a:lnTo>
                  <a:lnTo>
                    <a:pt x="405" y="86"/>
                  </a:lnTo>
                  <a:lnTo>
                    <a:pt x="409" y="96"/>
                  </a:lnTo>
                  <a:lnTo>
                    <a:pt x="413" y="107"/>
                  </a:lnTo>
                  <a:lnTo>
                    <a:pt x="413" y="117"/>
                  </a:lnTo>
                  <a:lnTo>
                    <a:pt x="413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0" y="173"/>
                  </a:lnTo>
                  <a:lnTo>
                    <a:pt x="383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3" y="217"/>
                  </a:lnTo>
                  <a:lnTo>
                    <a:pt x="332" y="225"/>
                  </a:lnTo>
                  <a:lnTo>
                    <a:pt x="322" y="232"/>
                  </a:lnTo>
                  <a:lnTo>
                    <a:pt x="311" y="237"/>
                  </a:lnTo>
                  <a:lnTo>
                    <a:pt x="300" y="243"/>
                  </a:lnTo>
                  <a:lnTo>
                    <a:pt x="289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50" y="265"/>
                  </a:lnTo>
                  <a:lnTo>
                    <a:pt x="247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3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7" y="425"/>
                  </a:lnTo>
                  <a:lnTo>
                    <a:pt x="399" y="430"/>
                  </a:lnTo>
                  <a:lnTo>
                    <a:pt x="400" y="434"/>
                  </a:lnTo>
                  <a:lnTo>
                    <a:pt x="400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8" y="440"/>
                  </a:lnTo>
                  <a:lnTo>
                    <a:pt x="397" y="441"/>
                  </a:lnTo>
                  <a:lnTo>
                    <a:pt x="396" y="443"/>
                  </a:lnTo>
                  <a:lnTo>
                    <a:pt x="395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8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5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50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1" y="457"/>
                  </a:lnTo>
                  <a:lnTo>
                    <a:pt x="314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2" y="440"/>
                  </a:lnTo>
                  <a:lnTo>
                    <a:pt x="279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70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0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2" y="111"/>
                  </a:lnTo>
                  <a:lnTo>
                    <a:pt x="293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2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8" y="66"/>
                  </a:lnTo>
                  <a:lnTo>
                    <a:pt x="209" y="66"/>
                  </a:lnTo>
                  <a:lnTo>
                    <a:pt x="202" y="67"/>
                  </a:lnTo>
                  <a:lnTo>
                    <a:pt x="194" y="67"/>
                  </a:lnTo>
                  <a:lnTo>
                    <a:pt x="185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1" y="74"/>
                  </a:lnTo>
                  <a:lnTo>
                    <a:pt x="144" y="75"/>
                  </a:lnTo>
                  <a:lnTo>
                    <a:pt x="140" y="77"/>
                  </a:lnTo>
                  <a:lnTo>
                    <a:pt x="134" y="78"/>
                  </a:lnTo>
                  <a:lnTo>
                    <a:pt x="130" y="79"/>
                  </a:lnTo>
                  <a:lnTo>
                    <a:pt x="126" y="82"/>
                  </a:lnTo>
                  <a:lnTo>
                    <a:pt x="122" y="84"/>
                  </a:lnTo>
                  <a:lnTo>
                    <a:pt x="119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2" y="96"/>
                  </a:lnTo>
                  <a:lnTo>
                    <a:pt x="111" y="99"/>
                  </a:lnTo>
                  <a:lnTo>
                    <a:pt x="110" y="104"/>
                  </a:lnTo>
                  <a:lnTo>
                    <a:pt x="110" y="108"/>
                  </a:lnTo>
                  <a:lnTo>
                    <a:pt x="110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39280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6" h="487">
                  <a:moveTo>
                    <a:pt x="247" y="340"/>
                  </a:moveTo>
                  <a:lnTo>
                    <a:pt x="153" y="347"/>
                  </a:lnTo>
                  <a:lnTo>
                    <a:pt x="151" y="347"/>
                  </a:lnTo>
                  <a:lnTo>
                    <a:pt x="148" y="350"/>
                  </a:lnTo>
                  <a:lnTo>
                    <a:pt x="145" y="354"/>
                  </a:lnTo>
                  <a:lnTo>
                    <a:pt x="142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4" y="400"/>
                  </a:lnTo>
                  <a:lnTo>
                    <a:pt x="119" y="412"/>
                  </a:lnTo>
                  <a:lnTo>
                    <a:pt x="115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5" y="449"/>
                  </a:lnTo>
                  <a:lnTo>
                    <a:pt x="102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9" y="467"/>
                  </a:lnTo>
                  <a:lnTo>
                    <a:pt x="98" y="469"/>
                  </a:lnTo>
                  <a:lnTo>
                    <a:pt x="97" y="471"/>
                  </a:lnTo>
                  <a:lnTo>
                    <a:pt x="96" y="475"/>
                  </a:lnTo>
                  <a:lnTo>
                    <a:pt x="95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90" y="481"/>
                  </a:lnTo>
                  <a:lnTo>
                    <a:pt x="88" y="482"/>
                  </a:lnTo>
                  <a:lnTo>
                    <a:pt x="86" y="483"/>
                  </a:lnTo>
                  <a:lnTo>
                    <a:pt x="84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70" y="487"/>
                  </a:lnTo>
                  <a:lnTo>
                    <a:pt x="66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7" y="486"/>
                  </a:lnTo>
                  <a:lnTo>
                    <a:pt x="42" y="486"/>
                  </a:lnTo>
                  <a:lnTo>
                    <a:pt x="36" y="484"/>
                  </a:lnTo>
                  <a:lnTo>
                    <a:pt x="31" y="483"/>
                  </a:lnTo>
                  <a:lnTo>
                    <a:pt x="25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2" y="478"/>
                  </a:lnTo>
                  <a:lnTo>
                    <a:pt x="7" y="476"/>
                  </a:lnTo>
                  <a:lnTo>
                    <a:pt x="5" y="473"/>
                  </a:lnTo>
                  <a:lnTo>
                    <a:pt x="3" y="471"/>
                  </a:lnTo>
                  <a:lnTo>
                    <a:pt x="2" y="468"/>
                  </a:lnTo>
                  <a:lnTo>
                    <a:pt x="1" y="466"/>
                  </a:lnTo>
                  <a:lnTo>
                    <a:pt x="0" y="462"/>
                  </a:lnTo>
                  <a:lnTo>
                    <a:pt x="1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7" y="426"/>
                  </a:lnTo>
                  <a:lnTo>
                    <a:pt x="12" y="413"/>
                  </a:lnTo>
                  <a:lnTo>
                    <a:pt x="16" y="398"/>
                  </a:lnTo>
                  <a:lnTo>
                    <a:pt x="23" y="382"/>
                  </a:lnTo>
                  <a:lnTo>
                    <a:pt x="29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3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8" y="216"/>
                  </a:lnTo>
                  <a:lnTo>
                    <a:pt x="97" y="193"/>
                  </a:lnTo>
                  <a:lnTo>
                    <a:pt x="107" y="171"/>
                  </a:lnTo>
                  <a:lnTo>
                    <a:pt x="116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9" y="96"/>
                  </a:lnTo>
                  <a:lnTo>
                    <a:pt x="145" y="81"/>
                  </a:lnTo>
                  <a:lnTo>
                    <a:pt x="151" y="67"/>
                  </a:lnTo>
                  <a:lnTo>
                    <a:pt x="156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70" y="27"/>
                  </a:lnTo>
                  <a:lnTo>
                    <a:pt x="173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80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4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5" y="1"/>
                  </a:lnTo>
                  <a:lnTo>
                    <a:pt x="219" y="1"/>
                  </a:lnTo>
                  <a:lnTo>
                    <a:pt x="226" y="2"/>
                  </a:lnTo>
                  <a:lnTo>
                    <a:pt x="233" y="3"/>
                  </a:lnTo>
                  <a:lnTo>
                    <a:pt x="239" y="4"/>
                  </a:lnTo>
                  <a:lnTo>
                    <a:pt x="246" y="6"/>
                  </a:lnTo>
                  <a:lnTo>
                    <a:pt x="254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3" y="10"/>
                  </a:lnTo>
                  <a:lnTo>
                    <a:pt x="280" y="10"/>
                  </a:lnTo>
                  <a:lnTo>
                    <a:pt x="287" y="11"/>
                  </a:lnTo>
                  <a:lnTo>
                    <a:pt x="292" y="12"/>
                  </a:lnTo>
                  <a:lnTo>
                    <a:pt x="299" y="12"/>
                  </a:lnTo>
                  <a:lnTo>
                    <a:pt x="304" y="13"/>
                  </a:lnTo>
                  <a:lnTo>
                    <a:pt x="309" y="14"/>
                  </a:lnTo>
                  <a:lnTo>
                    <a:pt x="313" y="15"/>
                  </a:lnTo>
                  <a:lnTo>
                    <a:pt x="317" y="17"/>
                  </a:lnTo>
                  <a:lnTo>
                    <a:pt x="320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6" y="22"/>
                  </a:lnTo>
                  <a:lnTo>
                    <a:pt x="328" y="24"/>
                  </a:lnTo>
                  <a:lnTo>
                    <a:pt x="330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5" y="42"/>
                  </a:lnTo>
                  <a:lnTo>
                    <a:pt x="336" y="47"/>
                  </a:lnTo>
                  <a:lnTo>
                    <a:pt x="339" y="57"/>
                  </a:lnTo>
                  <a:lnTo>
                    <a:pt x="342" y="70"/>
                  </a:lnTo>
                  <a:lnTo>
                    <a:pt x="345" y="86"/>
                  </a:lnTo>
                  <a:lnTo>
                    <a:pt x="350" y="106"/>
                  </a:lnTo>
                  <a:lnTo>
                    <a:pt x="355" y="129"/>
                  </a:lnTo>
                  <a:lnTo>
                    <a:pt x="362" y="156"/>
                  </a:lnTo>
                  <a:lnTo>
                    <a:pt x="368" y="185"/>
                  </a:lnTo>
                  <a:lnTo>
                    <a:pt x="376" y="216"/>
                  </a:lnTo>
                  <a:lnTo>
                    <a:pt x="383" y="245"/>
                  </a:lnTo>
                  <a:lnTo>
                    <a:pt x="388" y="272"/>
                  </a:lnTo>
                  <a:lnTo>
                    <a:pt x="395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1" y="372"/>
                  </a:lnTo>
                  <a:lnTo>
                    <a:pt x="415" y="386"/>
                  </a:lnTo>
                  <a:lnTo>
                    <a:pt x="418" y="398"/>
                  </a:lnTo>
                  <a:lnTo>
                    <a:pt x="420" y="408"/>
                  </a:lnTo>
                  <a:lnTo>
                    <a:pt x="423" y="417"/>
                  </a:lnTo>
                  <a:lnTo>
                    <a:pt x="424" y="425"/>
                  </a:lnTo>
                  <a:lnTo>
                    <a:pt x="425" y="430"/>
                  </a:lnTo>
                  <a:lnTo>
                    <a:pt x="425" y="434"/>
                  </a:lnTo>
                  <a:lnTo>
                    <a:pt x="426" y="436"/>
                  </a:lnTo>
                  <a:lnTo>
                    <a:pt x="425" y="440"/>
                  </a:lnTo>
                  <a:lnTo>
                    <a:pt x="423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6" y="452"/>
                  </a:lnTo>
                  <a:lnTo>
                    <a:pt x="397" y="454"/>
                  </a:lnTo>
                  <a:lnTo>
                    <a:pt x="386" y="455"/>
                  </a:lnTo>
                  <a:lnTo>
                    <a:pt x="375" y="455"/>
                  </a:lnTo>
                  <a:lnTo>
                    <a:pt x="366" y="455"/>
                  </a:lnTo>
                  <a:lnTo>
                    <a:pt x="358" y="454"/>
                  </a:lnTo>
                  <a:lnTo>
                    <a:pt x="352" y="452"/>
                  </a:lnTo>
                  <a:lnTo>
                    <a:pt x="346" y="450"/>
                  </a:lnTo>
                  <a:lnTo>
                    <a:pt x="341" y="448"/>
                  </a:lnTo>
                  <a:lnTo>
                    <a:pt x="335" y="445"/>
                  </a:lnTo>
                  <a:lnTo>
                    <a:pt x="332" y="441"/>
                  </a:lnTo>
                  <a:lnTo>
                    <a:pt x="329" y="437"/>
                  </a:lnTo>
                  <a:lnTo>
                    <a:pt x="325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7" y="417"/>
                  </a:lnTo>
                  <a:lnTo>
                    <a:pt x="313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1" y="385"/>
                  </a:lnTo>
                  <a:lnTo>
                    <a:pt x="298" y="380"/>
                  </a:lnTo>
                  <a:lnTo>
                    <a:pt x="296" y="373"/>
                  </a:lnTo>
                  <a:lnTo>
                    <a:pt x="293" y="369"/>
                  </a:lnTo>
                  <a:lnTo>
                    <a:pt x="291" y="363"/>
                  </a:lnTo>
                  <a:lnTo>
                    <a:pt x="289" y="359"/>
                  </a:lnTo>
                  <a:lnTo>
                    <a:pt x="288" y="355"/>
                  </a:lnTo>
                  <a:lnTo>
                    <a:pt x="287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2" y="343"/>
                  </a:lnTo>
                  <a:lnTo>
                    <a:pt x="280" y="341"/>
                  </a:lnTo>
                  <a:lnTo>
                    <a:pt x="279" y="340"/>
                  </a:lnTo>
                  <a:lnTo>
                    <a:pt x="277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7" y="340"/>
                  </a:lnTo>
                  <a:close/>
                  <a:moveTo>
                    <a:pt x="182" y="268"/>
                  </a:moveTo>
                  <a:lnTo>
                    <a:pt x="181" y="269"/>
                  </a:lnTo>
                  <a:lnTo>
                    <a:pt x="181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80" y="275"/>
                  </a:lnTo>
                  <a:lnTo>
                    <a:pt x="180" y="276"/>
                  </a:lnTo>
                  <a:lnTo>
                    <a:pt x="180" y="276"/>
                  </a:lnTo>
                  <a:lnTo>
                    <a:pt x="180" y="277"/>
                  </a:lnTo>
                  <a:lnTo>
                    <a:pt x="180" y="277"/>
                  </a:lnTo>
                  <a:lnTo>
                    <a:pt x="181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6" y="280"/>
                  </a:lnTo>
                  <a:lnTo>
                    <a:pt x="247" y="267"/>
                  </a:lnTo>
                  <a:lnTo>
                    <a:pt x="251" y="267"/>
                  </a:lnTo>
                  <a:lnTo>
                    <a:pt x="255" y="267"/>
                  </a:lnTo>
                  <a:lnTo>
                    <a:pt x="258" y="267"/>
                  </a:lnTo>
                  <a:lnTo>
                    <a:pt x="260" y="267"/>
                  </a:lnTo>
                  <a:lnTo>
                    <a:pt x="264" y="267"/>
                  </a:lnTo>
                  <a:lnTo>
                    <a:pt x="265" y="266"/>
                  </a:lnTo>
                  <a:lnTo>
                    <a:pt x="267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1" y="265"/>
                  </a:lnTo>
                  <a:lnTo>
                    <a:pt x="271" y="265"/>
                  </a:lnTo>
                  <a:lnTo>
                    <a:pt x="272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2" y="225"/>
                  </a:lnTo>
                  <a:lnTo>
                    <a:pt x="259" y="213"/>
                  </a:lnTo>
                  <a:lnTo>
                    <a:pt x="256" y="199"/>
                  </a:lnTo>
                  <a:lnTo>
                    <a:pt x="251" y="184"/>
                  </a:lnTo>
                  <a:lnTo>
                    <a:pt x="248" y="171"/>
                  </a:lnTo>
                  <a:lnTo>
                    <a:pt x="245" y="160"/>
                  </a:lnTo>
                  <a:lnTo>
                    <a:pt x="243" y="150"/>
                  </a:lnTo>
                  <a:lnTo>
                    <a:pt x="240" y="143"/>
                  </a:lnTo>
                  <a:lnTo>
                    <a:pt x="239" y="137"/>
                  </a:lnTo>
                  <a:lnTo>
                    <a:pt x="238" y="134"/>
                  </a:lnTo>
                  <a:lnTo>
                    <a:pt x="238" y="130"/>
                  </a:lnTo>
                  <a:lnTo>
                    <a:pt x="236" y="134"/>
                  </a:lnTo>
                  <a:lnTo>
                    <a:pt x="234" y="139"/>
                  </a:lnTo>
                  <a:lnTo>
                    <a:pt x="230" y="146"/>
                  </a:lnTo>
                  <a:lnTo>
                    <a:pt x="227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7" y="226"/>
                  </a:lnTo>
                  <a:lnTo>
                    <a:pt x="193" y="237"/>
                  </a:lnTo>
                  <a:lnTo>
                    <a:pt x="190" y="246"/>
                  </a:lnTo>
                  <a:lnTo>
                    <a:pt x="186" y="254"/>
                  </a:lnTo>
                  <a:lnTo>
                    <a:pt x="184" y="260"/>
                  </a:lnTo>
                  <a:lnTo>
                    <a:pt x="182" y="265"/>
                  </a:lnTo>
                  <a:lnTo>
                    <a:pt x="182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8972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9" h="475">
                  <a:moveTo>
                    <a:pt x="116" y="448"/>
                  </a:moveTo>
                  <a:lnTo>
                    <a:pt x="115" y="454"/>
                  </a:lnTo>
                  <a:lnTo>
                    <a:pt x="114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8" y="471"/>
                  </a:lnTo>
                  <a:lnTo>
                    <a:pt x="103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5" y="471"/>
                  </a:lnTo>
                  <a:lnTo>
                    <a:pt x="56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5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2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8" y="11"/>
                  </a:lnTo>
                  <a:lnTo>
                    <a:pt x="111" y="13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19" y="20"/>
                  </a:lnTo>
                  <a:lnTo>
                    <a:pt x="119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73600" y="2293920"/>
              <a:ext cx="155880" cy="188280"/>
            </a:xfrm>
            <a:custGeom>
              <a:avLst/>
              <a:gdLst/>
              <a:ahLst/>
              <a:rect l="l" t="t" r="r" b="b"/>
              <a:pathLst>
                <a:path w="388" h="477">
                  <a:moveTo>
                    <a:pt x="250" y="423"/>
                  </a:moveTo>
                  <a:lnTo>
                    <a:pt x="241" y="429"/>
                  </a:lnTo>
                  <a:lnTo>
                    <a:pt x="233" y="435"/>
                  </a:lnTo>
                  <a:lnTo>
                    <a:pt x="223" y="439"/>
                  </a:lnTo>
                  <a:lnTo>
                    <a:pt x="214" y="445"/>
                  </a:lnTo>
                  <a:lnTo>
                    <a:pt x="205" y="449"/>
                  </a:lnTo>
                  <a:lnTo>
                    <a:pt x="195" y="454"/>
                  </a:lnTo>
                  <a:lnTo>
                    <a:pt x="186" y="458"/>
                  </a:lnTo>
                  <a:lnTo>
                    <a:pt x="176" y="462"/>
                  </a:lnTo>
                  <a:lnTo>
                    <a:pt x="166" y="466"/>
                  </a:lnTo>
                  <a:lnTo>
                    <a:pt x="158" y="469"/>
                  </a:lnTo>
                  <a:lnTo>
                    <a:pt x="149" y="471"/>
                  </a:lnTo>
                  <a:lnTo>
                    <a:pt x="141" y="474"/>
                  </a:lnTo>
                  <a:lnTo>
                    <a:pt x="133" y="476"/>
                  </a:lnTo>
                  <a:lnTo>
                    <a:pt x="127" y="477"/>
                  </a:lnTo>
                  <a:lnTo>
                    <a:pt x="119" y="477"/>
                  </a:lnTo>
                  <a:lnTo>
                    <a:pt x="112" y="477"/>
                  </a:lnTo>
                  <a:lnTo>
                    <a:pt x="108" y="477"/>
                  </a:lnTo>
                  <a:lnTo>
                    <a:pt x="103" y="477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4"/>
                  </a:lnTo>
                  <a:lnTo>
                    <a:pt x="75" y="471"/>
                  </a:lnTo>
                  <a:lnTo>
                    <a:pt x="66" y="469"/>
                  </a:lnTo>
                  <a:lnTo>
                    <a:pt x="57" y="466"/>
                  </a:lnTo>
                  <a:lnTo>
                    <a:pt x="47" y="464"/>
                  </a:lnTo>
                  <a:lnTo>
                    <a:pt x="39" y="461"/>
                  </a:lnTo>
                  <a:lnTo>
                    <a:pt x="32" y="458"/>
                  </a:lnTo>
                  <a:lnTo>
                    <a:pt x="25" y="456"/>
                  </a:lnTo>
                  <a:lnTo>
                    <a:pt x="20" y="454"/>
                  </a:lnTo>
                  <a:lnTo>
                    <a:pt x="15" y="451"/>
                  </a:lnTo>
                  <a:lnTo>
                    <a:pt x="11" y="449"/>
                  </a:lnTo>
                  <a:lnTo>
                    <a:pt x="8" y="447"/>
                  </a:lnTo>
                  <a:lnTo>
                    <a:pt x="6" y="445"/>
                  </a:lnTo>
                  <a:lnTo>
                    <a:pt x="4" y="442"/>
                  </a:lnTo>
                  <a:lnTo>
                    <a:pt x="3" y="438"/>
                  </a:lnTo>
                  <a:lnTo>
                    <a:pt x="2" y="434"/>
                  </a:lnTo>
                  <a:lnTo>
                    <a:pt x="1" y="428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7" y="18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1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2" y="3"/>
                  </a:lnTo>
                  <a:lnTo>
                    <a:pt x="153" y="6"/>
                  </a:lnTo>
                  <a:lnTo>
                    <a:pt x="173" y="9"/>
                  </a:lnTo>
                  <a:lnTo>
                    <a:pt x="192" y="13"/>
                  </a:lnTo>
                  <a:lnTo>
                    <a:pt x="209" y="19"/>
                  </a:lnTo>
                  <a:lnTo>
                    <a:pt x="226" y="24"/>
                  </a:lnTo>
                  <a:lnTo>
                    <a:pt x="241" y="30"/>
                  </a:lnTo>
                  <a:lnTo>
                    <a:pt x="256" y="37"/>
                  </a:lnTo>
                  <a:lnTo>
                    <a:pt x="269" y="43"/>
                  </a:lnTo>
                  <a:lnTo>
                    <a:pt x="282" y="51"/>
                  </a:lnTo>
                  <a:lnTo>
                    <a:pt x="293" y="57"/>
                  </a:lnTo>
                  <a:lnTo>
                    <a:pt x="304" y="65"/>
                  </a:lnTo>
                  <a:lnTo>
                    <a:pt x="314" y="73"/>
                  </a:lnTo>
                  <a:lnTo>
                    <a:pt x="323" y="82"/>
                  </a:lnTo>
                  <a:lnTo>
                    <a:pt x="331" y="89"/>
                  </a:lnTo>
                  <a:lnTo>
                    <a:pt x="339" y="98"/>
                  </a:lnTo>
                  <a:lnTo>
                    <a:pt x="346" y="107"/>
                  </a:lnTo>
                  <a:lnTo>
                    <a:pt x="352" y="115"/>
                  </a:lnTo>
                  <a:lnTo>
                    <a:pt x="358" y="124"/>
                  </a:lnTo>
                  <a:lnTo>
                    <a:pt x="364" y="133"/>
                  </a:lnTo>
                  <a:lnTo>
                    <a:pt x="368" y="141"/>
                  </a:lnTo>
                  <a:lnTo>
                    <a:pt x="373" y="150"/>
                  </a:lnTo>
                  <a:lnTo>
                    <a:pt x="376" y="159"/>
                  </a:lnTo>
                  <a:lnTo>
                    <a:pt x="379" y="168"/>
                  </a:lnTo>
                  <a:lnTo>
                    <a:pt x="382" y="177"/>
                  </a:lnTo>
                  <a:lnTo>
                    <a:pt x="384" y="185"/>
                  </a:lnTo>
                  <a:lnTo>
                    <a:pt x="386" y="193"/>
                  </a:lnTo>
                  <a:lnTo>
                    <a:pt x="387" y="202"/>
                  </a:lnTo>
                  <a:lnTo>
                    <a:pt x="388" y="211"/>
                  </a:lnTo>
                  <a:lnTo>
                    <a:pt x="388" y="220"/>
                  </a:lnTo>
                  <a:lnTo>
                    <a:pt x="388" y="233"/>
                  </a:lnTo>
                  <a:lnTo>
                    <a:pt x="386" y="246"/>
                  </a:lnTo>
                  <a:lnTo>
                    <a:pt x="383" y="259"/>
                  </a:lnTo>
                  <a:lnTo>
                    <a:pt x="379" y="273"/>
                  </a:lnTo>
                  <a:lnTo>
                    <a:pt x="374" y="286"/>
                  </a:lnTo>
                  <a:lnTo>
                    <a:pt x="368" y="299"/>
                  </a:lnTo>
                  <a:lnTo>
                    <a:pt x="361" y="312"/>
                  </a:lnTo>
                  <a:lnTo>
                    <a:pt x="352" y="327"/>
                  </a:lnTo>
                  <a:lnTo>
                    <a:pt x="343" y="340"/>
                  </a:lnTo>
                  <a:lnTo>
                    <a:pt x="332" y="352"/>
                  </a:lnTo>
                  <a:lnTo>
                    <a:pt x="321" y="365"/>
                  </a:lnTo>
                  <a:lnTo>
                    <a:pt x="309" y="378"/>
                  </a:lnTo>
                  <a:lnTo>
                    <a:pt x="296" y="390"/>
                  </a:lnTo>
                  <a:lnTo>
                    <a:pt x="281" y="401"/>
                  </a:lnTo>
                  <a:lnTo>
                    <a:pt x="267" y="412"/>
                  </a:lnTo>
                  <a:lnTo>
                    <a:pt x="250" y="423"/>
                  </a:lnTo>
                  <a:close/>
                  <a:moveTo>
                    <a:pt x="134" y="59"/>
                  </a:moveTo>
                  <a:lnTo>
                    <a:pt x="131" y="59"/>
                  </a:lnTo>
                  <a:lnTo>
                    <a:pt x="129" y="59"/>
                  </a:lnTo>
                  <a:lnTo>
                    <a:pt x="126" y="60"/>
                  </a:lnTo>
                  <a:lnTo>
                    <a:pt x="123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118" y="63"/>
                  </a:lnTo>
                  <a:lnTo>
                    <a:pt x="117" y="64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4" y="70"/>
                  </a:lnTo>
                  <a:lnTo>
                    <a:pt x="113" y="73"/>
                  </a:lnTo>
                  <a:lnTo>
                    <a:pt x="113" y="76"/>
                  </a:lnTo>
                  <a:lnTo>
                    <a:pt x="113" y="80"/>
                  </a:lnTo>
                  <a:lnTo>
                    <a:pt x="113" y="84"/>
                  </a:lnTo>
                  <a:lnTo>
                    <a:pt x="112" y="88"/>
                  </a:lnTo>
                  <a:lnTo>
                    <a:pt x="112" y="97"/>
                  </a:lnTo>
                  <a:lnTo>
                    <a:pt x="112" y="107"/>
                  </a:lnTo>
                  <a:lnTo>
                    <a:pt x="112" y="116"/>
                  </a:lnTo>
                  <a:lnTo>
                    <a:pt x="111" y="126"/>
                  </a:lnTo>
                  <a:lnTo>
                    <a:pt x="111" y="136"/>
                  </a:lnTo>
                  <a:lnTo>
                    <a:pt x="111" y="146"/>
                  </a:lnTo>
                  <a:lnTo>
                    <a:pt x="111" y="157"/>
                  </a:lnTo>
                  <a:lnTo>
                    <a:pt x="111" y="167"/>
                  </a:lnTo>
                  <a:lnTo>
                    <a:pt x="111" y="178"/>
                  </a:lnTo>
                  <a:lnTo>
                    <a:pt x="110" y="189"/>
                  </a:lnTo>
                  <a:lnTo>
                    <a:pt x="110" y="200"/>
                  </a:lnTo>
                  <a:lnTo>
                    <a:pt x="110" y="212"/>
                  </a:lnTo>
                  <a:lnTo>
                    <a:pt x="110" y="223"/>
                  </a:lnTo>
                  <a:lnTo>
                    <a:pt x="110" y="234"/>
                  </a:lnTo>
                  <a:lnTo>
                    <a:pt x="110" y="246"/>
                  </a:lnTo>
                  <a:lnTo>
                    <a:pt x="110" y="258"/>
                  </a:lnTo>
                  <a:lnTo>
                    <a:pt x="110" y="265"/>
                  </a:lnTo>
                  <a:lnTo>
                    <a:pt x="110" y="273"/>
                  </a:lnTo>
                  <a:lnTo>
                    <a:pt x="110" y="280"/>
                  </a:lnTo>
                  <a:lnTo>
                    <a:pt x="110" y="287"/>
                  </a:lnTo>
                  <a:lnTo>
                    <a:pt x="110" y="295"/>
                  </a:lnTo>
                  <a:lnTo>
                    <a:pt x="110" y="301"/>
                  </a:lnTo>
                  <a:lnTo>
                    <a:pt x="110" y="308"/>
                  </a:lnTo>
                  <a:lnTo>
                    <a:pt x="110" y="315"/>
                  </a:lnTo>
                  <a:lnTo>
                    <a:pt x="111" y="321"/>
                  </a:lnTo>
                  <a:lnTo>
                    <a:pt x="111" y="327"/>
                  </a:lnTo>
                  <a:lnTo>
                    <a:pt x="111" y="332"/>
                  </a:lnTo>
                  <a:lnTo>
                    <a:pt x="111" y="337"/>
                  </a:lnTo>
                  <a:lnTo>
                    <a:pt x="111" y="341"/>
                  </a:lnTo>
                  <a:lnTo>
                    <a:pt x="112" y="346"/>
                  </a:lnTo>
                  <a:lnTo>
                    <a:pt x="112" y="349"/>
                  </a:lnTo>
                  <a:lnTo>
                    <a:pt x="112" y="352"/>
                  </a:lnTo>
                  <a:lnTo>
                    <a:pt x="112" y="353"/>
                  </a:lnTo>
                  <a:lnTo>
                    <a:pt x="112" y="354"/>
                  </a:lnTo>
                  <a:lnTo>
                    <a:pt x="112" y="355"/>
                  </a:lnTo>
                  <a:lnTo>
                    <a:pt x="112" y="357"/>
                  </a:lnTo>
                  <a:lnTo>
                    <a:pt x="112" y="358"/>
                  </a:lnTo>
                  <a:lnTo>
                    <a:pt x="112" y="358"/>
                  </a:lnTo>
                  <a:lnTo>
                    <a:pt x="112" y="359"/>
                  </a:lnTo>
                  <a:lnTo>
                    <a:pt x="112" y="360"/>
                  </a:lnTo>
                  <a:lnTo>
                    <a:pt x="113" y="364"/>
                  </a:lnTo>
                  <a:lnTo>
                    <a:pt x="113" y="369"/>
                  </a:lnTo>
                  <a:lnTo>
                    <a:pt x="113" y="372"/>
                  </a:lnTo>
                  <a:lnTo>
                    <a:pt x="113" y="376"/>
                  </a:lnTo>
                  <a:lnTo>
                    <a:pt x="113" y="380"/>
                  </a:lnTo>
                  <a:lnTo>
                    <a:pt x="113" y="383"/>
                  </a:lnTo>
                  <a:lnTo>
                    <a:pt x="114" y="386"/>
                  </a:lnTo>
                  <a:lnTo>
                    <a:pt x="114" y="389"/>
                  </a:lnTo>
                  <a:lnTo>
                    <a:pt x="116" y="391"/>
                  </a:lnTo>
                  <a:lnTo>
                    <a:pt x="116" y="393"/>
                  </a:lnTo>
                  <a:lnTo>
                    <a:pt x="117" y="395"/>
                  </a:lnTo>
                  <a:lnTo>
                    <a:pt x="118" y="396"/>
                  </a:lnTo>
                  <a:lnTo>
                    <a:pt x="119" y="397"/>
                  </a:lnTo>
                  <a:lnTo>
                    <a:pt x="120" y="398"/>
                  </a:lnTo>
                  <a:lnTo>
                    <a:pt x="121" y="398"/>
                  </a:lnTo>
                  <a:lnTo>
                    <a:pt x="123" y="400"/>
                  </a:lnTo>
                  <a:lnTo>
                    <a:pt x="124" y="398"/>
                  </a:lnTo>
                  <a:lnTo>
                    <a:pt x="127" y="398"/>
                  </a:lnTo>
                  <a:lnTo>
                    <a:pt x="129" y="397"/>
                  </a:lnTo>
                  <a:lnTo>
                    <a:pt x="131" y="396"/>
                  </a:lnTo>
                  <a:lnTo>
                    <a:pt x="134" y="394"/>
                  </a:lnTo>
                  <a:lnTo>
                    <a:pt x="138" y="392"/>
                  </a:lnTo>
                  <a:lnTo>
                    <a:pt x="142" y="389"/>
                  </a:lnTo>
                  <a:lnTo>
                    <a:pt x="146" y="386"/>
                  </a:lnTo>
                  <a:lnTo>
                    <a:pt x="151" y="382"/>
                  </a:lnTo>
                  <a:lnTo>
                    <a:pt x="155" y="379"/>
                  </a:lnTo>
                  <a:lnTo>
                    <a:pt x="161" y="374"/>
                  </a:lnTo>
                  <a:lnTo>
                    <a:pt x="166" y="370"/>
                  </a:lnTo>
                  <a:lnTo>
                    <a:pt x="172" y="364"/>
                  </a:lnTo>
                  <a:lnTo>
                    <a:pt x="177" y="359"/>
                  </a:lnTo>
                  <a:lnTo>
                    <a:pt x="184" y="352"/>
                  </a:lnTo>
                  <a:lnTo>
                    <a:pt x="191" y="346"/>
                  </a:lnTo>
                  <a:lnTo>
                    <a:pt x="197" y="339"/>
                  </a:lnTo>
                  <a:lnTo>
                    <a:pt x="204" y="332"/>
                  </a:lnTo>
                  <a:lnTo>
                    <a:pt x="209" y="326"/>
                  </a:lnTo>
                  <a:lnTo>
                    <a:pt x="216" y="318"/>
                  </a:lnTo>
                  <a:lnTo>
                    <a:pt x="222" y="310"/>
                  </a:lnTo>
                  <a:lnTo>
                    <a:pt x="227" y="304"/>
                  </a:lnTo>
                  <a:lnTo>
                    <a:pt x="233" y="296"/>
                  </a:lnTo>
                  <a:lnTo>
                    <a:pt x="238" y="288"/>
                  </a:lnTo>
                  <a:lnTo>
                    <a:pt x="244" y="279"/>
                  </a:lnTo>
                  <a:lnTo>
                    <a:pt x="248" y="272"/>
                  </a:lnTo>
                  <a:lnTo>
                    <a:pt x="251" y="262"/>
                  </a:lnTo>
                  <a:lnTo>
                    <a:pt x="255" y="252"/>
                  </a:lnTo>
                  <a:lnTo>
                    <a:pt x="257" y="242"/>
                  </a:lnTo>
                  <a:lnTo>
                    <a:pt x="258" y="231"/>
                  </a:lnTo>
                  <a:lnTo>
                    <a:pt x="259" y="220"/>
                  </a:lnTo>
                  <a:lnTo>
                    <a:pt x="260" y="208"/>
                  </a:lnTo>
                  <a:lnTo>
                    <a:pt x="259" y="195"/>
                  </a:lnTo>
                  <a:lnTo>
                    <a:pt x="258" y="183"/>
                  </a:lnTo>
                  <a:lnTo>
                    <a:pt x="256" y="171"/>
                  </a:lnTo>
                  <a:lnTo>
                    <a:pt x="251" y="159"/>
                  </a:lnTo>
                  <a:lnTo>
                    <a:pt x="247" y="147"/>
                  </a:lnTo>
                  <a:lnTo>
                    <a:pt x="241" y="135"/>
                  </a:lnTo>
                  <a:lnTo>
                    <a:pt x="235" y="123"/>
                  </a:lnTo>
                  <a:lnTo>
                    <a:pt x="227" y="109"/>
                  </a:lnTo>
                  <a:lnTo>
                    <a:pt x="219" y="97"/>
                  </a:lnTo>
                  <a:lnTo>
                    <a:pt x="209" y="87"/>
                  </a:lnTo>
                  <a:lnTo>
                    <a:pt x="199" y="78"/>
                  </a:lnTo>
                  <a:lnTo>
                    <a:pt x="188" y="72"/>
                  </a:lnTo>
                  <a:lnTo>
                    <a:pt x="176" y="66"/>
                  </a:lnTo>
                  <a:lnTo>
                    <a:pt x="163" y="62"/>
                  </a:lnTo>
                  <a:lnTo>
                    <a:pt x="150" y="60"/>
                  </a:lnTo>
                  <a:lnTo>
                    <a:pt x="134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43520" y="2298600"/>
              <a:ext cx="155520" cy="193320"/>
            </a:xfrm>
            <a:custGeom>
              <a:avLst/>
              <a:gdLst/>
              <a:ahLst/>
              <a:rect l="l" t="t" r="r" b="b"/>
              <a:pathLst>
                <a:path w="393" h="489">
                  <a:moveTo>
                    <a:pt x="154" y="145"/>
                  </a:moveTo>
                  <a:lnTo>
                    <a:pt x="155" y="152"/>
                  </a:lnTo>
                  <a:lnTo>
                    <a:pt x="158" y="161"/>
                  </a:lnTo>
                  <a:lnTo>
                    <a:pt x="162" y="169"/>
                  </a:lnTo>
                  <a:lnTo>
                    <a:pt x="169" y="177"/>
                  </a:lnTo>
                  <a:lnTo>
                    <a:pt x="176" y="185"/>
                  </a:lnTo>
                  <a:lnTo>
                    <a:pt x="186" y="194"/>
                  </a:lnTo>
                  <a:lnTo>
                    <a:pt x="199" y="203"/>
                  </a:lnTo>
                  <a:lnTo>
                    <a:pt x="212" y="212"/>
                  </a:lnTo>
                  <a:lnTo>
                    <a:pt x="226" y="221"/>
                  </a:lnTo>
                  <a:lnTo>
                    <a:pt x="239" y="230"/>
                  </a:lnTo>
                  <a:lnTo>
                    <a:pt x="254" y="238"/>
                  </a:lnTo>
                  <a:lnTo>
                    <a:pt x="268" y="247"/>
                  </a:lnTo>
                  <a:lnTo>
                    <a:pt x="281" y="256"/>
                  </a:lnTo>
                  <a:lnTo>
                    <a:pt x="296" y="265"/>
                  </a:lnTo>
                  <a:lnTo>
                    <a:pt x="309" y="274"/>
                  </a:lnTo>
                  <a:lnTo>
                    <a:pt x="323" y="281"/>
                  </a:lnTo>
                  <a:lnTo>
                    <a:pt x="337" y="294"/>
                  </a:lnTo>
                  <a:lnTo>
                    <a:pt x="349" y="305"/>
                  </a:lnTo>
                  <a:lnTo>
                    <a:pt x="360" y="317"/>
                  </a:lnTo>
                  <a:lnTo>
                    <a:pt x="367" y="329"/>
                  </a:lnTo>
                  <a:lnTo>
                    <a:pt x="374" y="341"/>
                  </a:lnTo>
                  <a:lnTo>
                    <a:pt x="380" y="352"/>
                  </a:lnTo>
                  <a:lnTo>
                    <a:pt x="382" y="364"/>
                  </a:lnTo>
                  <a:lnTo>
                    <a:pt x="383" y="376"/>
                  </a:lnTo>
                  <a:lnTo>
                    <a:pt x="382" y="384"/>
                  </a:lnTo>
                  <a:lnTo>
                    <a:pt x="381" y="392"/>
                  </a:lnTo>
                  <a:lnTo>
                    <a:pt x="377" y="401"/>
                  </a:lnTo>
                  <a:lnTo>
                    <a:pt x="373" y="408"/>
                  </a:lnTo>
                  <a:lnTo>
                    <a:pt x="366" y="418"/>
                  </a:lnTo>
                  <a:lnTo>
                    <a:pt x="360" y="427"/>
                  </a:lnTo>
                  <a:lnTo>
                    <a:pt x="351" y="437"/>
                  </a:lnTo>
                  <a:lnTo>
                    <a:pt x="341" y="447"/>
                  </a:lnTo>
                  <a:lnTo>
                    <a:pt x="330" y="457"/>
                  </a:lnTo>
                  <a:lnTo>
                    <a:pt x="319" y="466"/>
                  </a:lnTo>
                  <a:lnTo>
                    <a:pt x="306" y="473"/>
                  </a:lnTo>
                  <a:lnTo>
                    <a:pt x="293" y="479"/>
                  </a:lnTo>
                  <a:lnTo>
                    <a:pt x="279" y="483"/>
                  </a:lnTo>
                  <a:lnTo>
                    <a:pt x="265" y="487"/>
                  </a:lnTo>
                  <a:lnTo>
                    <a:pt x="250" y="489"/>
                  </a:lnTo>
                  <a:lnTo>
                    <a:pt x="234" y="489"/>
                  </a:lnTo>
                  <a:lnTo>
                    <a:pt x="214" y="489"/>
                  </a:lnTo>
                  <a:lnTo>
                    <a:pt x="194" y="487"/>
                  </a:lnTo>
                  <a:lnTo>
                    <a:pt x="174" y="483"/>
                  </a:lnTo>
                  <a:lnTo>
                    <a:pt x="155" y="478"/>
                  </a:lnTo>
                  <a:lnTo>
                    <a:pt x="136" y="471"/>
                  </a:lnTo>
                  <a:lnTo>
                    <a:pt x="116" y="464"/>
                  </a:lnTo>
                  <a:lnTo>
                    <a:pt x="96" y="455"/>
                  </a:lnTo>
                  <a:lnTo>
                    <a:pt x="77" y="444"/>
                  </a:lnTo>
                  <a:lnTo>
                    <a:pt x="58" y="433"/>
                  </a:lnTo>
                  <a:lnTo>
                    <a:pt x="43" y="422"/>
                  </a:lnTo>
                  <a:lnTo>
                    <a:pt x="30" y="412"/>
                  </a:lnTo>
                  <a:lnTo>
                    <a:pt x="19" y="402"/>
                  </a:lnTo>
                  <a:lnTo>
                    <a:pt x="10" y="394"/>
                  </a:lnTo>
                  <a:lnTo>
                    <a:pt x="4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1" y="355"/>
                  </a:lnTo>
                  <a:lnTo>
                    <a:pt x="1" y="352"/>
                  </a:lnTo>
                  <a:lnTo>
                    <a:pt x="2" y="349"/>
                  </a:lnTo>
                  <a:lnTo>
                    <a:pt x="3" y="345"/>
                  </a:lnTo>
                  <a:lnTo>
                    <a:pt x="4" y="343"/>
                  </a:lnTo>
                  <a:lnTo>
                    <a:pt x="5" y="340"/>
                  </a:lnTo>
                  <a:lnTo>
                    <a:pt x="8" y="338"/>
                  </a:lnTo>
                  <a:lnTo>
                    <a:pt x="10" y="337"/>
                  </a:lnTo>
                  <a:lnTo>
                    <a:pt x="13" y="334"/>
                  </a:lnTo>
                  <a:lnTo>
                    <a:pt x="16" y="333"/>
                  </a:lnTo>
                  <a:lnTo>
                    <a:pt x="20" y="333"/>
                  </a:lnTo>
                  <a:lnTo>
                    <a:pt x="24" y="333"/>
                  </a:lnTo>
                  <a:lnTo>
                    <a:pt x="30" y="333"/>
                  </a:lnTo>
                  <a:lnTo>
                    <a:pt x="36" y="336"/>
                  </a:lnTo>
                  <a:lnTo>
                    <a:pt x="44" y="339"/>
                  </a:lnTo>
                  <a:lnTo>
                    <a:pt x="54" y="342"/>
                  </a:lnTo>
                  <a:lnTo>
                    <a:pt x="64" y="348"/>
                  </a:lnTo>
                  <a:lnTo>
                    <a:pt x="76" y="354"/>
                  </a:lnTo>
                  <a:lnTo>
                    <a:pt x="88" y="362"/>
                  </a:lnTo>
                  <a:lnTo>
                    <a:pt x="102" y="370"/>
                  </a:lnTo>
                  <a:lnTo>
                    <a:pt x="118" y="379"/>
                  </a:lnTo>
                  <a:lnTo>
                    <a:pt x="131" y="386"/>
                  </a:lnTo>
                  <a:lnTo>
                    <a:pt x="146" y="393"/>
                  </a:lnTo>
                  <a:lnTo>
                    <a:pt x="158" y="398"/>
                  </a:lnTo>
                  <a:lnTo>
                    <a:pt x="171" y="402"/>
                  </a:lnTo>
                  <a:lnTo>
                    <a:pt x="183" y="405"/>
                  </a:lnTo>
                  <a:lnTo>
                    <a:pt x="194" y="407"/>
                  </a:lnTo>
                  <a:lnTo>
                    <a:pt x="205" y="407"/>
                  </a:lnTo>
                  <a:lnTo>
                    <a:pt x="215" y="407"/>
                  </a:lnTo>
                  <a:lnTo>
                    <a:pt x="224" y="405"/>
                  </a:lnTo>
                  <a:lnTo>
                    <a:pt x="232" y="403"/>
                  </a:lnTo>
                  <a:lnTo>
                    <a:pt x="237" y="400"/>
                  </a:lnTo>
                  <a:lnTo>
                    <a:pt x="242" y="395"/>
                  </a:lnTo>
                  <a:lnTo>
                    <a:pt x="245" y="388"/>
                  </a:lnTo>
                  <a:lnTo>
                    <a:pt x="247" y="382"/>
                  </a:lnTo>
                  <a:lnTo>
                    <a:pt x="248" y="374"/>
                  </a:lnTo>
                  <a:lnTo>
                    <a:pt x="247" y="365"/>
                  </a:lnTo>
                  <a:lnTo>
                    <a:pt x="245" y="355"/>
                  </a:lnTo>
                  <a:lnTo>
                    <a:pt x="240" y="345"/>
                  </a:lnTo>
                  <a:lnTo>
                    <a:pt x="235" y="337"/>
                  </a:lnTo>
                  <a:lnTo>
                    <a:pt x="227" y="327"/>
                  </a:lnTo>
                  <a:lnTo>
                    <a:pt x="218" y="318"/>
                  </a:lnTo>
                  <a:lnTo>
                    <a:pt x="207" y="308"/>
                  </a:lnTo>
                  <a:lnTo>
                    <a:pt x="195" y="299"/>
                  </a:lnTo>
                  <a:lnTo>
                    <a:pt x="183" y="291"/>
                  </a:lnTo>
                  <a:lnTo>
                    <a:pt x="170" y="284"/>
                  </a:lnTo>
                  <a:lnTo>
                    <a:pt x="158" y="275"/>
                  </a:lnTo>
                  <a:lnTo>
                    <a:pt x="146" y="267"/>
                  </a:lnTo>
                  <a:lnTo>
                    <a:pt x="133" y="259"/>
                  </a:lnTo>
                  <a:lnTo>
                    <a:pt x="121" y="252"/>
                  </a:lnTo>
                  <a:lnTo>
                    <a:pt x="109" y="243"/>
                  </a:lnTo>
                  <a:lnTo>
                    <a:pt x="96" y="235"/>
                  </a:lnTo>
                  <a:lnTo>
                    <a:pt x="84" y="225"/>
                  </a:lnTo>
                  <a:lnTo>
                    <a:pt x="73" y="214"/>
                  </a:lnTo>
                  <a:lnTo>
                    <a:pt x="64" y="203"/>
                  </a:lnTo>
                  <a:lnTo>
                    <a:pt x="56" y="191"/>
                  </a:lnTo>
                  <a:lnTo>
                    <a:pt x="51" y="180"/>
                  </a:lnTo>
                  <a:lnTo>
                    <a:pt x="46" y="168"/>
                  </a:lnTo>
                  <a:lnTo>
                    <a:pt x="44" y="156"/>
                  </a:lnTo>
                  <a:lnTo>
                    <a:pt x="43" y="143"/>
                  </a:lnTo>
                  <a:lnTo>
                    <a:pt x="44" y="132"/>
                  </a:lnTo>
                  <a:lnTo>
                    <a:pt x="46" y="120"/>
                  </a:lnTo>
                  <a:lnTo>
                    <a:pt x="51" y="109"/>
                  </a:lnTo>
                  <a:lnTo>
                    <a:pt x="56" y="97"/>
                  </a:lnTo>
                  <a:lnTo>
                    <a:pt x="64" y="86"/>
                  </a:lnTo>
                  <a:lnTo>
                    <a:pt x="73" y="74"/>
                  </a:lnTo>
                  <a:lnTo>
                    <a:pt x="84" y="62"/>
                  </a:lnTo>
                  <a:lnTo>
                    <a:pt x="96" y="50"/>
                  </a:lnTo>
                  <a:lnTo>
                    <a:pt x="110" y="38"/>
                  </a:lnTo>
                  <a:lnTo>
                    <a:pt x="125" y="28"/>
                  </a:lnTo>
                  <a:lnTo>
                    <a:pt x="139" y="19"/>
                  </a:lnTo>
                  <a:lnTo>
                    <a:pt x="153" y="12"/>
                  </a:lnTo>
                  <a:lnTo>
                    <a:pt x="169" y="7"/>
                  </a:lnTo>
                  <a:lnTo>
                    <a:pt x="185" y="3"/>
                  </a:lnTo>
                  <a:lnTo>
                    <a:pt x="202" y="1"/>
                  </a:lnTo>
                  <a:lnTo>
                    <a:pt x="218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6" y="1"/>
                  </a:lnTo>
                  <a:lnTo>
                    <a:pt x="240" y="2"/>
                  </a:lnTo>
                  <a:lnTo>
                    <a:pt x="246" y="2"/>
                  </a:lnTo>
                  <a:lnTo>
                    <a:pt x="250" y="4"/>
                  </a:lnTo>
                  <a:lnTo>
                    <a:pt x="255" y="6"/>
                  </a:lnTo>
                  <a:lnTo>
                    <a:pt x="258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1" y="12"/>
                  </a:lnTo>
                  <a:lnTo>
                    <a:pt x="277" y="15"/>
                  </a:lnTo>
                  <a:lnTo>
                    <a:pt x="282" y="18"/>
                  </a:lnTo>
                  <a:lnTo>
                    <a:pt x="289" y="20"/>
                  </a:lnTo>
                  <a:lnTo>
                    <a:pt x="296" y="23"/>
                  </a:lnTo>
                  <a:lnTo>
                    <a:pt x="303" y="25"/>
                  </a:lnTo>
                  <a:lnTo>
                    <a:pt x="311" y="29"/>
                  </a:lnTo>
                  <a:lnTo>
                    <a:pt x="319" y="33"/>
                  </a:lnTo>
                  <a:lnTo>
                    <a:pt x="327" y="36"/>
                  </a:lnTo>
                  <a:lnTo>
                    <a:pt x="333" y="41"/>
                  </a:lnTo>
                  <a:lnTo>
                    <a:pt x="341" y="46"/>
                  </a:lnTo>
                  <a:lnTo>
                    <a:pt x="349" y="52"/>
                  </a:lnTo>
                  <a:lnTo>
                    <a:pt x="356" y="57"/>
                  </a:lnTo>
                  <a:lnTo>
                    <a:pt x="363" y="63"/>
                  </a:lnTo>
                  <a:lnTo>
                    <a:pt x="371" y="70"/>
                  </a:lnTo>
                  <a:lnTo>
                    <a:pt x="376" y="76"/>
                  </a:lnTo>
                  <a:lnTo>
                    <a:pt x="382" y="83"/>
                  </a:lnTo>
                  <a:lnTo>
                    <a:pt x="386" y="91"/>
                  </a:lnTo>
                  <a:lnTo>
                    <a:pt x="388" y="97"/>
                  </a:lnTo>
                  <a:lnTo>
                    <a:pt x="392" y="105"/>
                  </a:lnTo>
                  <a:lnTo>
                    <a:pt x="393" y="111"/>
                  </a:lnTo>
                  <a:lnTo>
                    <a:pt x="393" y="119"/>
                  </a:lnTo>
                  <a:lnTo>
                    <a:pt x="393" y="126"/>
                  </a:lnTo>
                  <a:lnTo>
                    <a:pt x="393" y="131"/>
                  </a:lnTo>
                  <a:lnTo>
                    <a:pt x="392" y="137"/>
                  </a:lnTo>
                  <a:lnTo>
                    <a:pt x="391" y="142"/>
                  </a:lnTo>
                  <a:lnTo>
                    <a:pt x="388" y="148"/>
                  </a:lnTo>
                  <a:lnTo>
                    <a:pt x="387" y="152"/>
                  </a:lnTo>
                  <a:lnTo>
                    <a:pt x="385" y="158"/>
                  </a:lnTo>
                  <a:lnTo>
                    <a:pt x="382" y="162"/>
                  </a:lnTo>
                  <a:lnTo>
                    <a:pt x="380" y="166"/>
                  </a:lnTo>
                  <a:lnTo>
                    <a:pt x="376" y="169"/>
                  </a:lnTo>
                  <a:lnTo>
                    <a:pt x="373" y="172"/>
                  </a:lnTo>
                  <a:lnTo>
                    <a:pt x="370" y="174"/>
                  </a:lnTo>
                  <a:lnTo>
                    <a:pt x="365" y="177"/>
                  </a:lnTo>
                  <a:lnTo>
                    <a:pt x="362" y="178"/>
                  </a:lnTo>
                  <a:lnTo>
                    <a:pt x="358" y="179"/>
                  </a:lnTo>
                  <a:lnTo>
                    <a:pt x="353" y="179"/>
                  </a:lnTo>
                  <a:lnTo>
                    <a:pt x="351" y="179"/>
                  </a:lnTo>
                  <a:lnTo>
                    <a:pt x="349" y="179"/>
                  </a:lnTo>
                  <a:lnTo>
                    <a:pt x="346" y="178"/>
                  </a:lnTo>
                  <a:lnTo>
                    <a:pt x="344" y="178"/>
                  </a:lnTo>
                  <a:lnTo>
                    <a:pt x="341" y="177"/>
                  </a:lnTo>
                  <a:lnTo>
                    <a:pt x="338" y="175"/>
                  </a:lnTo>
                  <a:lnTo>
                    <a:pt x="335" y="175"/>
                  </a:lnTo>
                  <a:lnTo>
                    <a:pt x="332" y="174"/>
                  </a:lnTo>
                  <a:lnTo>
                    <a:pt x="328" y="173"/>
                  </a:lnTo>
                  <a:lnTo>
                    <a:pt x="324" y="172"/>
                  </a:lnTo>
                  <a:lnTo>
                    <a:pt x="321" y="171"/>
                  </a:lnTo>
                  <a:lnTo>
                    <a:pt x="318" y="170"/>
                  </a:lnTo>
                  <a:lnTo>
                    <a:pt x="313" y="169"/>
                  </a:lnTo>
                  <a:lnTo>
                    <a:pt x="309" y="169"/>
                  </a:lnTo>
                  <a:lnTo>
                    <a:pt x="306" y="168"/>
                  </a:lnTo>
                  <a:lnTo>
                    <a:pt x="301" y="167"/>
                  </a:lnTo>
                  <a:lnTo>
                    <a:pt x="297" y="167"/>
                  </a:lnTo>
                  <a:lnTo>
                    <a:pt x="293" y="166"/>
                  </a:lnTo>
                  <a:lnTo>
                    <a:pt x="290" y="166"/>
                  </a:lnTo>
                  <a:lnTo>
                    <a:pt x="287" y="164"/>
                  </a:lnTo>
                  <a:lnTo>
                    <a:pt x="284" y="164"/>
                  </a:lnTo>
                  <a:lnTo>
                    <a:pt x="281" y="163"/>
                  </a:lnTo>
                  <a:lnTo>
                    <a:pt x="279" y="162"/>
                  </a:lnTo>
                  <a:lnTo>
                    <a:pt x="277" y="162"/>
                  </a:lnTo>
                  <a:lnTo>
                    <a:pt x="276" y="161"/>
                  </a:lnTo>
                  <a:lnTo>
                    <a:pt x="274" y="160"/>
                  </a:lnTo>
                  <a:lnTo>
                    <a:pt x="271" y="159"/>
                  </a:lnTo>
                  <a:lnTo>
                    <a:pt x="269" y="157"/>
                  </a:lnTo>
                  <a:lnTo>
                    <a:pt x="267" y="155"/>
                  </a:lnTo>
                  <a:lnTo>
                    <a:pt x="265" y="153"/>
                  </a:lnTo>
                  <a:lnTo>
                    <a:pt x="263" y="150"/>
                  </a:lnTo>
                  <a:lnTo>
                    <a:pt x="259" y="148"/>
                  </a:lnTo>
                  <a:lnTo>
                    <a:pt x="257" y="145"/>
                  </a:lnTo>
                  <a:lnTo>
                    <a:pt x="255" y="142"/>
                  </a:lnTo>
                  <a:lnTo>
                    <a:pt x="253" y="139"/>
                  </a:lnTo>
                  <a:lnTo>
                    <a:pt x="252" y="136"/>
                  </a:lnTo>
                  <a:lnTo>
                    <a:pt x="249" y="132"/>
                  </a:lnTo>
                  <a:lnTo>
                    <a:pt x="248" y="129"/>
                  </a:lnTo>
                  <a:lnTo>
                    <a:pt x="247" y="125"/>
                  </a:lnTo>
                  <a:lnTo>
                    <a:pt x="247" y="121"/>
                  </a:lnTo>
                  <a:lnTo>
                    <a:pt x="246" y="117"/>
                  </a:lnTo>
                  <a:lnTo>
                    <a:pt x="246" y="114"/>
                  </a:lnTo>
                  <a:lnTo>
                    <a:pt x="245" y="109"/>
                  </a:lnTo>
                  <a:lnTo>
                    <a:pt x="245" y="106"/>
                  </a:lnTo>
                  <a:lnTo>
                    <a:pt x="244" y="103"/>
                  </a:lnTo>
                  <a:lnTo>
                    <a:pt x="244" y="99"/>
                  </a:lnTo>
                  <a:lnTo>
                    <a:pt x="244" y="95"/>
                  </a:lnTo>
                  <a:lnTo>
                    <a:pt x="244" y="92"/>
                  </a:lnTo>
                  <a:lnTo>
                    <a:pt x="244" y="91"/>
                  </a:lnTo>
                  <a:lnTo>
                    <a:pt x="244" y="89"/>
                  </a:lnTo>
                  <a:lnTo>
                    <a:pt x="244" y="88"/>
                  </a:lnTo>
                  <a:lnTo>
                    <a:pt x="243" y="87"/>
                  </a:lnTo>
                  <a:lnTo>
                    <a:pt x="243" y="86"/>
                  </a:lnTo>
                  <a:lnTo>
                    <a:pt x="242" y="85"/>
                  </a:lnTo>
                  <a:lnTo>
                    <a:pt x="242" y="84"/>
                  </a:lnTo>
                  <a:lnTo>
                    <a:pt x="240" y="83"/>
                  </a:lnTo>
                  <a:lnTo>
                    <a:pt x="239" y="82"/>
                  </a:lnTo>
                  <a:lnTo>
                    <a:pt x="238" y="82"/>
                  </a:lnTo>
                  <a:lnTo>
                    <a:pt x="237" y="81"/>
                  </a:lnTo>
                  <a:lnTo>
                    <a:pt x="235" y="81"/>
                  </a:lnTo>
                  <a:lnTo>
                    <a:pt x="234" y="79"/>
                  </a:lnTo>
                  <a:lnTo>
                    <a:pt x="233" y="79"/>
                  </a:lnTo>
                  <a:lnTo>
                    <a:pt x="231" y="79"/>
                  </a:lnTo>
                  <a:lnTo>
                    <a:pt x="229" y="79"/>
                  </a:lnTo>
                  <a:lnTo>
                    <a:pt x="227" y="79"/>
                  </a:lnTo>
                  <a:lnTo>
                    <a:pt x="224" y="81"/>
                  </a:lnTo>
                  <a:lnTo>
                    <a:pt x="220" y="82"/>
                  </a:lnTo>
                  <a:lnTo>
                    <a:pt x="214" y="84"/>
                  </a:lnTo>
                  <a:lnTo>
                    <a:pt x="208" y="86"/>
                  </a:lnTo>
                  <a:lnTo>
                    <a:pt x="202" y="89"/>
                  </a:lnTo>
                  <a:lnTo>
                    <a:pt x="195" y="93"/>
                  </a:lnTo>
                  <a:lnTo>
                    <a:pt x="187" y="96"/>
                  </a:lnTo>
                  <a:lnTo>
                    <a:pt x="180" y="102"/>
                  </a:lnTo>
                  <a:lnTo>
                    <a:pt x="173" y="106"/>
                  </a:lnTo>
                  <a:lnTo>
                    <a:pt x="168" y="111"/>
                  </a:lnTo>
                  <a:lnTo>
                    <a:pt x="163" y="117"/>
                  </a:lnTo>
                  <a:lnTo>
                    <a:pt x="159" y="124"/>
                  </a:lnTo>
                  <a:lnTo>
                    <a:pt x="157" y="130"/>
                  </a:lnTo>
                  <a:lnTo>
                    <a:pt x="155" y="138"/>
                  </a:lnTo>
                  <a:lnTo>
                    <a:pt x="15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21440" y="2293920"/>
              <a:ext cx="136440" cy="188280"/>
            </a:xfrm>
            <a:custGeom>
              <a:avLst/>
              <a:gdLst/>
              <a:ahLst/>
              <a:rect l="l" t="t" r="r" b="b"/>
              <a:pathLst>
                <a:path w="344" h="476">
                  <a:moveTo>
                    <a:pt x="0" y="44"/>
                  </a:moveTo>
                  <a:lnTo>
                    <a:pt x="0" y="41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92" y="0"/>
                  </a:lnTo>
                  <a:lnTo>
                    <a:pt x="118" y="2"/>
                  </a:lnTo>
                  <a:lnTo>
                    <a:pt x="142" y="5"/>
                  </a:lnTo>
                  <a:lnTo>
                    <a:pt x="166" y="9"/>
                  </a:lnTo>
                  <a:lnTo>
                    <a:pt x="190" y="13"/>
                  </a:lnTo>
                  <a:lnTo>
                    <a:pt x="213" y="20"/>
                  </a:lnTo>
                  <a:lnTo>
                    <a:pt x="236" y="28"/>
                  </a:lnTo>
                  <a:lnTo>
                    <a:pt x="258" y="37"/>
                  </a:lnTo>
                  <a:lnTo>
                    <a:pt x="278" y="45"/>
                  </a:lnTo>
                  <a:lnTo>
                    <a:pt x="296" y="55"/>
                  </a:lnTo>
                  <a:lnTo>
                    <a:pt x="303" y="61"/>
                  </a:lnTo>
                  <a:lnTo>
                    <a:pt x="310" y="66"/>
                  </a:lnTo>
                  <a:lnTo>
                    <a:pt x="316" y="72"/>
                  </a:lnTo>
                  <a:lnTo>
                    <a:pt x="322" y="79"/>
                  </a:lnTo>
                  <a:lnTo>
                    <a:pt x="328" y="84"/>
                  </a:lnTo>
                  <a:lnTo>
                    <a:pt x="332" y="91"/>
                  </a:lnTo>
                  <a:lnTo>
                    <a:pt x="335" y="97"/>
                  </a:lnTo>
                  <a:lnTo>
                    <a:pt x="339" y="103"/>
                  </a:lnTo>
                  <a:lnTo>
                    <a:pt x="341" y="109"/>
                  </a:lnTo>
                  <a:lnTo>
                    <a:pt x="343" y="117"/>
                  </a:lnTo>
                  <a:lnTo>
                    <a:pt x="344" y="124"/>
                  </a:lnTo>
                  <a:lnTo>
                    <a:pt x="344" y="132"/>
                  </a:lnTo>
                  <a:lnTo>
                    <a:pt x="343" y="148"/>
                  </a:lnTo>
                  <a:lnTo>
                    <a:pt x="341" y="164"/>
                  </a:lnTo>
                  <a:lnTo>
                    <a:pt x="335" y="178"/>
                  </a:lnTo>
                  <a:lnTo>
                    <a:pt x="330" y="191"/>
                  </a:lnTo>
                  <a:lnTo>
                    <a:pt x="321" y="203"/>
                  </a:lnTo>
                  <a:lnTo>
                    <a:pt x="311" y="214"/>
                  </a:lnTo>
                  <a:lnTo>
                    <a:pt x="299" y="225"/>
                  </a:lnTo>
                  <a:lnTo>
                    <a:pt x="284" y="234"/>
                  </a:lnTo>
                  <a:lnTo>
                    <a:pt x="270" y="242"/>
                  </a:lnTo>
                  <a:lnTo>
                    <a:pt x="257" y="250"/>
                  </a:lnTo>
                  <a:lnTo>
                    <a:pt x="245" y="256"/>
                  </a:lnTo>
                  <a:lnTo>
                    <a:pt x="234" y="263"/>
                  </a:lnTo>
                  <a:lnTo>
                    <a:pt x="223" y="268"/>
                  </a:lnTo>
                  <a:lnTo>
                    <a:pt x="213" y="273"/>
                  </a:lnTo>
                  <a:lnTo>
                    <a:pt x="204" y="276"/>
                  </a:lnTo>
                  <a:lnTo>
                    <a:pt x="196" y="279"/>
                  </a:lnTo>
                  <a:lnTo>
                    <a:pt x="190" y="282"/>
                  </a:lnTo>
                  <a:lnTo>
                    <a:pt x="182" y="285"/>
                  </a:lnTo>
                  <a:lnTo>
                    <a:pt x="175" y="287"/>
                  </a:lnTo>
                  <a:lnTo>
                    <a:pt x="167" y="289"/>
                  </a:lnTo>
                  <a:lnTo>
                    <a:pt x="161" y="292"/>
                  </a:lnTo>
                  <a:lnTo>
                    <a:pt x="154" y="293"/>
                  </a:lnTo>
                  <a:lnTo>
                    <a:pt x="148" y="295"/>
                  </a:lnTo>
                  <a:lnTo>
                    <a:pt x="140" y="296"/>
                  </a:lnTo>
                  <a:lnTo>
                    <a:pt x="133" y="298"/>
                  </a:lnTo>
                  <a:lnTo>
                    <a:pt x="128" y="299"/>
                  </a:lnTo>
                  <a:lnTo>
                    <a:pt x="123" y="300"/>
                  </a:lnTo>
                  <a:lnTo>
                    <a:pt x="119" y="303"/>
                  </a:lnTo>
                  <a:lnTo>
                    <a:pt x="116" y="304"/>
                  </a:lnTo>
                  <a:lnTo>
                    <a:pt x="113" y="305"/>
                  </a:lnTo>
                  <a:lnTo>
                    <a:pt x="112" y="307"/>
                  </a:lnTo>
                  <a:lnTo>
                    <a:pt x="111" y="308"/>
                  </a:lnTo>
                  <a:lnTo>
                    <a:pt x="111" y="310"/>
                  </a:lnTo>
                  <a:lnTo>
                    <a:pt x="110" y="313"/>
                  </a:lnTo>
                  <a:lnTo>
                    <a:pt x="110" y="316"/>
                  </a:lnTo>
                  <a:lnTo>
                    <a:pt x="110" y="320"/>
                  </a:lnTo>
                  <a:lnTo>
                    <a:pt x="109" y="326"/>
                  </a:lnTo>
                  <a:lnTo>
                    <a:pt x="109" y="331"/>
                  </a:lnTo>
                  <a:lnTo>
                    <a:pt x="109" y="338"/>
                  </a:lnTo>
                  <a:lnTo>
                    <a:pt x="109" y="346"/>
                  </a:lnTo>
                  <a:lnTo>
                    <a:pt x="109" y="420"/>
                  </a:lnTo>
                  <a:lnTo>
                    <a:pt x="109" y="454"/>
                  </a:lnTo>
                  <a:lnTo>
                    <a:pt x="109" y="459"/>
                  </a:lnTo>
                  <a:lnTo>
                    <a:pt x="108" y="464"/>
                  </a:lnTo>
                  <a:lnTo>
                    <a:pt x="105" y="467"/>
                  </a:lnTo>
                  <a:lnTo>
                    <a:pt x="101" y="470"/>
                  </a:lnTo>
                  <a:lnTo>
                    <a:pt x="97" y="473"/>
                  </a:lnTo>
                  <a:lnTo>
                    <a:pt x="91" y="475"/>
                  </a:lnTo>
                  <a:lnTo>
                    <a:pt x="86" y="476"/>
                  </a:lnTo>
                  <a:lnTo>
                    <a:pt x="78" y="476"/>
                  </a:lnTo>
                  <a:lnTo>
                    <a:pt x="75" y="476"/>
                  </a:lnTo>
                  <a:lnTo>
                    <a:pt x="70" y="475"/>
                  </a:lnTo>
                  <a:lnTo>
                    <a:pt x="66" y="475"/>
                  </a:lnTo>
                  <a:lnTo>
                    <a:pt x="60" y="474"/>
                  </a:lnTo>
                  <a:lnTo>
                    <a:pt x="55" y="471"/>
                  </a:lnTo>
                  <a:lnTo>
                    <a:pt x="49" y="470"/>
                  </a:lnTo>
                  <a:lnTo>
                    <a:pt x="43" y="468"/>
                  </a:lnTo>
                  <a:lnTo>
                    <a:pt x="36" y="466"/>
                  </a:lnTo>
                  <a:lnTo>
                    <a:pt x="29" y="464"/>
                  </a:lnTo>
                  <a:lnTo>
                    <a:pt x="23" y="460"/>
                  </a:lnTo>
                  <a:lnTo>
                    <a:pt x="18" y="458"/>
                  </a:lnTo>
                  <a:lnTo>
                    <a:pt x="14" y="456"/>
                  </a:lnTo>
                  <a:lnTo>
                    <a:pt x="11" y="454"/>
                  </a:lnTo>
                  <a:lnTo>
                    <a:pt x="8" y="453"/>
                  </a:lnTo>
                  <a:lnTo>
                    <a:pt x="6" y="450"/>
                  </a:lnTo>
                  <a:lnTo>
                    <a:pt x="5" y="448"/>
                  </a:lnTo>
                  <a:lnTo>
                    <a:pt x="5" y="447"/>
                  </a:lnTo>
                  <a:lnTo>
                    <a:pt x="5" y="445"/>
                  </a:lnTo>
                  <a:lnTo>
                    <a:pt x="4" y="442"/>
                  </a:lnTo>
                  <a:lnTo>
                    <a:pt x="4" y="439"/>
                  </a:lnTo>
                  <a:lnTo>
                    <a:pt x="3" y="436"/>
                  </a:lnTo>
                  <a:lnTo>
                    <a:pt x="3" y="432"/>
                  </a:lnTo>
                  <a:lnTo>
                    <a:pt x="3" y="428"/>
                  </a:lnTo>
                  <a:lnTo>
                    <a:pt x="2" y="424"/>
                  </a:lnTo>
                  <a:lnTo>
                    <a:pt x="2" y="420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10"/>
                  </a:lnTo>
                  <a:lnTo>
                    <a:pt x="1" y="407"/>
                  </a:lnTo>
                  <a:lnTo>
                    <a:pt x="1" y="405"/>
                  </a:lnTo>
                  <a:lnTo>
                    <a:pt x="0" y="404"/>
                  </a:lnTo>
                  <a:lnTo>
                    <a:pt x="0" y="403"/>
                  </a:lnTo>
                  <a:lnTo>
                    <a:pt x="0" y="44"/>
                  </a:lnTo>
                  <a:close/>
                  <a:moveTo>
                    <a:pt x="109" y="202"/>
                  </a:moveTo>
                  <a:lnTo>
                    <a:pt x="108" y="205"/>
                  </a:lnTo>
                  <a:lnTo>
                    <a:pt x="108" y="209"/>
                  </a:lnTo>
                  <a:lnTo>
                    <a:pt x="107" y="211"/>
                  </a:lnTo>
                  <a:lnTo>
                    <a:pt x="107" y="213"/>
                  </a:lnTo>
                  <a:lnTo>
                    <a:pt x="106" y="215"/>
                  </a:lnTo>
                  <a:lnTo>
                    <a:pt x="106" y="218"/>
                  </a:lnTo>
                  <a:lnTo>
                    <a:pt x="106" y="219"/>
                  </a:lnTo>
                  <a:lnTo>
                    <a:pt x="106" y="221"/>
                  </a:lnTo>
                  <a:lnTo>
                    <a:pt x="106" y="224"/>
                  </a:lnTo>
                  <a:lnTo>
                    <a:pt x="106" y="228"/>
                  </a:lnTo>
                  <a:lnTo>
                    <a:pt x="107" y="230"/>
                  </a:lnTo>
                  <a:lnTo>
                    <a:pt x="108" y="232"/>
                  </a:lnTo>
                  <a:lnTo>
                    <a:pt x="109" y="233"/>
                  </a:lnTo>
                  <a:lnTo>
                    <a:pt x="110" y="234"/>
                  </a:lnTo>
                  <a:lnTo>
                    <a:pt x="111" y="235"/>
                  </a:lnTo>
                  <a:lnTo>
                    <a:pt x="113" y="235"/>
                  </a:lnTo>
                  <a:lnTo>
                    <a:pt x="120" y="235"/>
                  </a:lnTo>
                  <a:lnTo>
                    <a:pt x="128" y="233"/>
                  </a:lnTo>
                  <a:lnTo>
                    <a:pt x="135" y="231"/>
                  </a:lnTo>
                  <a:lnTo>
                    <a:pt x="143" y="228"/>
                  </a:lnTo>
                  <a:lnTo>
                    <a:pt x="152" y="223"/>
                  </a:lnTo>
                  <a:lnTo>
                    <a:pt x="161" y="218"/>
                  </a:lnTo>
                  <a:lnTo>
                    <a:pt x="171" y="212"/>
                  </a:lnTo>
                  <a:lnTo>
                    <a:pt x="181" y="204"/>
                  </a:lnTo>
                  <a:lnTo>
                    <a:pt x="191" y="197"/>
                  </a:lnTo>
                  <a:lnTo>
                    <a:pt x="199" y="189"/>
                  </a:lnTo>
                  <a:lnTo>
                    <a:pt x="206" y="180"/>
                  </a:lnTo>
                  <a:lnTo>
                    <a:pt x="212" y="170"/>
                  </a:lnTo>
                  <a:lnTo>
                    <a:pt x="216" y="160"/>
                  </a:lnTo>
                  <a:lnTo>
                    <a:pt x="219" y="150"/>
                  </a:lnTo>
                  <a:lnTo>
                    <a:pt x="222" y="139"/>
                  </a:lnTo>
                  <a:lnTo>
                    <a:pt x="222" y="128"/>
                  </a:lnTo>
                  <a:lnTo>
                    <a:pt x="222" y="117"/>
                  </a:lnTo>
                  <a:lnTo>
                    <a:pt x="220" y="107"/>
                  </a:lnTo>
                  <a:lnTo>
                    <a:pt x="217" y="98"/>
                  </a:lnTo>
                  <a:lnTo>
                    <a:pt x="214" y="91"/>
                  </a:lnTo>
                  <a:lnTo>
                    <a:pt x="209" y="83"/>
                  </a:lnTo>
                  <a:lnTo>
                    <a:pt x="204" y="77"/>
                  </a:lnTo>
                  <a:lnTo>
                    <a:pt x="198" y="73"/>
                  </a:lnTo>
                  <a:lnTo>
                    <a:pt x="191" y="69"/>
                  </a:lnTo>
                  <a:lnTo>
                    <a:pt x="183" y="65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63" y="58"/>
                  </a:lnTo>
                  <a:lnTo>
                    <a:pt x="156" y="55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51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9" y="49"/>
                  </a:lnTo>
                  <a:lnTo>
                    <a:pt x="125" y="48"/>
                  </a:lnTo>
                  <a:lnTo>
                    <a:pt x="122" y="48"/>
                  </a:lnTo>
                  <a:lnTo>
                    <a:pt x="119" y="48"/>
                  </a:lnTo>
                  <a:lnTo>
                    <a:pt x="116" y="47"/>
                  </a:lnTo>
                  <a:lnTo>
                    <a:pt x="112" y="47"/>
                  </a:lnTo>
                  <a:lnTo>
                    <a:pt x="110" y="47"/>
                  </a:lnTo>
                  <a:lnTo>
                    <a:pt x="109" y="48"/>
                  </a:lnTo>
                  <a:lnTo>
                    <a:pt x="108" y="48"/>
                  </a:lnTo>
                  <a:lnTo>
                    <a:pt x="107" y="49"/>
                  </a:lnTo>
                  <a:lnTo>
                    <a:pt x="107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61"/>
                  </a:lnTo>
                  <a:lnTo>
                    <a:pt x="107" y="62"/>
                  </a:lnTo>
                  <a:lnTo>
                    <a:pt x="107" y="64"/>
                  </a:lnTo>
                  <a:lnTo>
                    <a:pt x="108" y="65"/>
                  </a:lnTo>
                  <a:lnTo>
                    <a:pt x="108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4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09" y="83"/>
                  </a:lnTo>
                  <a:lnTo>
                    <a:pt x="109" y="86"/>
                  </a:lnTo>
                  <a:lnTo>
                    <a:pt x="109" y="88"/>
                  </a:lnTo>
                  <a:lnTo>
                    <a:pt x="109" y="92"/>
                  </a:lnTo>
                  <a:lnTo>
                    <a:pt x="109" y="94"/>
                  </a:lnTo>
                  <a:lnTo>
                    <a:pt x="109" y="97"/>
                  </a:lnTo>
                  <a:lnTo>
                    <a:pt x="109" y="100"/>
                  </a:lnTo>
                  <a:lnTo>
                    <a:pt x="109" y="2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8164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2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7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5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8" y="17"/>
                  </a:lnTo>
                  <a:lnTo>
                    <a:pt x="81" y="18"/>
                  </a:lnTo>
                  <a:lnTo>
                    <a:pt x="83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29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6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8" y="96"/>
                  </a:lnTo>
                  <a:lnTo>
                    <a:pt x="411" y="107"/>
                  </a:lnTo>
                  <a:lnTo>
                    <a:pt x="413" y="117"/>
                  </a:lnTo>
                  <a:lnTo>
                    <a:pt x="411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8" y="256"/>
                  </a:lnTo>
                  <a:lnTo>
                    <a:pt x="260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69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6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8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8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1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5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1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8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4" y="212"/>
                  </a:lnTo>
                  <a:lnTo>
                    <a:pt x="169" y="205"/>
                  </a:lnTo>
                  <a:lnTo>
                    <a:pt x="184" y="198"/>
                  </a:lnTo>
                  <a:lnTo>
                    <a:pt x="202" y="189"/>
                  </a:lnTo>
                  <a:lnTo>
                    <a:pt x="219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6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4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4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0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3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09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7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47064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5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4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3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1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9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6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7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9" y="383"/>
                  </a:lnTo>
                  <a:lnTo>
                    <a:pt x="296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2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1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629400" y="2290680"/>
              <a:ext cx="162000" cy="199800"/>
            </a:xfrm>
            <a:custGeom>
              <a:avLst/>
              <a:gdLst/>
              <a:ahLst/>
              <a:rect l="l" t="t" r="r" b="b"/>
              <a:pathLst>
                <a:path w="409" h="505">
                  <a:moveTo>
                    <a:pt x="220" y="234"/>
                  </a:moveTo>
                  <a:lnTo>
                    <a:pt x="268" y="112"/>
                  </a:lnTo>
                  <a:lnTo>
                    <a:pt x="272" y="103"/>
                  </a:lnTo>
                  <a:lnTo>
                    <a:pt x="275" y="94"/>
                  </a:lnTo>
                  <a:lnTo>
                    <a:pt x="280" y="85"/>
                  </a:lnTo>
                  <a:lnTo>
                    <a:pt x="284" y="77"/>
                  </a:lnTo>
                  <a:lnTo>
                    <a:pt x="289" y="69"/>
                  </a:lnTo>
                  <a:lnTo>
                    <a:pt x="293" y="61"/>
                  </a:lnTo>
                  <a:lnTo>
                    <a:pt x="297" y="53"/>
                  </a:lnTo>
                  <a:lnTo>
                    <a:pt x="302" y="46"/>
                  </a:lnTo>
                  <a:lnTo>
                    <a:pt x="306" y="39"/>
                  </a:lnTo>
                  <a:lnTo>
                    <a:pt x="310" y="32"/>
                  </a:lnTo>
                  <a:lnTo>
                    <a:pt x="314" y="27"/>
                  </a:lnTo>
                  <a:lnTo>
                    <a:pt x="317" y="21"/>
                  </a:lnTo>
                  <a:lnTo>
                    <a:pt x="321" y="17"/>
                  </a:lnTo>
                  <a:lnTo>
                    <a:pt x="323" y="14"/>
                  </a:lnTo>
                  <a:lnTo>
                    <a:pt x="326" y="10"/>
                  </a:lnTo>
                  <a:lnTo>
                    <a:pt x="328" y="8"/>
                  </a:lnTo>
                  <a:lnTo>
                    <a:pt x="330" y="6"/>
                  </a:lnTo>
                  <a:lnTo>
                    <a:pt x="333" y="5"/>
                  </a:lnTo>
                  <a:lnTo>
                    <a:pt x="335" y="4"/>
                  </a:lnTo>
                  <a:lnTo>
                    <a:pt x="338" y="3"/>
                  </a:lnTo>
                  <a:lnTo>
                    <a:pt x="340" y="2"/>
                  </a:lnTo>
                  <a:lnTo>
                    <a:pt x="344" y="0"/>
                  </a:lnTo>
                  <a:lnTo>
                    <a:pt x="347" y="0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0" y="2"/>
                  </a:lnTo>
                  <a:lnTo>
                    <a:pt x="366" y="3"/>
                  </a:lnTo>
                  <a:lnTo>
                    <a:pt x="371" y="4"/>
                  </a:lnTo>
                  <a:lnTo>
                    <a:pt x="376" y="6"/>
                  </a:lnTo>
                  <a:lnTo>
                    <a:pt x="381" y="9"/>
                  </a:lnTo>
                  <a:lnTo>
                    <a:pt x="386" y="13"/>
                  </a:lnTo>
                  <a:lnTo>
                    <a:pt x="390" y="16"/>
                  </a:lnTo>
                  <a:lnTo>
                    <a:pt x="395" y="20"/>
                  </a:lnTo>
                  <a:lnTo>
                    <a:pt x="399" y="24"/>
                  </a:lnTo>
                  <a:lnTo>
                    <a:pt x="402" y="27"/>
                  </a:lnTo>
                  <a:lnTo>
                    <a:pt x="404" y="30"/>
                  </a:lnTo>
                  <a:lnTo>
                    <a:pt x="407" y="34"/>
                  </a:lnTo>
                  <a:lnTo>
                    <a:pt x="408" y="37"/>
                  </a:lnTo>
                  <a:lnTo>
                    <a:pt x="409" y="39"/>
                  </a:lnTo>
                  <a:lnTo>
                    <a:pt x="409" y="41"/>
                  </a:lnTo>
                  <a:lnTo>
                    <a:pt x="409" y="45"/>
                  </a:lnTo>
                  <a:lnTo>
                    <a:pt x="408" y="48"/>
                  </a:lnTo>
                  <a:lnTo>
                    <a:pt x="407" y="52"/>
                  </a:lnTo>
                  <a:lnTo>
                    <a:pt x="406" y="58"/>
                  </a:lnTo>
                  <a:lnTo>
                    <a:pt x="403" y="64"/>
                  </a:lnTo>
                  <a:lnTo>
                    <a:pt x="401" y="71"/>
                  </a:lnTo>
                  <a:lnTo>
                    <a:pt x="398" y="80"/>
                  </a:lnTo>
                  <a:lnTo>
                    <a:pt x="395" y="89"/>
                  </a:lnTo>
                  <a:lnTo>
                    <a:pt x="390" y="100"/>
                  </a:lnTo>
                  <a:lnTo>
                    <a:pt x="385" y="113"/>
                  </a:lnTo>
                  <a:lnTo>
                    <a:pt x="378" y="131"/>
                  </a:lnTo>
                  <a:lnTo>
                    <a:pt x="370" y="151"/>
                  </a:lnTo>
                  <a:lnTo>
                    <a:pt x="360" y="174"/>
                  </a:lnTo>
                  <a:lnTo>
                    <a:pt x="350" y="199"/>
                  </a:lnTo>
                  <a:lnTo>
                    <a:pt x="339" y="228"/>
                  </a:lnTo>
                  <a:lnTo>
                    <a:pt x="326" y="260"/>
                  </a:lnTo>
                  <a:lnTo>
                    <a:pt x="314" y="292"/>
                  </a:lnTo>
                  <a:lnTo>
                    <a:pt x="303" y="321"/>
                  </a:lnTo>
                  <a:lnTo>
                    <a:pt x="292" y="347"/>
                  </a:lnTo>
                  <a:lnTo>
                    <a:pt x="284" y="369"/>
                  </a:lnTo>
                  <a:lnTo>
                    <a:pt x="276" y="389"/>
                  </a:lnTo>
                  <a:lnTo>
                    <a:pt x="270" y="404"/>
                  </a:lnTo>
                  <a:lnTo>
                    <a:pt x="265" y="418"/>
                  </a:lnTo>
                  <a:lnTo>
                    <a:pt x="262" y="428"/>
                  </a:lnTo>
                  <a:lnTo>
                    <a:pt x="259" y="436"/>
                  </a:lnTo>
                  <a:lnTo>
                    <a:pt x="257" y="444"/>
                  </a:lnTo>
                  <a:lnTo>
                    <a:pt x="253" y="452"/>
                  </a:lnTo>
                  <a:lnTo>
                    <a:pt x="251" y="458"/>
                  </a:lnTo>
                  <a:lnTo>
                    <a:pt x="249" y="465"/>
                  </a:lnTo>
                  <a:lnTo>
                    <a:pt x="248" y="472"/>
                  </a:lnTo>
                  <a:lnTo>
                    <a:pt x="245" y="477"/>
                  </a:lnTo>
                  <a:lnTo>
                    <a:pt x="243" y="483"/>
                  </a:lnTo>
                  <a:lnTo>
                    <a:pt x="241" y="487"/>
                  </a:lnTo>
                  <a:lnTo>
                    <a:pt x="239" y="492"/>
                  </a:lnTo>
                  <a:lnTo>
                    <a:pt x="236" y="496"/>
                  </a:lnTo>
                  <a:lnTo>
                    <a:pt x="232" y="499"/>
                  </a:lnTo>
                  <a:lnTo>
                    <a:pt x="228" y="501"/>
                  </a:lnTo>
                  <a:lnTo>
                    <a:pt x="224" y="503"/>
                  </a:lnTo>
                  <a:lnTo>
                    <a:pt x="220" y="504"/>
                  </a:lnTo>
                  <a:lnTo>
                    <a:pt x="215" y="505"/>
                  </a:lnTo>
                  <a:lnTo>
                    <a:pt x="213" y="505"/>
                  </a:lnTo>
                  <a:lnTo>
                    <a:pt x="212" y="505"/>
                  </a:lnTo>
                  <a:lnTo>
                    <a:pt x="210" y="504"/>
                  </a:lnTo>
                  <a:lnTo>
                    <a:pt x="208" y="504"/>
                  </a:lnTo>
                  <a:lnTo>
                    <a:pt x="206" y="504"/>
                  </a:lnTo>
                  <a:lnTo>
                    <a:pt x="202" y="503"/>
                  </a:lnTo>
                  <a:lnTo>
                    <a:pt x="199" y="503"/>
                  </a:lnTo>
                  <a:lnTo>
                    <a:pt x="195" y="501"/>
                  </a:lnTo>
                  <a:lnTo>
                    <a:pt x="191" y="501"/>
                  </a:lnTo>
                  <a:lnTo>
                    <a:pt x="187" y="500"/>
                  </a:lnTo>
                  <a:lnTo>
                    <a:pt x="184" y="499"/>
                  </a:lnTo>
                  <a:lnTo>
                    <a:pt x="179" y="499"/>
                  </a:lnTo>
                  <a:lnTo>
                    <a:pt x="175" y="498"/>
                  </a:lnTo>
                  <a:lnTo>
                    <a:pt x="172" y="497"/>
                  </a:lnTo>
                  <a:lnTo>
                    <a:pt x="168" y="497"/>
                  </a:lnTo>
                  <a:lnTo>
                    <a:pt x="164" y="496"/>
                  </a:lnTo>
                  <a:lnTo>
                    <a:pt x="160" y="495"/>
                  </a:lnTo>
                  <a:lnTo>
                    <a:pt x="157" y="494"/>
                  </a:lnTo>
                  <a:lnTo>
                    <a:pt x="154" y="494"/>
                  </a:lnTo>
                  <a:lnTo>
                    <a:pt x="152" y="492"/>
                  </a:lnTo>
                  <a:lnTo>
                    <a:pt x="148" y="490"/>
                  </a:lnTo>
                  <a:lnTo>
                    <a:pt x="146" y="489"/>
                  </a:lnTo>
                  <a:lnTo>
                    <a:pt x="145" y="487"/>
                  </a:lnTo>
                  <a:lnTo>
                    <a:pt x="143" y="486"/>
                  </a:lnTo>
                  <a:lnTo>
                    <a:pt x="141" y="484"/>
                  </a:lnTo>
                  <a:lnTo>
                    <a:pt x="139" y="482"/>
                  </a:lnTo>
                  <a:lnTo>
                    <a:pt x="137" y="478"/>
                  </a:lnTo>
                  <a:lnTo>
                    <a:pt x="135" y="475"/>
                  </a:lnTo>
                  <a:lnTo>
                    <a:pt x="133" y="471"/>
                  </a:lnTo>
                  <a:lnTo>
                    <a:pt x="131" y="466"/>
                  </a:lnTo>
                  <a:lnTo>
                    <a:pt x="127" y="462"/>
                  </a:lnTo>
                  <a:lnTo>
                    <a:pt x="125" y="456"/>
                  </a:lnTo>
                  <a:lnTo>
                    <a:pt x="122" y="450"/>
                  </a:lnTo>
                  <a:lnTo>
                    <a:pt x="119" y="441"/>
                  </a:lnTo>
                  <a:lnTo>
                    <a:pt x="114" y="431"/>
                  </a:lnTo>
                  <a:lnTo>
                    <a:pt x="109" y="419"/>
                  </a:lnTo>
                  <a:lnTo>
                    <a:pt x="104" y="404"/>
                  </a:lnTo>
                  <a:lnTo>
                    <a:pt x="99" y="388"/>
                  </a:lnTo>
                  <a:lnTo>
                    <a:pt x="92" y="369"/>
                  </a:lnTo>
                  <a:lnTo>
                    <a:pt x="85" y="349"/>
                  </a:lnTo>
                  <a:lnTo>
                    <a:pt x="78" y="328"/>
                  </a:lnTo>
                  <a:lnTo>
                    <a:pt x="71" y="308"/>
                  </a:lnTo>
                  <a:lnTo>
                    <a:pt x="66" y="290"/>
                  </a:lnTo>
                  <a:lnTo>
                    <a:pt x="59" y="271"/>
                  </a:lnTo>
                  <a:lnTo>
                    <a:pt x="53" y="253"/>
                  </a:lnTo>
                  <a:lnTo>
                    <a:pt x="49" y="237"/>
                  </a:lnTo>
                  <a:lnTo>
                    <a:pt x="43" y="221"/>
                  </a:lnTo>
                  <a:lnTo>
                    <a:pt x="39" y="206"/>
                  </a:lnTo>
                  <a:lnTo>
                    <a:pt x="35" y="191"/>
                  </a:lnTo>
                  <a:lnTo>
                    <a:pt x="30" y="177"/>
                  </a:lnTo>
                  <a:lnTo>
                    <a:pt x="26" y="164"/>
                  </a:lnTo>
                  <a:lnTo>
                    <a:pt x="22" y="152"/>
                  </a:lnTo>
                  <a:lnTo>
                    <a:pt x="18" y="140"/>
                  </a:lnTo>
                  <a:lnTo>
                    <a:pt x="15" y="127"/>
                  </a:lnTo>
                  <a:lnTo>
                    <a:pt x="11" y="116"/>
                  </a:lnTo>
                  <a:lnTo>
                    <a:pt x="8" y="105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2"/>
                  </a:lnTo>
                  <a:lnTo>
                    <a:pt x="3" y="71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11" y="62"/>
                  </a:lnTo>
                  <a:lnTo>
                    <a:pt x="15" y="61"/>
                  </a:lnTo>
                  <a:lnTo>
                    <a:pt x="18" y="59"/>
                  </a:lnTo>
                  <a:lnTo>
                    <a:pt x="21" y="58"/>
                  </a:lnTo>
                  <a:lnTo>
                    <a:pt x="25" y="56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5" y="53"/>
                  </a:lnTo>
                  <a:lnTo>
                    <a:pt x="53" y="53"/>
                  </a:lnTo>
                  <a:lnTo>
                    <a:pt x="61" y="55"/>
                  </a:lnTo>
                  <a:lnTo>
                    <a:pt x="69" y="56"/>
                  </a:lnTo>
                  <a:lnTo>
                    <a:pt x="75" y="59"/>
                  </a:lnTo>
                  <a:lnTo>
                    <a:pt x="81" y="61"/>
                  </a:lnTo>
                  <a:lnTo>
                    <a:pt x="86" y="66"/>
                  </a:lnTo>
                  <a:lnTo>
                    <a:pt x="91" y="70"/>
                  </a:lnTo>
                  <a:lnTo>
                    <a:pt x="95" y="76"/>
                  </a:lnTo>
                  <a:lnTo>
                    <a:pt x="100" y="81"/>
                  </a:lnTo>
                  <a:lnTo>
                    <a:pt x="104" y="88"/>
                  </a:lnTo>
                  <a:lnTo>
                    <a:pt x="109" y="95"/>
                  </a:lnTo>
                  <a:lnTo>
                    <a:pt x="113" y="104"/>
                  </a:lnTo>
                  <a:lnTo>
                    <a:pt x="117" y="114"/>
                  </a:lnTo>
                  <a:lnTo>
                    <a:pt x="123" y="124"/>
                  </a:lnTo>
                  <a:lnTo>
                    <a:pt x="127" y="136"/>
                  </a:lnTo>
                  <a:lnTo>
                    <a:pt x="133" y="148"/>
                  </a:lnTo>
                  <a:lnTo>
                    <a:pt x="138" y="160"/>
                  </a:lnTo>
                  <a:lnTo>
                    <a:pt x="144" y="174"/>
                  </a:lnTo>
                  <a:lnTo>
                    <a:pt x="148" y="186"/>
                  </a:lnTo>
                  <a:lnTo>
                    <a:pt x="153" y="198"/>
                  </a:lnTo>
                  <a:lnTo>
                    <a:pt x="157" y="210"/>
                  </a:lnTo>
                  <a:lnTo>
                    <a:pt x="162" y="221"/>
                  </a:lnTo>
                  <a:lnTo>
                    <a:pt x="165" y="233"/>
                  </a:lnTo>
                  <a:lnTo>
                    <a:pt x="168" y="244"/>
                  </a:lnTo>
                  <a:lnTo>
                    <a:pt x="172" y="255"/>
                  </a:lnTo>
                  <a:lnTo>
                    <a:pt x="175" y="266"/>
                  </a:lnTo>
                  <a:lnTo>
                    <a:pt x="178" y="277"/>
                  </a:lnTo>
                  <a:lnTo>
                    <a:pt x="180" y="286"/>
                  </a:lnTo>
                  <a:lnTo>
                    <a:pt x="183" y="296"/>
                  </a:lnTo>
                  <a:lnTo>
                    <a:pt x="184" y="305"/>
                  </a:lnTo>
                  <a:lnTo>
                    <a:pt x="185" y="314"/>
                  </a:lnTo>
                  <a:lnTo>
                    <a:pt x="186" y="323"/>
                  </a:lnTo>
                  <a:lnTo>
                    <a:pt x="189" y="354"/>
                  </a:lnTo>
                  <a:lnTo>
                    <a:pt x="190" y="344"/>
                  </a:lnTo>
                  <a:lnTo>
                    <a:pt x="192" y="335"/>
                  </a:lnTo>
                  <a:lnTo>
                    <a:pt x="194" y="326"/>
                  </a:lnTo>
                  <a:lnTo>
                    <a:pt x="195" y="318"/>
                  </a:lnTo>
                  <a:lnTo>
                    <a:pt x="197" y="312"/>
                  </a:lnTo>
                  <a:lnTo>
                    <a:pt x="198" y="305"/>
                  </a:lnTo>
                  <a:lnTo>
                    <a:pt x="199" y="300"/>
                  </a:lnTo>
                  <a:lnTo>
                    <a:pt x="200" y="294"/>
                  </a:lnTo>
                  <a:lnTo>
                    <a:pt x="202" y="289"/>
                  </a:lnTo>
                  <a:lnTo>
                    <a:pt x="204" y="282"/>
                  </a:lnTo>
                  <a:lnTo>
                    <a:pt x="206" y="275"/>
                  </a:lnTo>
                  <a:lnTo>
                    <a:pt x="208" y="269"/>
                  </a:lnTo>
                  <a:lnTo>
                    <a:pt x="210" y="261"/>
                  </a:lnTo>
                  <a:lnTo>
                    <a:pt x="213" y="253"/>
                  </a:lnTo>
                  <a:lnTo>
                    <a:pt x="217" y="244"/>
                  </a:lnTo>
                  <a:lnTo>
                    <a:pt x="22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1192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4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2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2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4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5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4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5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40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0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4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5" y="126"/>
                  </a:lnTo>
                  <a:lnTo>
                    <a:pt x="16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804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3" h="500">
                  <a:moveTo>
                    <a:pt x="273" y="274"/>
                  </a:moveTo>
                  <a:lnTo>
                    <a:pt x="281" y="28"/>
                  </a:lnTo>
                  <a:lnTo>
                    <a:pt x="281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8" y="7"/>
                  </a:lnTo>
                  <a:lnTo>
                    <a:pt x="292" y="3"/>
                  </a:lnTo>
                  <a:lnTo>
                    <a:pt x="297" y="2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8" y="0"/>
                  </a:lnTo>
                  <a:lnTo>
                    <a:pt x="325" y="0"/>
                  </a:lnTo>
                  <a:lnTo>
                    <a:pt x="333" y="1"/>
                  </a:lnTo>
                  <a:lnTo>
                    <a:pt x="341" y="2"/>
                  </a:lnTo>
                  <a:lnTo>
                    <a:pt x="346" y="2"/>
                  </a:lnTo>
                  <a:lnTo>
                    <a:pt x="353" y="3"/>
                  </a:lnTo>
                  <a:lnTo>
                    <a:pt x="357" y="6"/>
                  </a:lnTo>
                  <a:lnTo>
                    <a:pt x="362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2" y="12"/>
                  </a:lnTo>
                  <a:lnTo>
                    <a:pt x="374" y="14"/>
                  </a:lnTo>
                  <a:lnTo>
                    <a:pt x="376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2" y="27"/>
                  </a:lnTo>
                  <a:lnTo>
                    <a:pt x="382" y="29"/>
                  </a:lnTo>
                  <a:lnTo>
                    <a:pt x="383" y="33"/>
                  </a:lnTo>
                  <a:lnTo>
                    <a:pt x="383" y="37"/>
                  </a:lnTo>
                  <a:lnTo>
                    <a:pt x="383" y="41"/>
                  </a:lnTo>
                  <a:lnTo>
                    <a:pt x="383" y="46"/>
                  </a:lnTo>
                  <a:lnTo>
                    <a:pt x="383" y="52"/>
                  </a:lnTo>
                  <a:lnTo>
                    <a:pt x="383" y="366"/>
                  </a:lnTo>
                  <a:lnTo>
                    <a:pt x="383" y="430"/>
                  </a:lnTo>
                  <a:lnTo>
                    <a:pt x="383" y="436"/>
                  </a:lnTo>
                  <a:lnTo>
                    <a:pt x="383" y="442"/>
                  </a:lnTo>
                  <a:lnTo>
                    <a:pt x="382" y="446"/>
                  </a:lnTo>
                  <a:lnTo>
                    <a:pt x="382" y="449"/>
                  </a:lnTo>
                  <a:lnTo>
                    <a:pt x="381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5" y="461"/>
                  </a:lnTo>
                  <a:lnTo>
                    <a:pt x="372" y="462"/>
                  </a:lnTo>
                  <a:lnTo>
                    <a:pt x="368" y="464"/>
                  </a:lnTo>
                  <a:lnTo>
                    <a:pt x="365" y="464"/>
                  </a:lnTo>
                  <a:lnTo>
                    <a:pt x="361" y="465"/>
                  </a:lnTo>
                  <a:lnTo>
                    <a:pt x="355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8" y="465"/>
                  </a:lnTo>
                  <a:lnTo>
                    <a:pt x="303" y="465"/>
                  </a:lnTo>
                  <a:lnTo>
                    <a:pt x="299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7" y="460"/>
                  </a:lnTo>
                  <a:lnTo>
                    <a:pt x="282" y="458"/>
                  </a:lnTo>
                  <a:lnTo>
                    <a:pt x="279" y="456"/>
                  </a:lnTo>
                  <a:lnTo>
                    <a:pt x="276" y="454"/>
                  </a:lnTo>
                  <a:lnTo>
                    <a:pt x="271" y="450"/>
                  </a:lnTo>
                  <a:lnTo>
                    <a:pt x="267" y="446"/>
                  </a:lnTo>
                  <a:lnTo>
                    <a:pt x="262" y="440"/>
                  </a:lnTo>
                  <a:lnTo>
                    <a:pt x="257" y="435"/>
                  </a:lnTo>
                  <a:lnTo>
                    <a:pt x="250" y="428"/>
                  </a:lnTo>
                  <a:lnTo>
                    <a:pt x="244" y="421"/>
                  </a:lnTo>
                  <a:lnTo>
                    <a:pt x="236" y="412"/>
                  </a:lnTo>
                  <a:lnTo>
                    <a:pt x="228" y="402"/>
                  </a:lnTo>
                  <a:lnTo>
                    <a:pt x="219" y="392"/>
                  </a:lnTo>
                  <a:lnTo>
                    <a:pt x="212" y="382"/>
                  </a:lnTo>
                  <a:lnTo>
                    <a:pt x="203" y="371"/>
                  </a:lnTo>
                  <a:lnTo>
                    <a:pt x="193" y="359"/>
                  </a:lnTo>
                  <a:lnTo>
                    <a:pt x="184" y="348"/>
                  </a:lnTo>
                  <a:lnTo>
                    <a:pt x="175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5" y="296"/>
                  </a:lnTo>
                  <a:lnTo>
                    <a:pt x="138" y="285"/>
                  </a:lnTo>
                  <a:lnTo>
                    <a:pt x="130" y="274"/>
                  </a:lnTo>
                  <a:lnTo>
                    <a:pt x="123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10" y="245"/>
                  </a:lnTo>
                  <a:lnTo>
                    <a:pt x="108" y="241"/>
                  </a:lnTo>
                  <a:lnTo>
                    <a:pt x="108" y="278"/>
                  </a:lnTo>
                  <a:lnTo>
                    <a:pt x="108" y="358"/>
                  </a:lnTo>
                  <a:lnTo>
                    <a:pt x="108" y="466"/>
                  </a:lnTo>
                  <a:lnTo>
                    <a:pt x="108" y="468"/>
                  </a:lnTo>
                  <a:lnTo>
                    <a:pt x="108" y="469"/>
                  </a:lnTo>
                  <a:lnTo>
                    <a:pt x="108" y="470"/>
                  </a:lnTo>
                  <a:lnTo>
                    <a:pt x="108" y="471"/>
                  </a:lnTo>
                  <a:lnTo>
                    <a:pt x="108" y="474"/>
                  </a:lnTo>
                  <a:lnTo>
                    <a:pt x="108" y="475"/>
                  </a:lnTo>
                  <a:lnTo>
                    <a:pt x="108" y="476"/>
                  </a:lnTo>
                  <a:lnTo>
                    <a:pt x="108" y="477"/>
                  </a:lnTo>
                  <a:lnTo>
                    <a:pt x="108" y="479"/>
                  </a:lnTo>
                  <a:lnTo>
                    <a:pt x="107" y="481"/>
                  </a:lnTo>
                  <a:lnTo>
                    <a:pt x="107" y="483"/>
                  </a:lnTo>
                  <a:lnTo>
                    <a:pt x="106" y="486"/>
                  </a:lnTo>
                  <a:lnTo>
                    <a:pt x="106" y="488"/>
                  </a:lnTo>
                  <a:lnTo>
                    <a:pt x="105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100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4" y="498"/>
                  </a:lnTo>
                  <a:lnTo>
                    <a:pt x="90" y="499"/>
                  </a:lnTo>
                  <a:lnTo>
                    <a:pt x="87" y="500"/>
                  </a:lnTo>
                  <a:lnTo>
                    <a:pt x="84" y="500"/>
                  </a:lnTo>
                  <a:lnTo>
                    <a:pt x="79" y="500"/>
                  </a:lnTo>
                  <a:lnTo>
                    <a:pt x="76" y="500"/>
                  </a:lnTo>
                  <a:lnTo>
                    <a:pt x="71" y="500"/>
                  </a:lnTo>
                  <a:lnTo>
                    <a:pt x="68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6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4" y="496"/>
                  </a:lnTo>
                  <a:lnTo>
                    <a:pt x="39" y="494"/>
                  </a:lnTo>
                  <a:lnTo>
                    <a:pt x="36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5" y="491"/>
                  </a:lnTo>
                  <a:lnTo>
                    <a:pt x="22" y="489"/>
                  </a:lnTo>
                  <a:lnTo>
                    <a:pt x="18" y="488"/>
                  </a:lnTo>
                  <a:lnTo>
                    <a:pt x="16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3" y="462"/>
                  </a:lnTo>
                  <a:lnTo>
                    <a:pt x="2" y="458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1" y="444"/>
                  </a:lnTo>
                  <a:lnTo>
                    <a:pt x="1" y="439"/>
                  </a:lnTo>
                  <a:lnTo>
                    <a:pt x="1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7" y="51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31" y="34"/>
                  </a:lnTo>
                  <a:lnTo>
                    <a:pt x="37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5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5" y="46"/>
                  </a:lnTo>
                  <a:lnTo>
                    <a:pt x="109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20" y="57"/>
                  </a:lnTo>
                  <a:lnTo>
                    <a:pt x="122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3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4852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2" y="484"/>
                  </a:lnTo>
                  <a:lnTo>
                    <a:pt x="226" y="484"/>
                  </a:lnTo>
                  <a:lnTo>
                    <a:pt x="221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90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8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8" y="462"/>
                  </a:lnTo>
                  <a:lnTo>
                    <a:pt x="158" y="459"/>
                  </a:lnTo>
                  <a:lnTo>
                    <a:pt x="152" y="327"/>
                  </a:lnTo>
                  <a:lnTo>
                    <a:pt x="158" y="105"/>
                  </a:lnTo>
                  <a:lnTo>
                    <a:pt x="158" y="103"/>
                  </a:lnTo>
                  <a:lnTo>
                    <a:pt x="158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8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7" y="90"/>
                  </a:lnTo>
                  <a:lnTo>
                    <a:pt x="131" y="90"/>
                  </a:lnTo>
                  <a:lnTo>
                    <a:pt x="126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3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2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60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2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3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3" y="54"/>
                  </a:lnTo>
                  <a:lnTo>
                    <a:pt x="412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9" y="80"/>
                  </a:lnTo>
                  <a:lnTo>
                    <a:pt x="347" y="81"/>
                  </a:lnTo>
                  <a:lnTo>
                    <a:pt x="338" y="82"/>
                  </a:lnTo>
                  <a:lnTo>
                    <a:pt x="328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6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5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5" y="87"/>
                  </a:lnTo>
                  <a:lnTo>
                    <a:pt x="274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32960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7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5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0556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6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0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4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1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1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4" y="16"/>
                  </a:lnTo>
                  <a:lnTo>
                    <a:pt x="280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38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1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0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0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3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5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5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1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4" y="401"/>
                  </a:lnTo>
                  <a:lnTo>
                    <a:pt x="161" y="408"/>
                  </a:lnTo>
                  <a:lnTo>
                    <a:pt x="168" y="412"/>
                  </a:lnTo>
                  <a:lnTo>
                    <a:pt x="175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7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7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1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09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6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2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10400" y="2293920"/>
              <a:ext cx="15084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2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7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3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2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1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50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6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86080" y="1023840"/>
              <a:ext cx="1338120" cy="815760"/>
            </a:xfrm>
            <a:custGeom>
              <a:avLst/>
              <a:gdLst/>
              <a:ahLst/>
              <a:rect l="l" t="t" r="r" b="b"/>
              <a:pathLst>
                <a:path w="3373" h="2057">
                  <a:moveTo>
                    <a:pt x="142" y="120"/>
                  </a:moveTo>
                  <a:lnTo>
                    <a:pt x="142" y="118"/>
                  </a:lnTo>
                  <a:lnTo>
                    <a:pt x="140" y="117"/>
                  </a:lnTo>
                  <a:lnTo>
                    <a:pt x="137" y="115"/>
                  </a:lnTo>
                  <a:lnTo>
                    <a:pt x="135" y="113"/>
                  </a:lnTo>
                  <a:lnTo>
                    <a:pt x="131" y="110"/>
                  </a:lnTo>
                  <a:lnTo>
                    <a:pt x="126" y="108"/>
                  </a:lnTo>
                  <a:lnTo>
                    <a:pt x="121" y="106"/>
                  </a:lnTo>
                  <a:lnTo>
                    <a:pt x="114" y="103"/>
                  </a:lnTo>
                  <a:lnTo>
                    <a:pt x="108" y="100"/>
                  </a:lnTo>
                  <a:lnTo>
                    <a:pt x="102" y="98"/>
                  </a:lnTo>
                  <a:lnTo>
                    <a:pt x="98" y="96"/>
                  </a:lnTo>
                  <a:lnTo>
                    <a:pt x="93" y="94"/>
                  </a:lnTo>
                  <a:lnTo>
                    <a:pt x="90" y="92"/>
                  </a:lnTo>
                  <a:lnTo>
                    <a:pt x="88" y="89"/>
                  </a:lnTo>
                  <a:lnTo>
                    <a:pt x="87" y="87"/>
                  </a:lnTo>
                  <a:lnTo>
                    <a:pt x="87" y="85"/>
                  </a:lnTo>
                  <a:lnTo>
                    <a:pt x="87" y="78"/>
                  </a:lnTo>
                  <a:lnTo>
                    <a:pt x="88" y="72"/>
                  </a:lnTo>
                  <a:lnTo>
                    <a:pt x="89" y="66"/>
                  </a:lnTo>
                  <a:lnTo>
                    <a:pt x="90" y="62"/>
                  </a:lnTo>
                  <a:lnTo>
                    <a:pt x="92" y="57"/>
                  </a:lnTo>
                  <a:lnTo>
                    <a:pt x="94" y="54"/>
                  </a:lnTo>
                  <a:lnTo>
                    <a:pt x="98" y="51"/>
                  </a:lnTo>
                  <a:lnTo>
                    <a:pt x="101" y="49"/>
                  </a:lnTo>
                  <a:lnTo>
                    <a:pt x="105" y="45"/>
                  </a:lnTo>
                  <a:lnTo>
                    <a:pt x="112" y="43"/>
                  </a:lnTo>
                  <a:lnTo>
                    <a:pt x="120" y="41"/>
                  </a:lnTo>
                  <a:lnTo>
                    <a:pt x="130" y="39"/>
                  </a:lnTo>
                  <a:lnTo>
                    <a:pt x="154" y="33"/>
                  </a:lnTo>
                  <a:lnTo>
                    <a:pt x="185" y="29"/>
                  </a:lnTo>
                  <a:lnTo>
                    <a:pt x="221" y="24"/>
                  </a:lnTo>
                  <a:lnTo>
                    <a:pt x="265" y="21"/>
                  </a:lnTo>
                  <a:lnTo>
                    <a:pt x="315" y="17"/>
                  </a:lnTo>
                  <a:lnTo>
                    <a:pt x="372" y="12"/>
                  </a:lnTo>
                  <a:lnTo>
                    <a:pt x="420" y="10"/>
                  </a:lnTo>
                  <a:lnTo>
                    <a:pt x="466" y="8"/>
                  </a:lnTo>
                  <a:lnTo>
                    <a:pt x="509" y="5"/>
                  </a:lnTo>
                  <a:lnTo>
                    <a:pt x="549" y="3"/>
                  </a:lnTo>
                  <a:lnTo>
                    <a:pt x="588" y="2"/>
                  </a:lnTo>
                  <a:lnTo>
                    <a:pt x="623" y="1"/>
                  </a:lnTo>
                  <a:lnTo>
                    <a:pt x="656" y="1"/>
                  </a:lnTo>
                  <a:lnTo>
                    <a:pt x="686" y="0"/>
                  </a:lnTo>
                  <a:lnTo>
                    <a:pt x="791" y="1"/>
                  </a:lnTo>
                  <a:lnTo>
                    <a:pt x="899" y="2"/>
                  </a:lnTo>
                  <a:lnTo>
                    <a:pt x="1012" y="4"/>
                  </a:lnTo>
                  <a:lnTo>
                    <a:pt x="1127" y="8"/>
                  </a:lnTo>
                  <a:lnTo>
                    <a:pt x="1246" y="12"/>
                  </a:lnTo>
                  <a:lnTo>
                    <a:pt x="1368" y="18"/>
                  </a:lnTo>
                  <a:lnTo>
                    <a:pt x="1494" y="24"/>
                  </a:lnTo>
                  <a:lnTo>
                    <a:pt x="1623" y="32"/>
                  </a:lnTo>
                  <a:lnTo>
                    <a:pt x="1658" y="35"/>
                  </a:lnTo>
                  <a:lnTo>
                    <a:pt x="1695" y="40"/>
                  </a:lnTo>
                  <a:lnTo>
                    <a:pt x="1737" y="45"/>
                  </a:lnTo>
                  <a:lnTo>
                    <a:pt x="1782" y="50"/>
                  </a:lnTo>
                  <a:lnTo>
                    <a:pt x="1832" y="56"/>
                  </a:lnTo>
                  <a:lnTo>
                    <a:pt x="1886" y="62"/>
                  </a:lnTo>
                  <a:lnTo>
                    <a:pt x="1943" y="68"/>
                  </a:lnTo>
                  <a:lnTo>
                    <a:pt x="2005" y="75"/>
                  </a:lnTo>
                  <a:lnTo>
                    <a:pt x="2032" y="78"/>
                  </a:lnTo>
                  <a:lnTo>
                    <a:pt x="2060" y="81"/>
                  </a:lnTo>
                  <a:lnTo>
                    <a:pt x="2091" y="85"/>
                  </a:lnTo>
                  <a:lnTo>
                    <a:pt x="2127" y="88"/>
                  </a:lnTo>
                  <a:lnTo>
                    <a:pt x="2164" y="93"/>
                  </a:lnTo>
                  <a:lnTo>
                    <a:pt x="2205" y="98"/>
                  </a:lnTo>
                  <a:lnTo>
                    <a:pt x="2248" y="104"/>
                  </a:lnTo>
                  <a:lnTo>
                    <a:pt x="2295" y="109"/>
                  </a:lnTo>
                  <a:lnTo>
                    <a:pt x="2341" y="118"/>
                  </a:lnTo>
                  <a:lnTo>
                    <a:pt x="2386" y="127"/>
                  </a:lnTo>
                  <a:lnTo>
                    <a:pt x="2433" y="137"/>
                  </a:lnTo>
                  <a:lnTo>
                    <a:pt x="2478" y="148"/>
                  </a:lnTo>
                  <a:lnTo>
                    <a:pt x="2522" y="159"/>
                  </a:lnTo>
                  <a:lnTo>
                    <a:pt x="2567" y="171"/>
                  </a:lnTo>
                  <a:lnTo>
                    <a:pt x="2612" y="184"/>
                  </a:lnTo>
                  <a:lnTo>
                    <a:pt x="2657" y="198"/>
                  </a:lnTo>
                  <a:lnTo>
                    <a:pt x="2701" y="212"/>
                  </a:lnTo>
                  <a:lnTo>
                    <a:pt x="2745" y="227"/>
                  </a:lnTo>
                  <a:lnTo>
                    <a:pt x="2789" y="243"/>
                  </a:lnTo>
                  <a:lnTo>
                    <a:pt x="2832" y="259"/>
                  </a:lnTo>
                  <a:lnTo>
                    <a:pt x="2876" y="277"/>
                  </a:lnTo>
                  <a:lnTo>
                    <a:pt x="2919" y="295"/>
                  </a:lnTo>
                  <a:lnTo>
                    <a:pt x="2962" y="313"/>
                  </a:lnTo>
                  <a:lnTo>
                    <a:pt x="3006" y="333"/>
                  </a:lnTo>
                  <a:lnTo>
                    <a:pt x="3050" y="354"/>
                  </a:lnTo>
                  <a:lnTo>
                    <a:pt x="3092" y="375"/>
                  </a:lnTo>
                  <a:lnTo>
                    <a:pt x="3130" y="396"/>
                  </a:lnTo>
                  <a:lnTo>
                    <a:pt x="3167" y="417"/>
                  </a:lnTo>
                  <a:lnTo>
                    <a:pt x="3200" y="438"/>
                  </a:lnTo>
                  <a:lnTo>
                    <a:pt x="3230" y="458"/>
                  </a:lnTo>
                  <a:lnTo>
                    <a:pt x="3257" y="479"/>
                  </a:lnTo>
                  <a:lnTo>
                    <a:pt x="3282" y="499"/>
                  </a:lnTo>
                  <a:lnTo>
                    <a:pt x="3302" y="519"/>
                  </a:lnTo>
                  <a:lnTo>
                    <a:pt x="3321" y="537"/>
                  </a:lnTo>
                  <a:lnTo>
                    <a:pt x="3338" y="557"/>
                  </a:lnTo>
                  <a:lnTo>
                    <a:pt x="3350" y="576"/>
                  </a:lnTo>
                  <a:lnTo>
                    <a:pt x="3355" y="585"/>
                  </a:lnTo>
                  <a:lnTo>
                    <a:pt x="3360" y="595"/>
                  </a:lnTo>
                  <a:lnTo>
                    <a:pt x="3364" y="604"/>
                  </a:lnTo>
                  <a:lnTo>
                    <a:pt x="3368" y="614"/>
                  </a:lnTo>
                  <a:lnTo>
                    <a:pt x="3370" y="622"/>
                  </a:lnTo>
                  <a:lnTo>
                    <a:pt x="3372" y="631"/>
                  </a:lnTo>
                  <a:lnTo>
                    <a:pt x="3373" y="641"/>
                  </a:lnTo>
                  <a:lnTo>
                    <a:pt x="3373" y="650"/>
                  </a:lnTo>
                  <a:lnTo>
                    <a:pt x="3373" y="661"/>
                  </a:lnTo>
                  <a:lnTo>
                    <a:pt x="3372" y="672"/>
                  </a:lnTo>
                  <a:lnTo>
                    <a:pt x="3371" y="683"/>
                  </a:lnTo>
                  <a:lnTo>
                    <a:pt x="3369" y="694"/>
                  </a:lnTo>
                  <a:lnTo>
                    <a:pt x="3365" y="705"/>
                  </a:lnTo>
                  <a:lnTo>
                    <a:pt x="3362" y="716"/>
                  </a:lnTo>
                  <a:lnTo>
                    <a:pt x="3359" y="727"/>
                  </a:lnTo>
                  <a:lnTo>
                    <a:pt x="3354" y="738"/>
                  </a:lnTo>
                  <a:lnTo>
                    <a:pt x="3349" y="748"/>
                  </a:lnTo>
                  <a:lnTo>
                    <a:pt x="3343" y="759"/>
                  </a:lnTo>
                  <a:lnTo>
                    <a:pt x="3337" y="769"/>
                  </a:lnTo>
                  <a:lnTo>
                    <a:pt x="3330" y="779"/>
                  </a:lnTo>
                  <a:lnTo>
                    <a:pt x="3315" y="800"/>
                  </a:lnTo>
                  <a:lnTo>
                    <a:pt x="3297" y="820"/>
                  </a:lnTo>
                  <a:lnTo>
                    <a:pt x="3276" y="840"/>
                  </a:lnTo>
                  <a:lnTo>
                    <a:pt x="3253" y="859"/>
                  </a:lnTo>
                  <a:lnTo>
                    <a:pt x="3229" y="878"/>
                  </a:lnTo>
                  <a:lnTo>
                    <a:pt x="3201" y="896"/>
                  </a:lnTo>
                  <a:lnTo>
                    <a:pt x="3170" y="915"/>
                  </a:lnTo>
                  <a:lnTo>
                    <a:pt x="3138" y="932"/>
                  </a:lnTo>
                  <a:lnTo>
                    <a:pt x="3104" y="950"/>
                  </a:lnTo>
                  <a:lnTo>
                    <a:pt x="3066" y="968"/>
                  </a:lnTo>
                  <a:lnTo>
                    <a:pt x="3018" y="988"/>
                  </a:lnTo>
                  <a:lnTo>
                    <a:pt x="2962" y="1009"/>
                  </a:lnTo>
                  <a:lnTo>
                    <a:pt x="2901" y="1031"/>
                  </a:lnTo>
                  <a:lnTo>
                    <a:pt x="2832" y="1052"/>
                  </a:lnTo>
                  <a:lnTo>
                    <a:pt x="2758" y="1074"/>
                  </a:lnTo>
                  <a:lnTo>
                    <a:pt x="2677" y="1097"/>
                  </a:lnTo>
                  <a:lnTo>
                    <a:pt x="2589" y="1120"/>
                  </a:lnTo>
                  <a:lnTo>
                    <a:pt x="2494" y="1143"/>
                  </a:lnTo>
                  <a:lnTo>
                    <a:pt x="2423" y="1161"/>
                  </a:lnTo>
                  <a:lnTo>
                    <a:pt x="2361" y="1177"/>
                  </a:lnTo>
                  <a:lnTo>
                    <a:pt x="2308" y="1193"/>
                  </a:lnTo>
                  <a:lnTo>
                    <a:pt x="2265" y="1206"/>
                  </a:lnTo>
                  <a:lnTo>
                    <a:pt x="2247" y="1213"/>
                  </a:lnTo>
                  <a:lnTo>
                    <a:pt x="2231" y="1218"/>
                  </a:lnTo>
                  <a:lnTo>
                    <a:pt x="2217" y="1224"/>
                  </a:lnTo>
                  <a:lnTo>
                    <a:pt x="2207" y="1229"/>
                  </a:lnTo>
                  <a:lnTo>
                    <a:pt x="2198" y="1234"/>
                  </a:lnTo>
                  <a:lnTo>
                    <a:pt x="2193" y="1238"/>
                  </a:lnTo>
                  <a:lnTo>
                    <a:pt x="2189" y="1243"/>
                  </a:lnTo>
                  <a:lnTo>
                    <a:pt x="2187" y="1246"/>
                  </a:lnTo>
                  <a:lnTo>
                    <a:pt x="2190" y="1250"/>
                  </a:lnTo>
                  <a:lnTo>
                    <a:pt x="2194" y="1257"/>
                  </a:lnTo>
                  <a:lnTo>
                    <a:pt x="2203" y="1264"/>
                  </a:lnTo>
                  <a:lnTo>
                    <a:pt x="2215" y="1272"/>
                  </a:lnTo>
                  <a:lnTo>
                    <a:pt x="2249" y="1296"/>
                  </a:lnTo>
                  <a:lnTo>
                    <a:pt x="2297" y="1323"/>
                  </a:lnTo>
                  <a:lnTo>
                    <a:pt x="2357" y="1358"/>
                  </a:lnTo>
                  <a:lnTo>
                    <a:pt x="2431" y="1399"/>
                  </a:lnTo>
                  <a:lnTo>
                    <a:pt x="2520" y="1446"/>
                  </a:lnTo>
                  <a:lnTo>
                    <a:pt x="2621" y="1499"/>
                  </a:lnTo>
                  <a:lnTo>
                    <a:pt x="2718" y="1547"/>
                  </a:lnTo>
                  <a:lnTo>
                    <a:pt x="2807" y="1591"/>
                  </a:lnTo>
                  <a:lnTo>
                    <a:pt x="2886" y="1631"/>
                  </a:lnTo>
                  <a:lnTo>
                    <a:pt x="2957" y="1666"/>
                  </a:lnTo>
                  <a:lnTo>
                    <a:pt x="3020" y="1696"/>
                  </a:lnTo>
                  <a:lnTo>
                    <a:pt x="3074" y="1721"/>
                  </a:lnTo>
                  <a:lnTo>
                    <a:pt x="3119" y="1741"/>
                  </a:lnTo>
                  <a:lnTo>
                    <a:pt x="3157" y="1757"/>
                  </a:lnTo>
                  <a:lnTo>
                    <a:pt x="3169" y="1762"/>
                  </a:lnTo>
                  <a:lnTo>
                    <a:pt x="3184" y="1767"/>
                  </a:lnTo>
                  <a:lnTo>
                    <a:pt x="3201" y="1770"/>
                  </a:lnTo>
                  <a:lnTo>
                    <a:pt x="3221" y="1774"/>
                  </a:lnTo>
                  <a:lnTo>
                    <a:pt x="3243" y="1778"/>
                  </a:lnTo>
                  <a:lnTo>
                    <a:pt x="3268" y="1782"/>
                  </a:lnTo>
                  <a:lnTo>
                    <a:pt x="3295" y="1785"/>
                  </a:lnTo>
                  <a:lnTo>
                    <a:pt x="3325" y="1789"/>
                  </a:lnTo>
                  <a:lnTo>
                    <a:pt x="3293" y="1802"/>
                  </a:lnTo>
                  <a:lnTo>
                    <a:pt x="3262" y="1815"/>
                  </a:lnTo>
                  <a:lnTo>
                    <a:pt x="3231" y="1827"/>
                  </a:lnTo>
                  <a:lnTo>
                    <a:pt x="3200" y="1838"/>
                  </a:lnTo>
                  <a:lnTo>
                    <a:pt x="3171" y="1848"/>
                  </a:lnTo>
                  <a:lnTo>
                    <a:pt x="3142" y="1858"/>
                  </a:lnTo>
                  <a:lnTo>
                    <a:pt x="3114" y="1866"/>
                  </a:lnTo>
                  <a:lnTo>
                    <a:pt x="3087" y="1874"/>
                  </a:lnTo>
                  <a:lnTo>
                    <a:pt x="3061" y="1880"/>
                  </a:lnTo>
                  <a:lnTo>
                    <a:pt x="3034" y="1887"/>
                  </a:lnTo>
                  <a:lnTo>
                    <a:pt x="3009" y="1891"/>
                  </a:lnTo>
                  <a:lnTo>
                    <a:pt x="2985" y="1896"/>
                  </a:lnTo>
                  <a:lnTo>
                    <a:pt x="2961" y="1899"/>
                  </a:lnTo>
                  <a:lnTo>
                    <a:pt x="2938" y="1901"/>
                  </a:lnTo>
                  <a:lnTo>
                    <a:pt x="2916" y="1902"/>
                  </a:lnTo>
                  <a:lnTo>
                    <a:pt x="2895" y="1902"/>
                  </a:lnTo>
                  <a:lnTo>
                    <a:pt x="2871" y="1902"/>
                  </a:lnTo>
                  <a:lnTo>
                    <a:pt x="2847" y="1900"/>
                  </a:lnTo>
                  <a:lnTo>
                    <a:pt x="2822" y="1898"/>
                  </a:lnTo>
                  <a:lnTo>
                    <a:pt x="2799" y="1894"/>
                  </a:lnTo>
                  <a:lnTo>
                    <a:pt x="2776" y="1888"/>
                  </a:lnTo>
                  <a:lnTo>
                    <a:pt x="2752" y="1883"/>
                  </a:lnTo>
                  <a:lnTo>
                    <a:pt x="2728" y="1875"/>
                  </a:lnTo>
                  <a:lnTo>
                    <a:pt x="2705" y="1866"/>
                  </a:lnTo>
                  <a:lnTo>
                    <a:pt x="2585" y="1819"/>
                  </a:lnTo>
                  <a:lnTo>
                    <a:pt x="2450" y="1766"/>
                  </a:lnTo>
                  <a:lnTo>
                    <a:pt x="2300" y="1708"/>
                  </a:lnTo>
                  <a:lnTo>
                    <a:pt x="2136" y="1645"/>
                  </a:lnTo>
                  <a:lnTo>
                    <a:pt x="1956" y="1576"/>
                  </a:lnTo>
                  <a:lnTo>
                    <a:pt x="1761" y="1503"/>
                  </a:lnTo>
                  <a:lnTo>
                    <a:pt x="1552" y="1424"/>
                  </a:lnTo>
                  <a:lnTo>
                    <a:pt x="1327" y="1339"/>
                  </a:lnTo>
                  <a:lnTo>
                    <a:pt x="1255" y="1347"/>
                  </a:lnTo>
                  <a:lnTo>
                    <a:pt x="1182" y="1354"/>
                  </a:lnTo>
                  <a:lnTo>
                    <a:pt x="1109" y="1361"/>
                  </a:lnTo>
                  <a:lnTo>
                    <a:pt x="1038" y="1366"/>
                  </a:lnTo>
                  <a:lnTo>
                    <a:pt x="966" y="1372"/>
                  </a:lnTo>
                  <a:lnTo>
                    <a:pt x="896" y="1375"/>
                  </a:lnTo>
                  <a:lnTo>
                    <a:pt x="825" y="1378"/>
                  </a:lnTo>
                  <a:lnTo>
                    <a:pt x="756" y="1382"/>
                  </a:lnTo>
                  <a:lnTo>
                    <a:pt x="758" y="1436"/>
                  </a:lnTo>
                  <a:lnTo>
                    <a:pt x="759" y="1490"/>
                  </a:lnTo>
                  <a:lnTo>
                    <a:pt x="761" y="1544"/>
                  </a:lnTo>
                  <a:lnTo>
                    <a:pt x="763" y="1597"/>
                  </a:lnTo>
                  <a:lnTo>
                    <a:pt x="764" y="1649"/>
                  </a:lnTo>
                  <a:lnTo>
                    <a:pt x="767" y="1699"/>
                  </a:lnTo>
                  <a:lnTo>
                    <a:pt x="770" y="1750"/>
                  </a:lnTo>
                  <a:lnTo>
                    <a:pt x="772" y="1800"/>
                  </a:lnTo>
                  <a:lnTo>
                    <a:pt x="771" y="1815"/>
                  </a:lnTo>
                  <a:lnTo>
                    <a:pt x="771" y="1832"/>
                  </a:lnTo>
                  <a:lnTo>
                    <a:pt x="772" y="1851"/>
                  </a:lnTo>
                  <a:lnTo>
                    <a:pt x="773" y="1870"/>
                  </a:lnTo>
                  <a:lnTo>
                    <a:pt x="774" y="1891"/>
                  </a:lnTo>
                  <a:lnTo>
                    <a:pt x="777" y="1913"/>
                  </a:lnTo>
                  <a:lnTo>
                    <a:pt x="780" y="1938"/>
                  </a:lnTo>
                  <a:lnTo>
                    <a:pt x="782" y="1964"/>
                  </a:lnTo>
                  <a:lnTo>
                    <a:pt x="783" y="1966"/>
                  </a:lnTo>
                  <a:lnTo>
                    <a:pt x="785" y="1969"/>
                  </a:lnTo>
                  <a:lnTo>
                    <a:pt x="788" y="1970"/>
                  </a:lnTo>
                  <a:lnTo>
                    <a:pt x="790" y="1972"/>
                  </a:lnTo>
                  <a:lnTo>
                    <a:pt x="792" y="1974"/>
                  </a:lnTo>
                  <a:lnTo>
                    <a:pt x="795" y="1976"/>
                  </a:lnTo>
                  <a:lnTo>
                    <a:pt x="799" y="1979"/>
                  </a:lnTo>
                  <a:lnTo>
                    <a:pt x="803" y="1981"/>
                  </a:lnTo>
                  <a:lnTo>
                    <a:pt x="806" y="1983"/>
                  </a:lnTo>
                  <a:lnTo>
                    <a:pt x="811" y="1985"/>
                  </a:lnTo>
                  <a:lnTo>
                    <a:pt x="813" y="1989"/>
                  </a:lnTo>
                  <a:lnTo>
                    <a:pt x="816" y="1992"/>
                  </a:lnTo>
                  <a:lnTo>
                    <a:pt x="817" y="1995"/>
                  </a:lnTo>
                  <a:lnTo>
                    <a:pt x="820" y="1998"/>
                  </a:lnTo>
                  <a:lnTo>
                    <a:pt x="820" y="2002"/>
                  </a:lnTo>
                  <a:lnTo>
                    <a:pt x="821" y="2006"/>
                  </a:lnTo>
                  <a:lnTo>
                    <a:pt x="820" y="2008"/>
                  </a:lnTo>
                  <a:lnTo>
                    <a:pt x="817" y="2011"/>
                  </a:lnTo>
                  <a:lnTo>
                    <a:pt x="813" y="2013"/>
                  </a:lnTo>
                  <a:lnTo>
                    <a:pt x="809" y="2014"/>
                  </a:lnTo>
                  <a:lnTo>
                    <a:pt x="793" y="2018"/>
                  </a:lnTo>
                  <a:lnTo>
                    <a:pt x="773" y="2023"/>
                  </a:lnTo>
                  <a:lnTo>
                    <a:pt x="746" y="2027"/>
                  </a:lnTo>
                  <a:lnTo>
                    <a:pt x="714" y="2032"/>
                  </a:lnTo>
                  <a:lnTo>
                    <a:pt x="675" y="2036"/>
                  </a:lnTo>
                  <a:lnTo>
                    <a:pt x="631" y="2040"/>
                  </a:lnTo>
                  <a:lnTo>
                    <a:pt x="592" y="2044"/>
                  </a:lnTo>
                  <a:lnTo>
                    <a:pt x="556" y="2047"/>
                  </a:lnTo>
                  <a:lnTo>
                    <a:pt x="522" y="2050"/>
                  </a:lnTo>
                  <a:lnTo>
                    <a:pt x="492" y="2053"/>
                  </a:lnTo>
                  <a:lnTo>
                    <a:pt x="463" y="2055"/>
                  </a:lnTo>
                  <a:lnTo>
                    <a:pt x="439" y="2056"/>
                  </a:lnTo>
                  <a:lnTo>
                    <a:pt x="417" y="2056"/>
                  </a:lnTo>
                  <a:lnTo>
                    <a:pt x="397" y="2057"/>
                  </a:lnTo>
                  <a:lnTo>
                    <a:pt x="375" y="2056"/>
                  </a:lnTo>
                  <a:lnTo>
                    <a:pt x="350" y="2056"/>
                  </a:lnTo>
                  <a:lnTo>
                    <a:pt x="325" y="2054"/>
                  </a:lnTo>
                  <a:lnTo>
                    <a:pt x="297" y="2051"/>
                  </a:lnTo>
                  <a:lnTo>
                    <a:pt x="268" y="2049"/>
                  </a:lnTo>
                  <a:lnTo>
                    <a:pt x="237" y="2046"/>
                  </a:lnTo>
                  <a:lnTo>
                    <a:pt x="205" y="2041"/>
                  </a:lnTo>
                  <a:lnTo>
                    <a:pt x="170" y="2037"/>
                  </a:lnTo>
                  <a:lnTo>
                    <a:pt x="131" y="2032"/>
                  </a:lnTo>
                  <a:lnTo>
                    <a:pt x="95" y="2025"/>
                  </a:lnTo>
                  <a:lnTo>
                    <a:pt x="67" y="2018"/>
                  </a:lnTo>
                  <a:lnTo>
                    <a:pt x="42" y="2013"/>
                  </a:lnTo>
                  <a:lnTo>
                    <a:pt x="25" y="2006"/>
                  </a:lnTo>
                  <a:lnTo>
                    <a:pt x="11" y="2000"/>
                  </a:lnTo>
                  <a:lnTo>
                    <a:pt x="7" y="1996"/>
                  </a:lnTo>
                  <a:lnTo>
                    <a:pt x="4" y="1993"/>
                  </a:lnTo>
                  <a:lnTo>
                    <a:pt x="2" y="1990"/>
                  </a:lnTo>
                  <a:lnTo>
                    <a:pt x="0" y="1986"/>
                  </a:lnTo>
                  <a:lnTo>
                    <a:pt x="0" y="1991"/>
                  </a:lnTo>
                  <a:lnTo>
                    <a:pt x="2" y="1992"/>
                  </a:lnTo>
                  <a:lnTo>
                    <a:pt x="3" y="1989"/>
                  </a:lnTo>
                  <a:lnTo>
                    <a:pt x="4" y="1983"/>
                  </a:lnTo>
                  <a:lnTo>
                    <a:pt x="7" y="1962"/>
                  </a:lnTo>
                  <a:lnTo>
                    <a:pt x="13" y="1927"/>
                  </a:lnTo>
                  <a:lnTo>
                    <a:pt x="19" y="1878"/>
                  </a:lnTo>
                  <a:lnTo>
                    <a:pt x="28" y="1815"/>
                  </a:lnTo>
                  <a:lnTo>
                    <a:pt x="38" y="1740"/>
                  </a:lnTo>
                  <a:lnTo>
                    <a:pt x="49" y="1651"/>
                  </a:lnTo>
                  <a:lnTo>
                    <a:pt x="58" y="1578"/>
                  </a:lnTo>
                  <a:lnTo>
                    <a:pt x="67" y="1503"/>
                  </a:lnTo>
                  <a:lnTo>
                    <a:pt x="75" y="1426"/>
                  </a:lnTo>
                  <a:lnTo>
                    <a:pt x="82" y="1347"/>
                  </a:lnTo>
                  <a:lnTo>
                    <a:pt x="90" y="1267"/>
                  </a:lnTo>
                  <a:lnTo>
                    <a:pt x="96" y="1184"/>
                  </a:lnTo>
                  <a:lnTo>
                    <a:pt x="102" y="1099"/>
                  </a:lnTo>
                  <a:lnTo>
                    <a:pt x="108" y="1013"/>
                  </a:lnTo>
                  <a:lnTo>
                    <a:pt x="115" y="868"/>
                  </a:lnTo>
                  <a:lnTo>
                    <a:pt x="122" y="733"/>
                  </a:lnTo>
                  <a:lnTo>
                    <a:pt x="128" y="607"/>
                  </a:lnTo>
                  <a:lnTo>
                    <a:pt x="133" y="490"/>
                  </a:lnTo>
                  <a:lnTo>
                    <a:pt x="136" y="383"/>
                  </a:lnTo>
                  <a:lnTo>
                    <a:pt x="140" y="286"/>
                  </a:lnTo>
                  <a:lnTo>
                    <a:pt x="141" y="199"/>
                  </a:lnTo>
                  <a:lnTo>
                    <a:pt x="142" y="120"/>
                  </a:lnTo>
                  <a:close/>
                  <a:moveTo>
                    <a:pt x="1079" y="221"/>
                  </a:moveTo>
                  <a:lnTo>
                    <a:pt x="1058" y="222"/>
                  </a:lnTo>
                  <a:lnTo>
                    <a:pt x="1038" y="223"/>
                  </a:lnTo>
                  <a:lnTo>
                    <a:pt x="1019" y="225"/>
                  </a:lnTo>
                  <a:lnTo>
                    <a:pt x="1001" y="227"/>
                  </a:lnTo>
                  <a:lnTo>
                    <a:pt x="984" y="231"/>
                  </a:lnTo>
                  <a:lnTo>
                    <a:pt x="968" y="235"/>
                  </a:lnTo>
                  <a:lnTo>
                    <a:pt x="953" y="239"/>
                  </a:lnTo>
                  <a:lnTo>
                    <a:pt x="939" y="245"/>
                  </a:lnTo>
                  <a:lnTo>
                    <a:pt x="926" y="252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4" y="284"/>
                  </a:lnTo>
                  <a:lnTo>
                    <a:pt x="876" y="295"/>
                  </a:lnTo>
                  <a:lnTo>
                    <a:pt x="868" y="305"/>
                  </a:lnTo>
                  <a:lnTo>
                    <a:pt x="863" y="317"/>
                  </a:lnTo>
                  <a:lnTo>
                    <a:pt x="848" y="351"/>
                  </a:lnTo>
                  <a:lnTo>
                    <a:pt x="834" y="386"/>
                  </a:lnTo>
                  <a:lnTo>
                    <a:pt x="822" y="425"/>
                  </a:lnTo>
                  <a:lnTo>
                    <a:pt x="811" y="466"/>
                  </a:lnTo>
                  <a:lnTo>
                    <a:pt x="800" y="509"/>
                  </a:lnTo>
                  <a:lnTo>
                    <a:pt x="791" y="554"/>
                  </a:lnTo>
                  <a:lnTo>
                    <a:pt x="782" y="601"/>
                  </a:lnTo>
                  <a:lnTo>
                    <a:pt x="775" y="651"/>
                  </a:lnTo>
                  <a:lnTo>
                    <a:pt x="769" y="703"/>
                  </a:lnTo>
                  <a:lnTo>
                    <a:pt x="763" y="757"/>
                  </a:lnTo>
                  <a:lnTo>
                    <a:pt x="760" y="813"/>
                  </a:lnTo>
                  <a:lnTo>
                    <a:pt x="757" y="872"/>
                  </a:lnTo>
                  <a:lnTo>
                    <a:pt x="754" y="932"/>
                  </a:lnTo>
                  <a:lnTo>
                    <a:pt x="754" y="995"/>
                  </a:lnTo>
                  <a:lnTo>
                    <a:pt x="754" y="1060"/>
                  </a:lnTo>
                  <a:lnTo>
                    <a:pt x="756" y="1128"/>
                  </a:lnTo>
                  <a:lnTo>
                    <a:pt x="756" y="1201"/>
                  </a:lnTo>
                  <a:lnTo>
                    <a:pt x="841" y="1197"/>
                  </a:lnTo>
                  <a:lnTo>
                    <a:pt x="926" y="1193"/>
                  </a:lnTo>
                  <a:lnTo>
                    <a:pt x="1011" y="1187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2" y="1163"/>
                  </a:lnTo>
                  <a:lnTo>
                    <a:pt x="1346" y="1152"/>
                  </a:lnTo>
                  <a:lnTo>
                    <a:pt x="1430" y="1141"/>
                  </a:lnTo>
                  <a:lnTo>
                    <a:pt x="1513" y="1128"/>
                  </a:lnTo>
                  <a:lnTo>
                    <a:pt x="1596" y="1113"/>
                  </a:lnTo>
                  <a:lnTo>
                    <a:pt x="1679" y="1099"/>
                  </a:lnTo>
                  <a:lnTo>
                    <a:pt x="1760" y="1083"/>
                  </a:lnTo>
                  <a:lnTo>
                    <a:pt x="1843" y="1065"/>
                  </a:lnTo>
                  <a:lnTo>
                    <a:pt x="1925" y="1046"/>
                  </a:lnTo>
                  <a:lnTo>
                    <a:pt x="2006" y="1025"/>
                  </a:lnTo>
                  <a:lnTo>
                    <a:pt x="2088" y="1004"/>
                  </a:lnTo>
                  <a:lnTo>
                    <a:pt x="2178" y="979"/>
                  </a:lnTo>
                  <a:lnTo>
                    <a:pt x="2261" y="953"/>
                  </a:lnTo>
                  <a:lnTo>
                    <a:pt x="2301" y="941"/>
                  </a:lnTo>
                  <a:lnTo>
                    <a:pt x="2340" y="928"/>
                  </a:lnTo>
                  <a:lnTo>
                    <a:pt x="2376" y="915"/>
                  </a:lnTo>
                  <a:lnTo>
                    <a:pt x="2412" y="902"/>
                  </a:lnTo>
                  <a:lnTo>
                    <a:pt x="2446" y="888"/>
                  </a:lnTo>
                  <a:lnTo>
                    <a:pt x="2479" y="875"/>
                  </a:lnTo>
                  <a:lnTo>
                    <a:pt x="2510" y="862"/>
                  </a:lnTo>
                  <a:lnTo>
                    <a:pt x="2540" y="849"/>
                  </a:lnTo>
                  <a:lnTo>
                    <a:pt x="2567" y="834"/>
                  </a:lnTo>
                  <a:lnTo>
                    <a:pt x="2595" y="821"/>
                  </a:lnTo>
                  <a:lnTo>
                    <a:pt x="2619" y="808"/>
                  </a:lnTo>
                  <a:lnTo>
                    <a:pt x="2643" y="793"/>
                  </a:lnTo>
                  <a:lnTo>
                    <a:pt x="2665" y="779"/>
                  </a:lnTo>
                  <a:lnTo>
                    <a:pt x="2686" y="766"/>
                  </a:lnTo>
                  <a:lnTo>
                    <a:pt x="2706" y="751"/>
                  </a:lnTo>
                  <a:lnTo>
                    <a:pt x="2724" y="737"/>
                  </a:lnTo>
                  <a:lnTo>
                    <a:pt x="2742" y="723"/>
                  </a:lnTo>
                  <a:lnTo>
                    <a:pt x="2756" y="708"/>
                  </a:lnTo>
                  <a:lnTo>
                    <a:pt x="2770" y="694"/>
                  </a:lnTo>
                  <a:lnTo>
                    <a:pt x="2783" y="679"/>
                  </a:lnTo>
                  <a:lnTo>
                    <a:pt x="2794" y="664"/>
                  </a:lnTo>
                  <a:lnTo>
                    <a:pt x="2802" y="650"/>
                  </a:lnTo>
                  <a:lnTo>
                    <a:pt x="2810" y="635"/>
                  </a:lnTo>
                  <a:lnTo>
                    <a:pt x="2817" y="620"/>
                  </a:lnTo>
                  <a:lnTo>
                    <a:pt x="2822" y="605"/>
                  </a:lnTo>
                  <a:lnTo>
                    <a:pt x="2826" y="589"/>
                  </a:lnTo>
                  <a:lnTo>
                    <a:pt x="2828" y="574"/>
                  </a:lnTo>
                  <a:lnTo>
                    <a:pt x="2829" y="558"/>
                  </a:lnTo>
                  <a:lnTo>
                    <a:pt x="2828" y="545"/>
                  </a:lnTo>
                  <a:lnTo>
                    <a:pt x="2827" y="532"/>
                  </a:lnTo>
                  <a:lnTo>
                    <a:pt x="2823" y="519"/>
                  </a:lnTo>
                  <a:lnTo>
                    <a:pt x="2819" y="505"/>
                  </a:lnTo>
                  <a:lnTo>
                    <a:pt x="2813" y="492"/>
                  </a:lnTo>
                  <a:lnTo>
                    <a:pt x="2806" y="480"/>
                  </a:lnTo>
                  <a:lnTo>
                    <a:pt x="2798" y="468"/>
                  </a:lnTo>
                  <a:lnTo>
                    <a:pt x="2788" y="457"/>
                  </a:lnTo>
                  <a:lnTo>
                    <a:pt x="2778" y="445"/>
                  </a:lnTo>
                  <a:lnTo>
                    <a:pt x="2766" y="434"/>
                  </a:lnTo>
                  <a:lnTo>
                    <a:pt x="2753" y="423"/>
                  </a:lnTo>
                  <a:lnTo>
                    <a:pt x="2738" y="413"/>
                  </a:lnTo>
                  <a:lnTo>
                    <a:pt x="2722" y="402"/>
                  </a:lnTo>
                  <a:lnTo>
                    <a:pt x="2705" y="392"/>
                  </a:lnTo>
                  <a:lnTo>
                    <a:pt x="2686" y="382"/>
                  </a:lnTo>
                  <a:lnTo>
                    <a:pt x="2668" y="373"/>
                  </a:lnTo>
                  <a:lnTo>
                    <a:pt x="2647" y="363"/>
                  </a:lnTo>
                  <a:lnTo>
                    <a:pt x="2625" y="354"/>
                  </a:lnTo>
                  <a:lnTo>
                    <a:pt x="2601" y="346"/>
                  </a:lnTo>
                  <a:lnTo>
                    <a:pt x="2577" y="338"/>
                  </a:lnTo>
                  <a:lnTo>
                    <a:pt x="2551" y="330"/>
                  </a:lnTo>
                  <a:lnTo>
                    <a:pt x="2524" y="322"/>
                  </a:lnTo>
                  <a:lnTo>
                    <a:pt x="2495" y="314"/>
                  </a:lnTo>
                  <a:lnTo>
                    <a:pt x="2466" y="308"/>
                  </a:lnTo>
                  <a:lnTo>
                    <a:pt x="2403" y="294"/>
                  </a:lnTo>
                  <a:lnTo>
                    <a:pt x="2335" y="281"/>
                  </a:lnTo>
                  <a:lnTo>
                    <a:pt x="2263" y="270"/>
                  </a:lnTo>
                  <a:lnTo>
                    <a:pt x="2184" y="260"/>
                  </a:lnTo>
                  <a:lnTo>
                    <a:pt x="2139" y="256"/>
                  </a:lnTo>
                  <a:lnTo>
                    <a:pt x="2091" y="252"/>
                  </a:lnTo>
                  <a:lnTo>
                    <a:pt x="2040" y="247"/>
                  </a:lnTo>
                  <a:lnTo>
                    <a:pt x="1985" y="244"/>
                  </a:lnTo>
                  <a:lnTo>
                    <a:pt x="1866" y="236"/>
                  </a:lnTo>
                  <a:lnTo>
                    <a:pt x="1735" y="231"/>
                  </a:lnTo>
                  <a:lnTo>
                    <a:pt x="1590" y="227"/>
                  </a:lnTo>
                  <a:lnTo>
                    <a:pt x="1432" y="224"/>
                  </a:lnTo>
                  <a:lnTo>
                    <a:pt x="1262" y="222"/>
                  </a:lnTo>
                  <a:lnTo>
                    <a:pt x="1079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60600" y="1049040"/>
              <a:ext cx="1140120" cy="828360"/>
            </a:xfrm>
            <a:custGeom>
              <a:avLst/>
              <a:gdLst/>
              <a:ahLst/>
              <a:rect l="l" t="t" r="r" b="b"/>
              <a:pathLst>
                <a:path w="2869" h="2089">
                  <a:moveTo>
                    <a:pt x="82" y="175"/>
                  </a:moveTo>
                  <a:lnTo>
                    <a:pt x="81" y="168"/>
                  </a:lnTo>
                  <a:lnTo>
                    <a:pt x="79" y="159"/>
                  </a:lnTo>
                  <a:lnTo>
                    <a:pt x="76" y="150"/>
                  </a:lnTo>
                  <a:lnTo>
                    <a:pt x="71" y="140"/>
                  </a:lnTo>
                  <a:lnTo>
                    <a:pt x="66" y="130"/>
                  </a:lnTo>
                  <a:lnTo>
                    <a:pt x="58" y="120"/>
                  </a:lnTo>
                  <a:lnTo>
                    <a:pt x="50" y="109"/>
                  </a:lnTo>
                  <a:lnTo>
                    <a:pt x="40" y="98"/>
                  </a:lnTo>
                  <a:lnTo>
                    <a:pt x="32" y="87"/>
                  </a:lnTo>
                  <a:lnTo>
                    <a:pt x="23" y="77"/>
                  </a:lnTo>
                  <a:lnTo>
                    <a:pt x="16" y="68"/>
                  </a:lnTo>
                  <a:lnTo>
                    <a:pt x="10" y="60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1"/>
                  </a:lnTo>
                  <a:lnTo>
                    <a:pt x="6" y="26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25" y="15"/>
                  </a:lnTo>
                  <a:lnTo>
                    <a:pt x="34" y="12"/>
                  </a:lnTo>
                  <a:lnTo>
                    <a:pt x="45" y="10"/>
                  </a:lnTo>
                  <a:lnTo>
                    <a:pt x="69" y="5"/>
                  </a:lnTo>
                  <a:lnTo>
                    <a:pt x="100" y="2"/>
                  </a:lnTo>
                  <a:lnTo>
                    <a:pt x="137" y="0"/>
                  </a:lnTo>
                  <a:lnTo>
                    <a:pt x="178" y="0"/>
                  </a:lnTo>
                  <a:lnTo>
                    <a:pt x="333" y="0"/>
                  </a:lnTo>
                  <a:lnTo>
                    <a:pt x="479" y="0"/>
                  </a:lnTo>
                  <a:lnTo>
                    <a:pt x="617" y="0"/>
                  </a:lnTo>
                  <a:lnTo>
                    <a:pt x="747" y="1"/>
                  </a:lnTo>
                  <a:lnTo>
                    <a:pt x="867" y="2"/>
                  </a:lnTo>
                  <a:lnTo>
                    <a:pt x="981" y="2"/>
                  </a:lnTo>
                  <a:lnTo>
                    <a:pt x="1085" y="3"/>
                  </a:lnTo>
                  <a:lnTo>
                    <a:pt x="1182" y="5"/>
                  </a:lnTo>
                  <a:lnTo>
                    <a:pt x="1309" y="6"/>
                  </a:lnTo>
                  <a:lnTo>
                    <a:pt x="1448" y="9"/>
                  </a:lnTo>
                  <a:lnTo>
                    <a:pt x="1598" y="12"/>
                  </a:lnTo>
                  <a:lnTo>
                    <a:pt x="1761" y="15"/>
                  </a:lnTo>
                  <a:lnTo>
                    <a:pt x="1935" y="20"/>
                  </a:lnTo>
                  <a:lnTo>
                    <a:pt x="2120" y="24"/>
                  </a:lnTo>
                  <a:lnTo>
                    <a:pt x="2319" y="30"/>
                  </a:lnTo>
                  <a:lnTo>
                    <a:pt x="2528" y="36"/>
                  </a:lnTo>
                  <a:lnTo>
                    <a:pt x="2549" y="37"/>
                  </a:lnTo>
                  <a:lnTo>
                    <a:pt x="2568" y="39"/>
                  </a:lnTo>
                  <a:lnTo>
                    <a:pt x="2585" y="42"/>
                  </a:lnTo>
                  <a:lnTo>
                    <a:pt x="2602" y="44"/>
                  </a:lnTo>
                  <a:lnTo>
                    <a:pt x="2617" y="47"/>
                  </a:lnTo>
                  <a:lnTo>
                    <a:pt x="2632" y="51"/>
                  </a:lnTo>
                  <a:lnTo>
                    <a:pt x="2644" y="55"/>
                  </a:lnTo>
                  <a:lnTo>
                    <a:pt x="2655" y="59"/>
                  </a:lnTo>
                  <a:lnTo>
                    <a:pt x="2665" y="64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0"/>
                  </a:lnTo>
                  <a:lnTo>
                    <a:pt x="2691" y="87"/>
                  </a:lnTo>
                  <a:lnTo>
                    <a:pt x="2695" y="94"/>
                  </a:lnTo>
                  <a:lnTo>
                    <a:pt x="2697" y="100"/>
                  </a:lnTo>
                  <a:lnTo>
                    <a:pt x="2698" y="108"/>
                  </a:lnTo>
                  <a:lnTo>
                    <a:pt x="2697" y="113"/>
                  </a:lnTo>
                  <a:lnTo>
                    <a:pt x="2695" y="120"/>
                  </a:lnTo>
                  <a:lnTo>
                    <a:pt x="2691" y="124"/>
                  </a:lnTo>
                  <a:lnTo>
                    <a:pt x="2687" y="130"/>
                  </a:lnTo>
                  <a:lnTo>
                    <a:pt x="2680" y="134"/>
                  </a:lnTo>
                  <a:lnTo>
                    <a:pt x="2672" y="139"/>
                  </a:lnTo>
                  <a:lnTo>
                    <a:pt x="2664" y="143"/>
                  </a:lnTo>
                  <a:lnTo>
                    <a:pt x="2654" y="147"/>
                  </a:lnTo>
                  <a:lnTo>
                    <a:pt x="2642" y="150"/>
                  </a:lnTo>
                  <a:lnTo>
                    <a:pt x="2628" y="153"/>
                  </a:lnTo>
                  <a:lnTo>
                    <a:pt x="2614" y="156"/>
                  </a:lnTo>
                  <a:lnTo>
                    <a:pt x="2598" y="159"/>
                  </a:lnTo>
                  <a:lnTo>
                    <a:pt x="2563" y="163"/>
                  </a:lnTo>
                  <a:lnTo>
                    <a:pt x="2522" y="166"/>
                  </a:lnTo>
                  <a:lnTo>
                    <a:pt x="2455" y="171"/>
                  </a:lnTo>
                  <a:lnTo>
                    <a:pt x="2382" y="174"/>
                  </a:lnTo>
                  <a:lnTo>
                    <a:pt x="2303" y="179"/>
                  </a:lnTo>
                  <a:lnTo>
                    <a:pt x="2216" y="182"/>
                  </a:lnTo>
                  <a:lnTo>
                    <a:pt x="2125" y="185"/>
                  </a:lnTo>
                  <a:lnTo>
                    <a:pt x="2027" y="188"/>
                  </a:lnTo>
                  <a:lnTo>
                    <a:pt x="1923" y="192"/>
                  </a:lnTo>
                  <a:lnTo>
                    <a:pt x="1811" y="194"/>
                  </a:lnTo>
                  <a:lnTo>
                    <a:pt x="1687" y="197"/>
                  </a:lnTo>
                  <a:lnTo>
                    <a:pt x="1572" y="200"/>
                  </a:lnTo>
                  <a:lnTo>
                    <a:pt x="1467" y="202"/>
                  </a:lnTo>
                  <a:lnTo>
                    <a:pt x="1372" y="205"/>
                  </a:lnTo>
                  <a:lnTo>
                    <a:pt x="1287" y="207"/>
                  </a:lnTo>
                  <a:lnTo>
                    <a:pt x="1212" y="209"/>
                  </a:lnTo>
                  <a:lnTo>
                    <a:pt x="1148" y="212"/>
                  </a:lnTo>
                  <a:lnTo>
                    <a:pt x="1094" y="215"/>
                  </a:lnTo>
                  <a:lnTo>
                    <a:pt x="1046" y="217"/>
                  </a:lnTo>
                  <a:lnTo>
                    <a:pt x="1005" y="222"/>
                  </a:lnTo>
                  <a:lnTo>
                    <a:pt x="988" y="225"/>
                  </a:lnTo>
                  <a:lnTo>
                    <a:pt x="970" y="227"/>
                  </a:lnTo>
                  <a:lnTo>
                    <a:pt x="955" y="230"/>
                  </a:lnTo>
                  <a:lnTo>
                    <a:pt x="940" y="234"/>
                  </a:lnTo>
                  <a:lnTo>
                    <a:pt x="928" y="238"/>
                  </a:lnTo>
                  <a:lnTo>
                    <a:pt x="917" y="243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1" y="256"/>
                  </a:lnTo>
                  <a:lnTo>
                    <a:pt x="885" y="261"/>
                  </a:lnTo>
                  <a:lnTo>
                    <a:pt x="881" y="267"/>
                  </a:lnTo>
                  <a:lnTo>
                    <a:pt x="878" y="273"/>
                  </a:lnTo>
                  <a:lnTo>
                    <a:pt x="876" y="280"/>
                  </a:lnTo>
                  <a:lnTo>
                    <a:pt x="874" y="296"/>
                  </a:lnTo>
                  <a:lnTo>
                    <a:pt x="871" y="321"/>
                  </a:lnTo>
                  <a:lnTo>
                    <a:pt x="866" y="355"/>
                  </a:lnTo>
                  <a:lnTo>
                    <a:pt x="862" y="399"/>
                  </a:lnTo>
                  <a:lnTo>
                    <a:pt x="855" y="452"/>
                  </a:lnTo>
                  <a:lnTo>
                    <a:pt x="849" y="515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4"/>
                  </a:lnTo>
                  <a:lnTo>
                    <a:pt x="2002" y="1224"/>
                  </a:lnTo>
                  <a:lnTo>
                    <a:pt x="2048" y="1222"/>
                  </a:lnTo>
                  <a:lnTo>
                    <a:pt x="2098" y="1222"/>
                  </a:lnTo>
                  <a:lnTo>
                    <a:pt x="2154" y="1224"/>
                  </a:lnTo>
                  <a:lnTo>
                    <a:pt x="2212" y="1224"/>
                  </a:lnTo>
                  <a:lnTo>
                    <a:pt x="2275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6" y="1229"/>
                  </a:lnTo>
                  <a:lnTo>
                    <a:pt x="2474" y="1234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7"/>
                  </a:lnTo>
                  <a:lnTo>
                    <a:pt x="2523" y="1251"/>
                  </a:lnTo>
                  <a:lnTo>
                    <a:pt x="2530" y="1257"/>
                  </a:lnTo>
                  <a:lnTo>
                    <a:pt x="2536" y="1261"/>
                  </a:lnTo>
                  <a:lnTo>
                    <a:pt x="2541" y="1267"/>
                  </a:lnTo>
                  <a:lnTo>
                    <a:pt x="2544" y="1273"/>
                  </a:lnTo>
                  <a:lnTo>
                    <a:pt x="2547" y="1279"/>
                  </a:lnTo>
                  <a:lnTo>
                    <a:pt x="2549" y="1285"/>
                  </a:lnTo>
                  <a:lnTo>
                    <a:pt x="2549" y="1293"/>
                  </a:lnTo>
                  <a:lnTo>
                    <a:pt x="2549" y="1301"/>
                  </a:lnTo>
                  <a:lnTo>
                    <a:pt x="2547" y="1309"/>
                  </a:lnTo>
                  <a:lnTo>
                    <a:pt x="2544" y="1315"/>
                  </a:lnTo>
                  <a:lnTo>
                    <a:pt x="2540" y="1323"/>
                  </a:lnTo>
                  <a:lnTo>
                    <a:pt x="2536" y="1328"/>
                  </a:lnTo>
                  <a:lnTo>
                    <a:pt x="2529" y="1335"/>
                  </a:lnTo>
                  <a:lnTo>
                    <a:pt x="2522" y="1339"/>
                  </a:lnTo>
                  <a:lnTo>
                    <a:pt x="2513" y="1345"/>
                  </a:lnTo>
                  <a:lnTo>
                    <a:pt x="2505" y="1349"/>
                  </a:lnTo>
                  <a:lnTo>
                    <a:pt x="2494" y="1354"/>
                  </a:lnTo>
                  <a:lnTo>
                    <a:pt x="2483" y="1357"/>
                  </a:lnTo>
                  <a:lnTo>
                    <a:pt x="2469" y="1360"/>
                  </a:lnTo>
                  <a:lnTo>
                    <a:pt x="2456" y="1364"/>
                  </a:lnTo>
                  <a:lnTo>
                    <a:pt x="2441" y="1366"/>
                  </a:lnTo>
                  <a:lnTo>
                    <a:pt x="2425" y="1368"/>
                  </a:lnTo>
                  <a:lnTo>
                    <a:pt x="2409" y="1369"/>
                  </a:lnTo>
                  <a:lnTo>
                    <a:pt x="2363" y="1373"/>
                  </a:lnTo>
                  <a:lnTo>
                    <a:pt x="2288" y="1376"/>
                  </a:lnTo>
                  <a:lnTo>
                    <a:pt x="2182" y="1381"/>
                  </a:lnTo>
                  <a:lnTo>
                    <a:pt x="2046" y="1387"/>
                  </a:lnTo>
                  <a:lnTo>
                    <a:pt x="1879" y="1394"/>
                  </a:lnTo>
                  <a:lnTo>
                    <a:pt x="1681" y="1401"/>
                  </a:lnTo>
                  <a:lnTo>
                    <a:pt x="1454" y="1410"/>
                  </a:lnTo>
                  <a:lnTo>
                    <a:pt x="1194" y="1420"/>
                  </a:lnTo>
                  <a:lnTo>
                    <a:pt x="1157" y="1422"/>
                  </a:lnTo>
                  <a:lnTo>
                    <a:pt x="1115" y="1423"/>
                  </a:lnTo>
                  <a:lnTo>
                    <a:pt x="1068" y="1426"/>
                  </a:lnTo>
                  <a:lnTo>
                    <a:pt x="1018" y="1428"/>
                  </a:lnTo>
                  <a:lnTo>
                    <a:pt x="963" y="1430"/>
                  </a:lnTo>
                  <a:lnTo>
                    <a:pt x="904" y="1431"/>
                  </a:lnTo>
                  <a:lnTo>
                    <a:pt x="840" y="1434"/>
                  </a:lnTo>
                  <a:lnTo>
                    <a:pt x="771" y="1437"/>
                  </a:lnTo>
                  <a:lnTo>
                    <a:pt x="768" y="1486"/>
                  </a:lnTo>
                  <a:lnTo>
                    <a:pt x="765" y="1534"/>
                  </a:lnTo>
                  <a:lnTo>
                    <a:pt x="763" y="1579"/>
                  </a:lnTo>
                  <a:lnTo>
                    <a:pt x="760" y="1621"/>
                  </a:lnTo>
                  <a:lnTo>
                    <a:pt x="759" y="1662"/>
                  </a:lnTo>
                  <a:lnTo>
                    <a:pt x="758" y="1700"/>
                  </a:lnTo>
                  <a:lnTo>
                    <a:pt x="757" y="1737"/>
                  </a:lnTo>
                  <a:lnTo>
                    <a:pt x="757" y="1771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4" y="1801"/>
                  </a:lnTo>
                  <a:lnTo>
                    <a:pt x="769" y="1808"/>
                  </a:lnTo>
                  <a:lnTo>
                    <a:pt x="777" y="1816"/>
                  </a:lnTo>
                  <a:lnTo>
                    <a:pt x="786" y="1824"/>
                  </a:lnTo>
                  <a:lnTo>
                    <a:pt x="796" y="1829"/>
                  </a:lnTo>
                  <a:lnTo>
                    <a:pt x="807" y="1836"/>
                  </a:lnTo>
                  <a:lnTo>
                    <a:pt x="820" y="1840"/>
                  </a:lnTo>
                  <a:lnTo>
                    <a:pt x="835" y="1845"/>
                  </a:lnTo>
                  <a:lnTo>
                    <a:pt x="852" y="1848"/>
                  </a:lnTo>
                  <a:lnTo>
                    <a:pt x="870" y="1851"/>
                  </a:lnTo>
                  <a:lnTo>
                    <a:pt x="889" y="1854"/>
                  </a:lnTo>
                  <a:lnTo>
                    <a:pt x="910" y="1856"/>
                  </a:lnTo>
                  <a:lnTo>
                    <a:pt x="933" y="1857"/>
                  </a:lnTo>
                  <a:lnTo>
                    <a:pt x="957" y="1857"/>
                  </a:lnTo>
                  <a:lnTo>
                    <a:pt x="1031" y="1857"/>
                  </a:lnTo>
                  <a:lnTo>
                    <a:pt x="1114" y="1857"/>
                  </a:lnTo>
                  <a:lnTo>
                    <a:pt x="1205" y="1857"/>
                  </a:lnTo>
                  <a:lnTo>
                    <a:pt x="1306" y="1857"/>
                  </a:lnTo>
                  <a:lnTo>
                    <a:pt x="1415" y="1857"/>
                  </a:lnTo>
                  <a:lnTo>
                    <a:pt x="1534" y="1857"/>
                  </a:lnTo>
                  <a:lnTo>
                    <a:pt x="1661" y="1856"/>
                  </a:lnTo>
                  <a:lnTo>
                    <a:pt x="1797" y="1856"/>
                  </a:lnTo>
                  <a:lnTo>
                    <a:pt x="1932" y="1856"/>
                  </a:lnTo>
                  <a:lnTo>
                    <a:pt x="2059" y="1856"/>
                  </a:lnTo>
                  <a:lnTo>
                    <a:pt x="2177" y="1855"/>
                  </a:lnTo>
                  <a:lnTo>
                    <a:pt x="2286" y="1855"/>
                  </a:lnTo>
                  <a:lnTo>
                    <a:pt x="2386" y="1855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8"/>
                  </a:lnTo>
                  <a:lnTo>
                    <a:pt x="2759" y="1860"/>
                  </a:lnTo>
                  <a:lnTo>
                    <a:pt x="2777" y="1863"/>
                  </a:lnTo>
                  <a:lnTo>
                    <a:pt x="2795" y="1866"/>
                  </a:lnTo>
                  <a:lnTo>
                    <a:pt x="2810" y="1869"/>
                  </a:lnTo>
                  <a:lnTo>
                    <a:pt x="2825" y="1874"/>
                  </a:lnTo>
                  <a:lnTo>
                    <a:pt x="2836" y="1878"/>
                  </a:lnTo>
                  <a:lnTo>
                    <a:pt x="2846" y="1882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899"/>
                  </a:lnTo>
                  <a:lnTo>
                    <a:pt x="2868" y="1906"/>
                  </a:lnTo>
                  <a:lnTo>
                    <a:pt x="2869" y="1913"/>
                  </a:lnTo>
                  <a:lnTo>
                    <a:pt x="2868" y="1919"/>
                  </a:lnTo>
                  <a:lnTo>
                    <a:pt x="2866" y="1924"/>
                  </a:lnTo>
                  <a:lnTo>
                    <a:pt x="2862" y="1930"/>
                  </a:lnTo>
                  <a:lnTo>
                    <a:pt x="2858" y="1935"/>
                  </a:lnTo>
                  <a:lnTo>
                    <a:pt x="2851" y="1940"/>
                  </a:lnTo>
                  <a:lnTo>
                    <a:pt x="2844" y="1944"/>
                  </a:lnTo>
                  <a:lnTo>
                    <a:pt x="2834" y="1949"/>
                  </a:lnTo>
                  <a:lnTo>
                    <a:pt x="2823" y="1953"/>
                  </a:lnTo>
                  <a:lnTo>
                    <a:pt x="2810" y="1956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7" y="1973"/>
                  </a:lnTo>
                  <a:lnTo>
                    <a:pt x="2683" y="1977"/>
                  </a:lnTo>
                  <a:lnTo>
                    <a:pt x="2591" y="1985"/>
                  </a:lnTo>
                  <a:lnTo>
                    <a:pt x="2485" y="1994"/>
                  </a:lnTo>
                  <a:lnTo>
                    <a:pt x="2366" y="2003"/>
                  </a:lnTo>
                  <a:lnTo>
                    <a:pt x="2234" y="2012"/>
                  </a:lnTo>
                  <a:lnTo>
                    <a:pt x="2088" y="2020"/>
                  </a:lnTo>
                  <a:lnTo>
                    <a:pt x="1931" y="2030"/>
                  </a:lnTo>
                  <a:lnTo>
                    <a:pt x="1758" y="2039"/>
                  </a:lnTo>
                  <a:lnTo>
                    <a:pt x="1574" y="2049"/>
                  </a:lnTo>
                  <a:lnTo>
                    <a:pt x="1386" y="2059"/>
                  </a:lnTo>
                  <a:lnTo>
                    <a:pt x="1212" y="2067"/>
                  </a:lnTo>
                  <a:lnTo>
                    <a:pt x="1052" y="2073"/>
                  </a:lnTo>
                  <a:lnTo>
                    <a:pt x="907" y="2079"/>
                  </a:lnTo>
                  <a:lnTo>
                    <a:pt x="777" y="2083"/>
                  </a:lnTo>
                  <a:lnTo>
                    <a:pt x="661" y="2087"/>
                  </a:lnTo>
                  <a:lnTo>
                    <a:pt x="558" y="2089"/>
                  </a:lnTo>
                  <a:lnTo>
                    <a:pt x="471" y="2089"/>
                  </a:lnTo>
                  <a:lnTo>
                    <a:pt x="417" y="2089"/>
                  </a:lnTo>
                  <a:lnTo>
                    <a:pt x="366" y="2087"/>
                  </a:lnTo>
                  <a:lnTo>
                    <a:pt x="319" y="2083"/>
                  </a:lnTo>
                  <a:lnTo>
                    <a:pt x="276" y="2079"/>
                  </a:lnTo>
                  <a:lnTo>
                    <a:pt x="236" y="2072"/>
                  </a:lnTo>
                  <a:lnTo>
                    <a:pt x="199" y="2066"/>
                  </a:lnTo>
                  <a:lnTo>
                    <a:pt x="182" y="2061"/>
                  </a:lnTo>
                  <a:lnTo>
                    <a:pt x="166" y="2057"/>
                  </a:lnTo>
                  <a:lnTo>
                    <a:pt x="151" y="2052"/>
                  </a:lnTo>
                  <a:lnTo>
                    <a:pt x="137" y="2048"/>
                  </a:lnTo>
                  <a:lnTo>
                    <a:pt x="123" y="2042"/>
                  </a:lnTo>
                  <a:lnTo>
                    <a:pt x="111" y="2037"/>
                  </a:lnTo>
                  <a:lnTo>
                    <a:pt x="100" y="2030"/>
                  </a:lnTo>
                  <a:lnTo>
                    <a:pt x="89" y="2024"/>
                  </a:lnTo>
                  <a:lnTo>
                    <a:pt x="79" y="2017"/>
                  </a:lnTo>
                  <a:lnTo>
                    <a:pt x="70" y="2010"/>
                  </a:lnTo>
                  <a:lnTo>
                    <a:pt x="63" y="2003"/>
                  </a:lnTo>
                  <a:lnTo>
                    <a:pt x="55" y="1996"/>
                  </a:lnTo>
                  <a:lnTo>
                    <a:pt x="49" y="1987"/>
                  </a:lnTo>
                  <a:lnTo>
                    <a:pt x="44" y="1979"/>
                  </a:lnTo>
                  <a:lnTo>
                    <a:pt x="39" y="1971"/>
                  </a:lnTo>
                  <a:lnTo>
                    <a:pt x="36" y="1962"/>
                  </a:lnTo>
                  <a:lnTo>
                    <a:pt x="33" y="1953"/>
                  </a:lnTo>
                  <a:lnTo>
                    <a:pt x="32" y="1943"/>
                  </a:lnTo>
                  <a:lnTo>
                    <a:pt x="31" y="1933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8"/>
                  </a:lnTo>
                  <a:lnTo>
                    <a:pt x="53" y="1435"/>
                  </a:lnTo>
                  <a:lnTo>
                    <a:pt x="61" y="1209"/>
                  </a:lnTo>
                  <a:lnTo>
                    <a:pt x="69" y="990"/>
                  </a:lnTo>
                  <a:lnTo>
                    <a:pt x="75" y="777"/>
                  </a:lnTo>
                  <a:lnTo>
                    <a:pt x="79" y="569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78360" y="1052280"/>
              <a:ext cx="1549440" cy="822240"/>
            </a:xfrm>
            <a:custGeom>
              <a:avLst/>
              <a:gdLst/>
              <a:ahLst/>
              <a:rect l="l" t="t" r="r" b="b"/>
              <a:pathLst>
                <a:path w="3902" h="2074">
                  <a:moveTo>
                    <a:pt x="1684" y="0"/>
                  </a:moveTo>
                  <a:lnTo>
                    <a:pt x="1702" y="0"/>
                  </a:lnTo>
                  <a:lnTo>
                    <a:pt x="1721" y="2"/>
                  </a:lnTo>
                  <a:lnTo>
                    <a:pt x="1743" y="2"/>
                  </a:lnTo>
                  <a:lnTo>
                    <a:pt x="1766" y="3"/>
                  </a:lnTo>
                  <a:lnTo>
                    <a:pt x="1791" y="4"/>
                  </a:lnTo>
                  <a:lnTo>
                    <a:pt x="1818" y="6"/>
                  </a:lnTo>
                  <a:lnTo>
                    <a:pt x="1848" y="7"/>
                  </a:lnTo>
                  <a:lnTo>
                    <a:pt x="1879" y="9"/>
                  </a:lnTo>
                  <a:lnTo>
                    <a:pt x="1910" y="12"/>
                  </a:lnTo>
                  <a:lnTo>
                    <a:pt x="1939" y="14"/>
                  </a:lnTo>
                  <a:lnTo>
                    <a:pt x="1967" y="15"/>
                  </a:lnTo>
                  <a:lnTo>
                    <a:pt x="1992" y="16"/>
                  </a:lnTo>
                  <a:lnTo>
                    <a:pt x="2016" y="17"/>
                  </a:lnTo>
                  <a:lnTo>
                    <a:pt x="2038" y="18"/>
                  </a:lnTo>
                  <a:lnTo>
                    <a:pt x="2056" y="18"/>
                  </a:lnTo>
                  <a:lnTo>
                    <a:pt x="2074" y="18"/>
                  </a:lnTo>
                  <a:lnTo>
                    <a:pt x="2085" y="18"/>
                  </a:lnTo>
                  <a:lnTo>
                    <a:pt x="2097" y="18"/>
                  </a:lnTo>
                  <a:lnTo>
                    <a:pt x="2111" y="17"/>
                  </a:lnTo>
                  <a:lnTo>
                    <a:pt x="2125" y="17"/>
                  </a:lnTo>
                  <a:lnTo>
                    <a:pt x="2140" y="16"/>
                  </a:lnTo>
                  <a:lnTo>
                    <a:pt x="2158" y="15"/>
                  </a:lnTo>
                  <a:lnTo>
                    <a:pt x="2177" y="14"/>
                  </a:lnTo>
                  <a:lnTo>
                    <a:pt x="2197" y="13"/>
                  </a:lnTo>
                  <a:lnTo>
                    <a:pt x="2215" y="10"/>
                  </a:lnTo>
                  <a:lnTo>
                    <a:pt x="2234" y="9"/>
                  </a:lnTo>
                  <a:lnTo>
                    <a:pt x="2252" y="8"/>
                  </a:lnTo>
                  <a:lnTo>
                    <a:pt x="2268" y="8"/>
                  </a:lnTo>
                  <a:lnTo>
                    <a:pt x="2283" y="7"/>
                  </a:lnTo>
                  <a:lnTo>
                    <a:pt x="2297" y="7"/>
                  </a:lnTo>
                  <a:lnTo>
                    <a:pt x="2310" y="6"/>
                  </a:lnTo>
                  <a:lnTo>
                    <a:pt x="2323" y="6"/>
                  </a:lnTo>
                  <a:lnTo>
                    <a:pt x="2360" y="7"/>
                  </a:lnTo>
                  <a:lnTo>
                    <a:pt x="2395" y="7"/>
                  </a:lnTo>
                  <a:lnTo>
                    <a:pt x="2430" y="9"/>
                  </a:lnTo>
                  <a:lnTo>
                    <a:pt x="2461" y="12"/>
                  </a:lnTo>
                  <a:lnTo>
                    <a:pt x="2490" y="15"/>
                  </a:lnTo>
                  <a:lnTo>
                    <a:pt x="2517" y="18"/>
                  </a:lnTo>
                  <a:lnTo>
                    <a:pt x="2542" y="21"/>
                  </a:lnTo>
                  <a:lnTo>
                    <a:pt x="2564" y="27"/>
                  </a:lnTo>
                  <a:lnTo>
                    <a:pt x="2585" y="32"/>
                  </a:lnTo>
                  <a:lnTo>
                    <a:pt x="2603" y="38"/>
                  </a:lnTo>
                  <a:lnTo>
                    <a:pt x="2619" y="45"/>
                  </a:lnTo>
                  <a:lnTo>
                    <a:pt x="2633" y="52"/>
                  </a:lnTo>
                  <a:lnTo>
                    <a:pt x="2645" y="60"/>
                  </a:lnTo>
                  <a:lnTo>
                    <a:pt x="2654" y="69"/>
                  </a:lnTo>
                  <a:lnTo>
                    <a:pt x="2661" y="78"/>
                  </a:lnTo>
                  <a:lnTo>
                    <a:pt x="2667" y="88"/>
                  </a:lnTo>
                  <a:lnTo>
                    <a:pt x="2674" y="112"/>
                  </a:lnTo>
                  <a:lnTo>
                    <a:pt x="2681" y="140"/>
                  </a:lnTo>
                  <a:lnTo>
                    <a:pt x="2690" y="169"/>
                  </a:lnTo>
                  <a:lnTo>
                    <a:pt x="2701" y="202"/>
                  </a:lnTo>
                  <a:lnTo>
                    <a:pt x="2714" y="239"/>
                  </a:lnTo>
                  <a:lnTo>
                    <a:pt x="2728" y="277"/>
                  </a:lnTo>
                  <a:lnTo>
                    <a:pt x="2743" y="319"/>
                  </a:lnTo>
                  <a:lnTo>
                    <a:pt x="2760" y="365"/>
                  </a:lnTo>
                  <a:lnTo>
                    <a:pt x="2786" y="420"/>
                  </a:lnTo>
                  <a:lnTo>
                    <a:pt x="2813" y="475"/>
                  </a:lnTo>
                  <a:lnTo>
                    <a:pt x="2840" y="529"/>
                  </a:lnTo>
                  <a:lnTo>
                    <a:pt x="2869" y="583"/>
                  </a:lnTo>
                  <a:lnTo>
                    <a:pt x="2898" y="637"/>
                  </a:lnTo>
                  <a:lnTo>
                    <a:pt x="2928" y="690"/>
                  </a:lnTo>
                  <a:lnTo>
                    <a:pt x="2957" y="743"/>
                  </a:lnTo>
                  <a:lnTo>
                    <a:pt x="2988" y="796"/>
                  </a:lnTo>
                  <a:lnTo>
                    <a:pt x="3019" y="848"/>
                  </a:lnTo>
                  <a:lnTo>
                    <a:pt x="3050" y="900"/>
                  </a:lnTo>
                  <a:lnTo>
                    <a:pt x="3083" y="951"/>
                  </a:lnTo>
                  <a:lnTo>
                    <a:pt x="3115" y="1002"/>
                  </a:lnTo>
                  <a:lnTo>
                    <a:pt x="3149" y="1052"/>
                  </a:lnTo>
                  <a:lnTo>
                    <a:pt x="3183" y="1102"/>
                  </a:lnTo>
                  <a:lnTo>
                    <a:pt x="3218" y="1151"/>
                  </a:lnTo>
                  <a:lnTo>
                    <a:pt x="3253" y="1201"/>
                  </a:lnTo>
                  <a:lnTo>
                    <a:pt x="3289" y="1250"/>
                  </a:lnTo>
                  <a:lnTo>
                    <a:pt x="3325" y="1298"/>
                  </a:lnTo>
                  <a:lnTo>
                    <a:pt x="3361" y="1346"/>
                  </a:lnTo>
                  <a:lnTo>
                    <a:pt x="3399" y="1393"/>
                  </a:lnTo>
                  <a:lnTo>
                    <a:pt x="3436" y="1441"/>
                  </a:lnTo>
                  <a:lnTo>
                    <a:pt x="3475" y="1487"/>
                  </a:lnTo>
                  <a:lnTo>
                    <a:pt x="3515" y="1533"/>
                  </a:lnTo>
                  <a:lnTo>
                    <a:pt x="3555" y="1579"/>
                  </a:lnTo>
                  <a:lnTo>
                    <a:pt x="3594" y="1624"/>
                  </a:lnTo>
                  <a:lnTo>
                    <a:pt x="3635" y="1669"/>
                  </a:lnTo>
                  <a:lnTo>
                    <a:pt x="3677" y="1713"/>
                  </a:lnTo>
                  <a:lnTo>
                    <a:pt x="3719" y="1757"/>
                  </a:lnTo>
                  <a:lnTo>
                    <a:pt x="3762" y="1800"/>
                  </a:lnTo>
                  <a:lnTo>
                    <a:pt x="3805" y="1843"/>
                  </a:lnTo>
                  <a:lnTo>
                    <a:pt x="3848" y="1886"/>
                  </a:lnTo>
                  <a:lnTo>
                    <a:pt x="3894" y="1929"/>
                  </a:lnTo>
                  <a:lnTo>
                    <a:pt x="3896" y="1931"/>
                  </a:lnTo>
                  <a:lnTo>
                    <a:pt x="3897" y="1933"/>
                  </a:lnTo>
                  <a:lnTo>
                    <a:pt x="3899" y="1934"/>
                  </a:lnTo>
                  <a:lnTo>
                    <a:pt x="3900" y="1936"/>
                  </a:lnTo>
                  <a:lnTo>
                    <a:pt x="3901" y="1937"/>
                  </a:lnTo>
                  <a:lnTo>
                    <a:pt x="3902" y="1939"/>
                  </a:lnTo>
                  <a:lnTo>
                    <a:pt x="3902" y="1942"/>
                  </a:lnTo>
                  <a:lnTo>
                    <a:pt x="3902" y="1943"/>
                  </a:lnTo>
                  <a:lnTo>
                    <a:pt x="3901" y="1948"/>
                  </a:lnTo>
                  <a:lnTo>
                    <a:pt x="3899" y="1954"/>
                  </a:lnTo>
                  <a:lnTo>
                    <a:pt x="3894" y="1958"/>
                  </a:lnTo>
                  <a:lnTo>
                    <a:pt x="3887" y="1961"/>
                  </a:lnTo>
                  <a:lnTo>
                    <a:pt x="3877" y="1964"/>
                  </a:lnTo>
                  <a:lnTo>
                    <a:pt x="3866" y="1966"/>
                  </a:lnTo>
                  <a:lnTo>
                    <a:pt x="3853" y="1967"/>
                  </a:lnTo>
                  <a:lnTo>
                    <a:pt x="3838" y="1967"/>
                  </a:lnTo>
                  <a:lnTo>
                    <a:pt x="3831" y="1967"/>
                  </a:lnTo>
                  <a:lnTo>
                    <a:pt x="3822" y="1967"/>
                  </a:lnTo>
                  <a:lnTo>
                    <a:pt x="3813" y="1967"/>
                  </a:lnTo>
                  <a:lnTo>
                    <a:pt x="3803" y="1966"/>
                  </a:lnTo>
                  <a:lnTo>
                    <a:pt x="3792" y="1966"/>
                  </a:lnTo>
                  <a:lnTo>
                    <a:pt x="3781" y="1965"/>
                  </a:lnTo>
                  <a:lnTo>
                    <a:pt x="3768" y="1965"/>
                  </a:lnTo>
                  <a:lnTo>
                    <a:pt x="3754" y="1964"/>
                  </a:lnTo>
                  <a:lnTo>
                    <a:pt x="3741" y="1963"/>
                  </a:lnTo>
                  <a:lnTo>
                    <a:pt x="3729" y="1961"/>
                  </a:lnTo>
                  <a:lnTo>
                    <a:pt x="3717" y="1960"/>
                  </a:lnTo>
                  <a:lnTo>
                    <a:pt x="3706" y="1960"/>
                  </a:lnTo>
                  <a:lnTo>
                    <a:pt x="3696" y="1959"/>
                  </a:lnTo>
                  <a:lnTo>
                    <a:pt x="3686" y="1959"/>
                  </a:lnTo>
                  <a:lnTo>
                    <a:pt x="3677" y="1959"/>
                  </a:lnTo>
                  <a:lnTo>
                    <a:pt x="3668" y="1959"/>
                  </a:lnTo>
                  <a:lnTo>
                    <a:pt x="3595" y="1968"/>
                  </a:lnTo>
                  <a:lnTo>
                    <a:pt x="3527" y="1976"/>
                  </a:lnTo>
                  <a:lnTo>
                    <a:pt x="3466" y="1981"/>
                  </a:lnTo>
                  <a:lnTo>
                    <a:pt x="3411" y="1987"/>
                  </a:lnTo>
                  <a:lnTo>
                    <a:pt x="3362" y="1991"/>
                  </a:lnTo>
                  <a:lnTo>
                    <a:pt x="3319" y="1993"/>
                  </a:lnTo>
                  <a:lnTo>
                    <a:pt x="3283" y="1996"/>
                  </a:lnTo>
                  <a:lnTo>
                    <a:pt x="3252" y="1996"/>
                  </a:lnTo>
                  <a:lnTo>
                    <a:pt x="3206" y="1995"/>
                  </a:lnTo>
                  <a:lnTo>
                    <a:pt x="3164" y="1992"/>
                  </a:lnTo>
                  <a:lnTo>
                    <a:pt x="3145" y="1990"/>
                  </a:lnTo>
                  <a:lnTo>
                    <a:pt x="3126" y="1987"/>
                  </a:lnTo>
                  <a:lnTo>
                    <a:pt x="3110" y="1985"/>
                  </a:lnTo>
                  <a:lnTo>
                    <a:pt x="3095" y="1980"/>
                  </a:lnTo>
                  <a:lnTo>
                    <a:pt x="3081" y="1977"/>
                  </a:lnTo>
                  <a:lnTo>
                    <a:pt x="3068" y="1971"/>
                  </a:lnTo>
                  <a:lnTo>
                    <a:pt x="3057" y="1967"/>
                  </a:lnTo>
                  <a:lnTo>
                    <a:pt x="3046" y="1961"/>
                  </a:lnTo>
                  <a:lnTo>
                    <a:pt x="3037" y="1956"/>
                  </a:lnTo>
                  <a:lnTo>
                    <a:pt x="3029" y="1949"/>
                  </a:lnTo>
                  <a:lnTo>
                    <a:pt x="3022" y="1942"/>
                  </a:lnTo>
                  <a:lnTo>
                    <a:pt x="3017" y="1935"/>
                  </a:lnTo>
                  <a:lnTo>
                    <a:pt x="2978" y="1869"/>
                  </a:lnTo>
                  <a:lnTo>
                    <a:pt x="2940" y="1804"/>
                  </a:lnTo>
                  <a:lnTo>
                    <a:pt x="2901" y="1740"/>
                  </a:lnTo>
                  <a:lnTo>
                    <a:pt x="2860" y="1677"/>
                  </a:lnTo>
                  <a:lnTo>
                    <a:pt x="2820" y="1615"/>
                  </a:lnTo>
                  <a:lnTo>
                    <a:pt x="2778" y="1553"/>
                  </a:lnTo>
                  <a:lnTo>
                    <a:pt x="2737" y="1492"/>
                  </a:lnTo>
                  <a:lnTo>
                    <a:pt x="2693" y="1432"/>
                  </a:lnTo>
                  <a:lnTo>
                    <a:pt x="1051" y="1480"/>
                  </a:lnTo>
                  <a:lnTo>
                    <a:pt x="1030" y="1504"/>
                  </a:lnTo>
                  <a:lnTo>
                    <a:pt x="1008" y="1530"/>
                  </a:lnTo>
                  <a:lnTo>
                    <a:pt x="987" y="1556"/>
                  </a:lnTo>
                  <a:lnTo>
                    <a:pt x="965" y="1585"/>
                  </a:lnTo>
                  <a:lnTo>
                    <a:pt x="943" y="1614"/>
                  </a:lnTo>
                  <a:lnTo>
                    <a:pt x="920" y="1646"/>
                  </a:lnTo>
                  <a:lnTo>
                    <a:pt x="898" y="1678"/>
                  </a:lnTo>
                  <a:lnTo>
                    <a:pt x="876" y="1712"/>
                  </a:lnTo>
                  <a:lnTo>
                    <a:pt x="854" y="1746"/>
                  </a:lnTo>
                  <a:lnTo>
                    <a:pt x="831" y="1784"/>
                  </a:lnTo>
                  <a:lnTo>
                    <a:pt x="808" y="1821"/>
                  </a:lnTo>
                  <a:lnTo>
                    <a:pt x="786" y="1860"/>
                  </a:lnTo>
                  <a:lnTo>
                    <a:pt x="739" y="1943"/>
                  </a:lnTo>
                  <a:lnTo>
                    <a:pt x="692" y="2031"/>
                  </a:lnTo>
                  <a:lnTo>
                    <a:pt x="689" y="2037"/>
                  </a:lnTo>
                  <a:lnTo>
                    <a:pt x="685" y="2041"/>
                  </a:lnTo>
                  <a:lnTo>
                    <a:pt x="681" y="2045"/>
                  </a:lnTo>
                  <a:lnTo>
                    <a:pt x="675" y="2050"/>
                  </a:lnTo>
                  <a:lnTo>
                    <a:pt x="664" y="2057"/>
                  </a:lnTo>
                  <a:lnTo>
                    <a:pt x="651" y="2063"/>
                  </a:lnTo>
                  <a:lnTo>
                    <a:pt x="637" y="2067"/>
                  </a:lnTo>
                  <a:lnTo>
                    <a:pt x="619" y="2071"/>
                  </a:lnTo>
                  <a:lnTo>
                    <a:pt x="599" y="2073"/>
                  </a:lnTo>
                  <a:lnTo>
                    <a:pt x="578" y="2074"/>
                  </a:lnTo>
                  <a:lnTo>
                    <a:pt x="527" y="2073"/>
                  </a:lnTo>
                  <a:lnTo>
                    <a:pt x="481" y="2073"/>
                  </a:lnTo>
                  <a:lnTo>
                    <a:pt x="438" y="2071"/>
                  </a:lnTo>
                  <a:lnTo>
                    <a:pt x="400" y="2069"/>
                  </a:lnTo>
                  <a:lnTo>
                    <a:pt x="365" y="2066"/>
                  </a:lnTo>
                  <a:lnTo>
                    <a:pt x="334" y="2063"/>
                  </a:lnTo>
                  <a:lnTo>
                    <a:pt x="308" y="2060"/>
                  </a:lnTo>
                  <a:lnTo>
                    <a:pt x="286" y="2056"/>
                  </a:lnTo>
                  <a:lnTo>
                    <a:pt x="257" y="2048"/>
                  </a:lnTo>
                  <a:lnTo>
                    <a:pt x="229" y="2039"/>
                  </a:lnTo>
                  <a:lnTo>
                    <a:pt x="201" y="2030"/>
                  </a:lnTo>
                  <a:lnTo>
                    <a:pt x="173" y="2022"/>
                  </a:lnTo>
                  <a:lnTo>
                    <a:pt x="144" y="2013"/>
                  </a:lnTo>
                  <a:lnTo>
                    <a:pt x="117" y="2005"/>
                  </a:lnTo>
                  <a:lnTo>
                    <a:pt x="89" y="1996"/>
                  </a:lnTo>
                  <a:lnTo>
                    <a:pt x="62" y="1988"/>
                  </a:lnTo>
                  <a:lnTo>
                    <a:pt x="47" y="1982"/>
                  </a:lnTo>
                  <a:lnTo>
                    <a:pt x="35" y="1977"/>
                  </a:lnTo>
                  <a:lnTo>
                    <a:pt x="24" y="1970"/>
                  </a:lnTo>
                  <a:lnTo>
                    <a:pt x="15" y="1964"/>
                  </a:lnTo>
                  <a:lnTo>
                    <a:pt x="9" y="1955"/>
                  </a:lnTo>
                  <a:lnTo>
                    <a:pt x="3" y="1947"/>
                  </a:lnTo>
                  <a:lnTo>
                    <a:pt x="1" y="1938"/>
                  </a:lnTo>
                  <a:lnTo>
                    <a:pt x="0" y="1928"/>
                  </a:lnTo>
                  <a:lnTo>
                    <a:pt x="1" y="1921"/>
                  </a:lnTo>
                  <a:lnTo>
                    <a:pt x="6" y="1910"/>
                  </a:lnTo>
                  <a:lnTo>
                    <a:pt x="15" y="1895"/>
                  </a:lnTo>
                  <a:lnTo>
                    <a:pt x="27" y="1878"/>
                  </a:lnTo>
                  <a:lnTo>
                    <a:pt x="43" y="1857"/>
                  </a:lnTo>
                  <a:lnTo>
                    <a:pt x="62" y="1832"/>
                  </a:lnTo>
                  <a:lnTo>
                    <a:pt x="84" y="1805"/>
                  </a:lnTo>
                  <a:lnTo>
                    <a:pt x="110" y="1773"/>
                  </a:lnTo>
                  <a:lnTo>
                    <a:pt x="172" y="1701"/>
                  </a:lnTo>
                  <a:lnTo>
                    <a:pt x="248" y="1615"/>
                  </a:lnTo>
                  <a:lnTo>
                    <a:pt x="338" y="1516"/>
                  </a:lnTo>
                  <a:lnTo>
                    <a:pt x="440" y="1402"/>
                  </a:lnTo>
                  <a:lnTo>
                    <a:pt x="508" y="1330"/>
                  </a:lnTo>
                  <a:lnTo>
                    <a:pt x="575" y="1257"/>
                  </a:lnTo>
                  <a:lnTo>
                    <a:pt x="642" y="1186"/>
                  </a:lnTo>
                  <a:lnTo>
                    <a:pt x="710" y="1114"/>
                  </a:lnTo>
                  <a:lnTo>
                    <a:pt x="777" y="1041"/>
                  </a:lnTo>
                  <a:lnTo>
                    <a:pt x="843" y="969"/>
                  </a:lnTo>
                  <a:lnTo>
                    <a:pt x="910" y="897"/>
                  </a:lnTo>
                  <a:lnTo>
                    <a:pt x="978" y="825"/>
                  </a:lnTo>
                  <a:lnTo>
                    <a:pt x="1042" y="753"/>
                  </a:lnTo>
                  <a:lnTo>
                    <a:pt x="1099" y="689"/>
                  </a:lnTo>
                  <a:lnTo>
                    <a:pt x="1150" y="633"/>
                  </a:lnTo>
                  <a:lnTo>
                    <a:pt x="1194" y="583"/>
                  </a:lnTo>
                  <a:lnTo>
                    <a:pt x="1233" y="540"/>
                  </a:lnTo>
                  <a:lnTo>
                    <a:pt x="1265" y="505"/>
                  </a:lnTo>
                  <a:lnTo>
                    <a:pt x="1289" y="476"/>
                  </a:lnTo>
                  <a:lnTo>
                    <a:pt x="1308" y="454"/>
                  </a:lnTo>
                  <a:lnTo>
                    <a:pt x="1352" y="401"/>
                  </a:lnTo>
                  <a:lnTo>
                    <a:pt x="1393" y="349"/>
                  </a:lnTo>
                  <a:lnTo>
                    <a:pt x="1430" y="300"/>
                  </a:lnTo>
                  <a:lnTo>
                    <a:pt x="1465" y="252"/>
                  </a:lnTo>
                  <a:lnTo>
                    <a:pt x="1497" y="206"/>
                  </a:lnTo>
                  <a:lnTo>
                    <a:pt x="1525" y="161"/>
                  </a:lnTo>
                  <a:lnTo>
                    <a:pt x="1551" y="119"/>
                  </a:lnTo>
                  <a:lnTo>
                    <a:pt x="1574" y="77"/>
                  </a:lnTo>
                  <a:lnTo>
                    <a:pt x="1576" y="70"/>
                  </a:lnTo>
                  <a:lnTo>
                    <a:pt x="1577" y="64"/>
                  </a:lnTo>
                  <a:lnTo>
                    <a:pt x="1580" y="58"/>
                  </a:lnTo>
                  <a:lnTo>
                    <a:pt x="1582" y="51"/>
                  </a:lnTo>
                  <a:lnTo>
                    <a:pt x="1583" y="46"/>
                  </a:lnTo>
                  <a:lnTo>
                    <a:pt x="1585" y="39"/>
                  </a:lnTo>
                  <a:lnTo>
                    <a:pt x="1586" y="32"/>
                  </a:lnTo>
                  <a:lnTo>
                    <a:pt x="1588" y="27"/>
                  </a:lnTo>
                  <a:lnTo>
                    <a:pt x="1594" y="20"/>
                  </a:lnTo>
                  <a:lnTo>
                    <a:pt x="1602" y="16"/>
                  </a:lnTo>
                  <a:lnTo>
                    <a:pt x="1612" y="10"/>
                  </a:lnTo>
                  <a:lnTo>
                    <a:pt x="1623" y="7"/>
                  </a:lnTo>
                  <a:lnTo>
                    <a:pt x="1636" y="5"/>
                  </a:lnTo>
                  <a:lnTo>
                    <a:pt x="1650" y="3"/>
                  </a:lnTo>
                  <a:lnTo>
                    <a:pt x="1667" y="2"/>
                  </a:lnTo>
                  <a:lnTo>
                    <a:pt x="1684" y="0"/>
                  </a:lnTo>
                  <a:close/>
                  <a:moveTo>
                    <a:pt x="2586" y="1281"/>
                  </a:moveTo>
                  <a:lnTo>
                    <a:pt x="2045" y="400"/>
                  </a:lnTo>
                  <a:lnTo>
                    <a:pt x="1185" y="1315"/>
                  </a:lnTo>
                  <a:lnTo>
                    <a:pt x="2586" y="1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880320" y="1028520"/>
              <a:ext cx="1103040" cy="815760"/>
            </a:xfrm>
            <a:custGeom>
              <a:avLst/>
              <a:gdLst/>
              <a:ahLst/>
              <a:rect l="l" t="t" r="r" b="b"/>
              <a:pathLst>
                <a:path w="2781" h="2056">
                  <a:moveTo>
                    <a:pt x="117" y="476"/>
                  </a:moveTo>
                  <a:lnTo>
                    <a:pt x="117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4" y="213"/>
                  </a:lnTo>
                  <a:lnTo>
                    <a:pt x="111" y="169"/>
                  </a:lnTo>
                  <a:lnTo>
                    <a:pt x="109" y="134"/>
                  </a:lnTo>
                  <a:lnTo>
                    <a:pt x="107" y="106"/>
                  </a:lnTo>
                  <a:lnTo>
                    <a:pt x="104" y="86"/>
                  </a:lnTo>
                  <a:lnTo>
                    <a:pt x="104" y="84"/>
                  </a:lnTo>
                  <a:lnTo>
                    <a:pt x="103" y="81"/>
                  </a:lnTo>
                  <a:lnTo>
                    <a:pt x="101" y="78"/>
                  </a:lnTo>
                  <a:lnTo>
                    <a:pt x="99" y="75"/>
                  </a:lnTo>
                  <a:lnTo>
                    <a:pt x="97" y="71"/>
                  </a:lnTo>
                  <a:lnTo>
                    <a:pt x="94" y="67"/>
                  </a:lnTo>
                  <a:lnTo>
                    <a:pt x="90" y="63"/>
                  </a:lnTo>
                  <a:lnTo>
                    <a:pt x="86" y="59"/>
                  </a:lnTo>
                  <a:lnTo>
                    <a:pt x="83" y="54"/>
                  </a:lnTo>
                  <a:lnTo>
                    <a:pt x="78" y="50"/>
                  </a:lnTo>
                  <a:lnTo>
                    <a:pt x="76" y="46"/>
                  </a:lnTo>
                  <a:lnTo>
                    <a:pt x="74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9" y="35"/>
                  </a:lnTo>
                  <a:lnTo>
                    <a:pt x="71" y="31"/>
                  </a:lnTo>
                  <a:lnTo>
                    <a:pt x="72" y="28"/>
                  </a:lnTo>
                  <a:lnTo>
                    <a:pt x="74" y="23"/>
                  </a:lnTo>
                  <a:lnTo>
                    <a:pt x="76" y="20"/>
                  </a:lnTo>
                  <a:lnTo>
                    <a:pt x="80" y="17"/>
                  </a:lnTo>
                  <a:lnTo>
                    <a:pt x="85" y="14"/>
                  </a:lnTo>
                  <a:lnTo>
                    <a:pt x="90" y="11"/>
                  </a:lnTo>
                  <a:lnTo>
                    <a:pt x="96" y="9"/>
                  </a:lnTo>
                  <a:lnTo>
                    <a:pt x="111" y="6"/>
                  </a:lnTo>
                  <a:lnTo>
                    <a:pt x="129" y="2"/>
                  </a:lnTo>
                  <a:lnTo>
                    <a:pt x="151" y="1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8" y="1"/>
                  </a:lnTo>
                  <a:lnTo>
                    <a:pt x="195" y="1"/>
                  </a:lnTo>
                  <a:lnTo>
                    <a:pt x="204" y="1"/>
                  </a:lnTo>
                  <a:lnTo>
                    <a:pt x="213" y="2"/>
                  </a:lnTo>
                  <a:lnTo>
                    <a:pt x="223" y="3"/>
                  </a:lnTo>
                  <a:lnTo>
                    <a:pt x="234" y="3"/>
                  </a:lnTo>
                  <a:lnTo>
                    <a:pt x="245" y="5"/>
                  </a:lnTo>
                  <a:lnTo>
                    <a:pt x="256" y="6"/>
                  </a:lnTo>
                  <a:lnTo>
                    <a:pt x="267" y="7"/>
                  </a:lnTo>
                  <a:lnTo>
                    <a:pt x="278" y="7"/>
                  </a:lnTo>
                  <a:lnTo>
                    <a:pt x="287" y="8"/>
                  </a:lnTo>
                  <a:lnTo>
                    <a:pt x="296" y="8"/>
                  </a:lnTo>
                  <a:lnTo>
                    <a:pt x="303" y="8"/>
                  </a:lnTo>
                  <a:lnTo>
                    <a:pt x="311" y="8"/>
                  </a:lnTo>
                  <a:lnTo>
                    <a:pt x="318" y="9"/>
                  </a:lnTo>
                  <a:lnTo>
                    <a:pt x="337" y="8"/>
                  </a:lnTo>
                  <a:lnTo>
                    <a:pt x="356" y="8"/>
                  </a:lnTo>
                  <a:lnTo>
                    <a:pt x="379" y="8"/>
                  </a:lnTo>
                  <a:lnTo>
                    <a:pt x="404" y="8"/>
                  </a:lnTo>
                  <a:lnTo>
                    <a:pt x="430" y="7"/>
                  </a:lnTo>
                  <a:lnTo>
                    <a:pt x="459" y="7"/>
                  </a:lnTo>
                  <a:lnTo>
                    <a:pt x="490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6" y="3"/>
                  </a:lnTo>
                  <a:lnTo>
                    <a:pt x="615" y="2"/>
                  </a:lnTo>
                  <a:lnTo>
                    <a:pt x="640" y="1"/>
                  </a:lnTo>
                  <a:lnTo>
                    <a:pt x="664" y="1"/>
                  </a:lnTo>
                  <a:lnTo>
                    <a:pt x="687" y="1"/>
                  </a:lnTo>
                  <a:lnTo>
                    <a:pt x="706" y="0"/>
                  </a:lnTo>
                  <a:lnTo>
                    <a:pt x="724" y="0"/>
                  </a:lnTo>
                  <a:lnTo>
                    <a:pt x="822" y="1"/>
                  </a:lnTo>
                  <a:lnTo>
                    <a:pt x="918" y="2"/>
                  </a:lnTo>
                  <a:lnTo>
                    <a:pt x="1014" y="6"/>
                  </a:lnTo>
                  <a:lnTo>
                    <a:pt x="1107" y="9"/>
                  </a:lnTo>
                  <a:lnTo>
                    <a:pt x="1199" y="13"/>
                  </a:lnTo>
                  <a:lnTo>
                    <a:pt x="1288" y="19"/>
                  </a:lnTo>
                  <a:lnTo>
                    <a:pt x="1377" y="25"/>
                  </a:lnTo>
                  <a:lnTo>
                    <a:pt x="1463" y="33"/>
                  </a:lnTo>
                  <a:lnTo>
                    <a:pt x="1547" y="42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9" y="73"/>
                  </a:lnTo>
                  <a:lnTo>
                    <a:pt x="1867" y="86"/>
                  </a:lnTo>
                  <a:lnTo>
                    <a:pt x="1942" y="99"/>
                  </a:lnTo>
                  <a:lnTo>
                    <a:pt x="2016" y="115"/>
                  </a:lnTo>
                  <a:lnTo>
                    <a:pt x="2088" y="130"/>
                  </a:lnTo>
                  <a:lnTo>
                    <a:pt x="2131" y="140"/>
                  </a:lnTo>
                  <a:lnTo>
                    <a:pt x="2171" y="150"/>
                  </a:lnTo>
                  <a:lnTo>
                    <a:pt x="2211" y="161"/>
                  </a:lnTo>
                  <a:lnTo>
                    <a:pt x="2250" y="171"/>
                  </a:lnTo>
                  <a:lnTo>
                    <a:pt x="2287" y="182"/>
                  </a:lnTo>
                  <a:lnTo>
                    <a:pt x="2323" y="194"/>
                  </a:lnTo>
                  <a:lnTo>
                    <a:pt x="2358" y="205"/>
                  </a:lnTo>
                  <a:lnTo>
                    <a:pt x="2391" y="218"/>
                  </a:lnTo>
                  <a:lnTo>
                    <a:pt x="2423" y="230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10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5" y="307"/>
                  </a:lnTo>
                  <a:lnTo>
                    <a:pt x="2608" y="321"/>
                  </a:lnTo>
                  <a:lnTo>
                    <a:pt x="2628" y="336"/>
                  </a:lnTo>
                  <a:lnTo>
                    <a:pt x="2648" y="350"/>
                  </a:lnTo>
                  <a:lnTo>
                    <a:pt x="2666" y="364"/>
                  </a:lnTo>
                  <a:lnTo>
                    <a:pt x="2683" y="380"/>
                  </a:lnTo>
                  <a:lnTo>
                    <a:pt x="2698" y="394"/>
                  </a:lnTo>
                  <a:lnTo>
                    <a:pt x="2712" y="410"/>
                  </a:lnTo>
                  <a:lnTo>
                    <a:pt x="2726" y="426"/>
                  </a:lnTo>
                  <a:lnTo>
                    <a:pt x="2737" y="442"/>
                  </a:lnTo>
                  <a:lnTo>
                    <a:pt x="2748" y="458"/>
                  </a:lnTo>
                  <a:lnTo>
                    <a:pt x="2755" y="475"/>
                  </a:lnTo>
                  <a:lnTo>
                    <a:pt x="2763" y="491"/>
                  </a:lnTo>
                  <a:lnTo>
                    <a:pt x="2770" y="508"/>
                  </a:lnTo>
                  <a:lnTo>
                    <a:pt x="2774" y="525"/>
                  </a:lnTo>
                  <a:lnTo>
                    <a:pt x="2778" y="543"/>
                  </a:lnTo>
                  <a:lnTo>
                    <a:pt x="2780" y="561"/>
                  </a:lnTo>
                  <a:lnTo>
                    <a:pt x="2781" y="578"/>
                  </a:lnTo>
                  <a:lnTo>
                    <a:pt x="2780" y="597"/>
                  </a:lnTo>
                  <a:lnTo>
                    <a:pt x="2778" y="616"/>
                  </a:lnTo>
                  <a:lnTo>
                    <a:pt x="2775" y="636"/>
                  </a:lnTo>
                  <a:lnTo>
                    <a:pt x="2771" y="653"/>
                  </a:lnTo>
                  <a:lnTo>
                    <a:pt x="2765" y="672"/>
                  </a:lnTo>
                  <a:lnTo>
                    <a:pt x="2759" y="691"/>
                  </a:lnTo>
                  <a:lnTo>
                    <a:pt x="2752" y="710"/>
                  </a:lnTo>
                  <a:lnTo>
                    <a:pt x="2743" y="727"/>
                  </a:lnTo>
                  <a:lnTo>
                    <a:pt x="2733" y="745"/>
                  </a:lnTo>
                  <a:lnTo>
                    <a:pt x="2721" y="764"/>
                  </a:lnTo>
                  <a:lnTo>
                    <a:pt x="2709" y="781"/>
                  </a:lnTo>
                  <a:lnTo>
                    <a:pt x="2696" y="799"/>
                  </a:lnTo>
                  <a:lnTo>
                    <a:pt x="2681" y="816"/>
                  </a:lnTo>
                  <a:lnTo>
                    <a:pt x="2666" y="833"/>
                  </a:lnTo>
                  <a:lnTo>
                    <a:pt x="2648" y="851"/>
                  </a:lnTo>
                  <a:lnTo>
                    <a:pt x="2631" y="867"/>
                  </a:lnTo>
                  <a:lnTo>
                    <a:pt x="2611" y="885"/>
                  </a:lnTo>
                  <a:lnTo>
                    <a:pt x="2591" y="902"/>
                  </a:lnTo>
                  <a:lnTo>
                    <a:pt x="2569" y="918"/>
                  </a:lnTo>
                  <a:lnTo>
                    <a:pt x="2546" y="935"/>
                  </a:lnTo>
                  <a:lnTo>
                    <a:pt x="2523" y="951"/>
                  </a:lnTo>
                  <a:lnTo>
                    <a:pt x="2497" y="968"/>
                  </a:lnTo>
                  <a:lnTo>
                    <a:pt x="2471" y="983"/>
                  </a:lnTo>
                  <a:lnTo>
                    <a:pt x="2443" y="1000"/>
                  </a:lnTo>
                  <a:lnTo>
                    <a:pt x="2414" y="1015"/>
                  </a:lnTo>
                  <a:lnTo>
                    <a:pt x="2385" y="1031"/>
                  </a:lnTo>
                  <a:lnTo>
                    <a:pt x="2354" y="1046"/>
                  </a:lnTo>
                  <a:lnTo>
                    <a:pt x="2322" y="1062"/>
                  </a:lnTo>
                  <a:lnTo>
                    <a:pt x="2287" y="1077"/>
                  </a:lnTo>
                  <a:lnTo>
                    <a:pt x="2253" y="1093"/>
                  </a:lnTo>
                  <a:lnTo>
                    <a:pt x="2218" y="1108"/>
                  </a:lnTo>
                  <a:lnTo>
                    <a:pt x="2180" y="1122"/>
                  </a:lnTo>
                  <a:lnTo>
                    <a:pt x="2143" y="1138"/>
                  </a:lnTo>
                  <a:lnTo>
                    <a:pt x="2105" y="1151"/>
                  </a:lnTo>
                  <a:lnTo>
                    <a:pt x="2067" y="1165"/>
                  </a:lnTo>
                  <a:lnTo>
                    <a:pt x="2028" y="1179"/>
                  </a:lnTo>
                  <a:lnTo>
                    <a:pt x="1950" y="1204"/>
                  </a:lnTo>
                  <a:lnTo>
                    <a:pt x="1870" y="1227"/>
                  </a:lnTo>
                  <a:lnTo>
                    <a:pt x="1788" y="1248"/>
                  </a:lnTo>
                  <a:lnTo>
                    <a:pt x="1707" y="1268"/>
                  </a:lnTo>
                  <a:lnTo>
                    <a:pt x="1623" y="1286"/>
                  </a:lnTo>
                  <a:lnTo>
                    <a:pt x="1538" y="1301"/>
                  </a:lnTo>
                  <a:lnTo>
                    <a:pt x="1452" y="1316"/>
                  </a:lnTo>
                  <a:lnTo>
                    <a:pt x="1363" y="1328"/>
                  </a:lnTo>
                  <a:lnTo>
                    <a:pt x="1275" y="1338"/>
                  </a:lnTo>
                  <a:lnTo>
                    <a:pt x="1184" y="1345"/>
                  </a:lnTo>
                  <a:lnTo>
                    <a:pt x="1093" y="1352"/>
                  </a:lnTo>
                  <a:lnTo>
                    <a:pt x="999" y="1357"/>
                  </a:lnTo>
                  <a:lnTo>
                    <a:pt x="905" y="1360"/>
                  </a:lnTo>
                  <a:lnTo>
                    <a:pt x="809" y="1361"/>
                  </a:lnTo>
                  <a:lnTo>
                    <a:pt x="806" y="1384"/>
                  </a:lnTo>
                  <a:lnTo>
                    <a:pt x="804" y="1406"/>
                  </a:lnTo>
                  <a:lnTo>
                    <a:pt x="800" y="1427"/>
                  </a:lnTo>
                  <a:lnTo>
                    <a:pt x="799" y="1447"/>
                  </a:lnTo>
                  <a:lnTo>
                    <a:pt x="797" y="1466"/>
                  </a:lnTo>
                  <a:lnTo>
                    <a:pt x="796" y="1483"/>
                  </a:lnTo>
                  <a:lnTo>
                    <a:pt x="796" y="1500"/>
                  </a:lnTo>
                  <a:lnTo>
                    <a:pt x="796" y="1516"/>
                  </a:lnTo>
                  <a:lnTo>
                    <a:pt x="796" y="1555"/>
                  </a:lnTo>
                  <a:lnTo>
                    <a:pt x="796" y="1593"/>
                  </a:lnTo>
                  <a:lnTo>
                    <a:pt x="798" y="1628"/>
                  </a:lnTo>
                  <a:lnTo>
                    <a:pt x="799" y="1663"/>
                  </a:lnTo>
                  <a:lnTo>
                    <a:pt x="801" y="1696"/>
                  </a:lnTo>
                  <a:lnTo>
                    <a:pt x="805" y="1728"/>
                  </a:lnTo>
                  <a:lnTo>
                    <a:pt x="808" y="1759"/>
                  </a:lnTo>
                  <a:lnTo>
                    <a:pt x="812" y="1788"/>
                  </a:lnTo>
                  <a:lnTo>
                    <a:pt x="817" y="1815"/>
                  </a:lnTo>
                  <a:lnTo>
                    <a:pt x="821" y="1842"/>
                  </a:lnTo>
                  <a:lnTo>
                    <a:pt x="827" y="1867"/>
                  </a:lnTo>
                  <a:lnTo>
                    <a:pt x="832" y="1890"/>
                  </a:lnTo>
                  <a:lnTo>
                    <a:pt x="839" y="1913"/>
                  </a:lnTo>
                  <a:lnTo>
                    <a:pt x="846" y="1933"/>
                  </a:lnTo>
                  <a:lnTo>
                    <a:pt x="853" y="1953"/>
                  </a:lnTo>
                  <a:lnTo>
                    <a:pt x="861" y="1971"/>
                  </a:lnTo>
                  <a:lnTo>
                    <a:pt x="867" y="1982"/>
                  </a:lnTo>
                  <a:lnTo>
                    <a:pt x="871" y="1991"/>
                  </a:lnTo>
                  <a:lnTo>
                    <a:pt x="874" y="1999"/>
                  </a:lnTo>
                  <a:lnTo>
                    <a:pt x="878" y="2004"/>
                  </a:lnTo>
                  <a:lnTo>
                    <a:pt x="880" y="2009"/>
                  </a:lnTo>
                  <a:lnTo>
                    <a:pt x="881" y="2011"/>
                  </a:lnTo>
                  <a:lnTo>
                    <a:pt x="882" y="2012"/>
                  </a:lnTo>
                  <a:lnTo>
                    <a:pt x="882" y="2011"/>
                  </a:lnTo>
                  <a:lnTo>
                    <a:pt x="882" y="2016"/>
                  </a:lnTo>
                  <a:lnTo>
                    <a:pt x="880" y="2021"/>
                  </a:lnTo>
                  <a:lnTo>
                    <a:pt x="878" y="2026"/>
                  </a:lnTo>
                  <a:lnTo>
                    <a:pt x="873" y="2031"/>
                  </a:lnTo>
                  <a:lnTo>
                    <a:pt x="868" y="2034"/>
                  </a:lnTo>
                  <a:lnTo>
                    <a:pt x="861" y="2038"/>
                  </a:lnTo>
                  <a:lnTo>
                    <a:pt x="853" y="2042"/>
                  </a:lnTo>
                  <a:lnTo>
                    <a:pt x="844" y="2045"/>
                  </a:lnTo>
                  <a:lnTo>
                    <a:pt x="834" y="2047"/>
                  </a:lnTo>
                  <a:lnTo>
                    <a:pt x="823" y="2049"/>
                  </a:lnTo>
                  <a:lnTo>
                    <a:pt x="810" y="2052"/>
                  </a:lnTo>
                  <a:lnTo>
                    <a:pt x="797" y="2053"/>
                  </a:lnTo>
                  <a:lnTo>
                    <a:pt x="766" y="2055"/>
                  </a:lnTo>
                  <a:lnTo>
                    <a:pt x="731" y="2056"/>
                  </a:lnTo>
                  <a:lnTo>
                    <a:pt x="720" y="2056"/>
                  </a:lnTo>
                  <a:lnTo>
                    <a:pt x="709" y="2055"/>
                  </a:lnTo>
                  <a:lnTo>
                    <a:pt x="698" y="2054"/>
                  </a:lnTo>
                  <a:lnTo>
                    <a:pt x="685" y="2053"/>
                  </a:lnTo>
                  <a:lnTo>
                    <a:pt x="672" y="2052"/>
                  </a:lnTo>
                  <a:lnTo>
                    <a:pt x="658" y="2050"/>
                  </a:lnTo>
                  <a:lnTo>
                    <a:pt x="645" y="2048"/>
                  </a:lnTo>
                  <a:lnTo>
                    <a:pt x="629" y="2045"/>
                  </a:lnTo>
                  <a:lnTo>
                    <a:pt x="615" y="2043"/>
                  </a:lnTo>
                  <a:lnTo>
                    <a:pt x="602" y="2041"/>
                  </a:lnTo>
                  <a:lnTo>
                    <a:pt x="588" y="2039"/>
                  </a:lnTo>
                  <a:lnTo>
                    <a:pt x="577" y="2037"/>
                  </a:lnTo>
                  <a:lnTo>
                    <a:pt x="566" y="2036"/>
                  </a:lnTo>
                  <a:lnTo>
                    <a:pt x="557" y="2036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30" y="2035"/>
                  </a:lnTo>
                  <a:lnTo>
                    <a:pt x="523" y="2036"/>
                  </a:lnTo>
                  <a:lnTo>
                    <a:pt x="515" y="2036"/>
                  </a:lnTo>
                  <a:lnTo>
                    <a:pt x="508" y="2037"/>
                  </a:lnTo>
                  <a:lnTo>
                    <a:pt x="499" y="2037"/>
                  </a:lnTo>
                  <a:lnTo>
                    <a:pt x="489" y="2038"/>
                  </a:lnTo>
                  <a:lnTo>
                    <a:pt x="479" y="2039"/>
                  </a:lnTo>
                  <a:lnTo>
                    <a:pt x="469" y="2041"/>
                  </a:lnTo>
                  <a:lnTo>
                    <a:pt x="460" y="2042"/>
                  </a:lnTo>
                  <a:lnTo>
                    <a:pt x="451" y="2043"/>
                  </a:lnTo>
                  <a:lnTo>
                    <a:pt x="443" y="2044"/>
                  </a:lnTo>
                  <a:lnTo>
                    <a:pt x="436" y="2044"/>
                  </a:lnTo>
                  <a:lnTo>
                    <a:pt x="429" y="2044"/>
                  </a:lnTo>
                  <a:lnTo>
                    <a:pt x="423" y="2045"/>
                  </a:lnTo>
                  <a:lnTo>
                    <a:pt x="418" y="2045"/>
                  </a:lnTo>
                  <a:lnTo>
                    <a:pt x="396" y="2044"/>
                  </a:lnTo>
                  <a:lnTo>
                    <a:pt x="372" y="2043"/>
                  </a:lnTo>
                  <a:lnTo>
                    <a:pt x="344" y="2041"/>
                  </a:lnTo>
                  <a:lnTo>
                    <a:pt x="316" y="2037"/>
                  </a:lnTo>
                  <a:lnTo>
                    <a:pt x="285" y="2033"/>
                  </a:lnTo>
                  <a:lnTo>
                    <a:pt x="250" y="2027"/>
                  </a:lnTo>
                  <a:lnTo>
                    <a:pt x="214" y="2021"/>
                  </a:lnTo>
                  <a:lnTo>
                    <a:pt x="175" y="2013"/>
                  </a:lnTo>
                  <a:lnTo>
                    <a:pt x="135" y="2005"/>
                  </a:lnTo>
                  <a:lnTo>
                    <a:pt x="99" y="1996"/>
                  </a:lnTo>
                  <a:lnTo>
                    <a:pt x="69" y="1989"/>
                  </a:lnTo>
                  <a:lnTo>
                    <a:pt x="44" y="1981"/>
                  </a:lnTo>
                  <a:lnTo>
                    <a:pt x="25" y="1973"/>
                  </a:lnTo>
                  <a:lnTo>
                    <a:pt x="11" y="1965"/>
                  </a:lnTo>
                  <a:lnTo>
                    <a:pt x="6" y="1961"/>
                  </a:lnTo>
                  <a:lnTo>
                    <a:pt x="3" y="1958"/>
                  </a:lnTo>
                  <a:lnTo>
                    <a:pt x="1" y="1954"/>
                  </a:lnTo>
                  <a:lnTo>
                    <a:pt x="0" y="1951"/>
                  </a:lnTo>
                  <a:lnTo>
                    <a:pt x="1" y="1948"/>
                  </a:lnTo>
                  <a:lnTo>
                    <a:pt x="1" y="1946"/>
                  </a:lnTo>
                  <a:lnTo>
                    <a:pt x="2" y="1942"/>
                  </a:lnTo>
                  <a:lnTo>
                    <a:pt x="4" y="1939"/>
                  </a:lnTo>
                  <a:lnTo>
                    <a:pt x="6" y="1936"/>
                  </a:lnTo>
                  <a:lnTo>
                    <a:pt x="9" y="1931"/>
                  </a:lnTo>
                  <a:lnTo>
                    <a:pt x="12" y="1927"/>
                  </a:lnTo>
                  <a:lnTo>
                    <a:pt x="15" y="1922"/>
                  </a:lnTo>
                  <a:lnTo>
                    <a:pt x="20" y="1918"/>
                  </a:lnTo>
                  <a:lnTo>
                    <a:pt x="23" y="1915"/>
                  </a:lnTo>
                  <a:lnTo>
                    <a:pt x="25" y="1910"/>
                  </a:lnTo>
                  <a:lnTo>
                    <a:pt x="29" y="1907"/>
                  </a:lnTo>
                  <a:lnTo>
                    <a:pt x="31" y="1904"/>
                  </a:lnTo>
                  <a:lnTo>
                    <a:pt x="32" y="1901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9" y="1876"/>
                  </a:lnTo>
                  <a:lnTo>
                    <a:pt x="42" y="1850"/>
                  </a:lnTo>
                  <a:lnTo>
                    <a:pt x="45" y="1819"/>
                  </a:lnTo>
                  <a:lnTo>
                    <a:pt x="50" y="1781"/>
                  </a:lnTo>
                  <a:lnTo>
                    <a:pt x="57" y="1691"/>
                  </a:lnTo>
                  <a:lnTo>
                    <a:pt x="65" y="1578"/>
                  </a:lnTo>
                  <a:lnTo>
                    <a:pt x="74" y="1444"/>
                  </a:lnTo>
                  <a:lnTo>
                    <a:pt x="84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1"/>
                  </a:lnTo>
                  <a:lnTo>
                    <a:pt x="109" y="778"/>
                  </a:lnTo>
                  <a:lnTo>
                    <a:pt x="111" y="720"/>
                  </a:lnTo>
                  <a:lnTo>
                    <a:pt x="114" y="664"/>
                  </a:lnTo>
                  <a:lnTo>
                    <a:pt x="115" y="613"/>
                  </a:lnTo>
                  <a:lnTo>
                    <a:pt x="116" y="563"/>
                  </a:lnTo>
                  <a:lnTo>
                    <a:pt x="117" y="518"/>
                  </a:lnTo>
                  <a:lnTo>
                    <a:pt x="117" y="476"/>
                  </a:lnTo>
                  <a:close/>
                  <a:moveTo>
                    <a:pt x="1382" y="212"/>
                  </a:moveTo>
                  <a:lnTo>
                    <a:pt x="1335" y="212"/>
                  </a:lnTo>
                  <a:lnTo>
                    <a:pt x="1289" y="212"/>
                  </a:lnTo>
                  <a:lnTo>
                    <a:pt x="1245" y="213"/>
                  </a:lnTo>
                  <a:lnTo>
                    <a:pt x="1204" y="213"/>
                  </a:lnTo>
                  <a:lnTo>
                    <a:pt x="1165" y="214"/>
                  </a:lnTo>
                  <a:lnTo>
                    <a:pt x="1127" y="215"/>
                  </a:lnTo>
                  <a:lnTo>
                    <a:pt x="1092" y="216"/>
                  </a:lnTo>
                  <a:lnTo>
                    <a:pt x="1058" y="219"/>
                  </a:lnTo>
                  <a:lnTo>
                    <a:pt x="1023" y="221"/>
                  </a:lnTo>
                  <a:lnTo>
                    <a:pt x="993" y="222"/>
                  </a:lnTo>
                  <a:lnTo>
                    <a:pt x="966" y="225"/>
                  </a:lnTo>
                  <a:lnTo>
                    <a:pt x="942" y="227"/>
                  </a:lnTo>
                  <a:lnTo>
                    <a:pt x="920" y="231"/>
                  </a:lnTo>
                  <a:lnTo>
                    <a:pt x="902" y="235"/>
                  </a:lnTo>
                  <a:lnTo>
                    <a:pt x="887" y="238"/>
                  </a:lnTo>
                  <a:lnTo>
                    <a:pt x="875" y="243"/>
                  </a:lnTo>
                  <a:lnTo>
                    <a:pt x="865" y="247"/>
                  </a:lnTo>
                  <a:lnTo>
                    <a:pt x="857" y="254"/>
                  </a:lnTo>
                  <a:lnTo>
                    <a:pt x="849" y="262"/>
                  </a:lnTo>
                  <a:lnTo>
                    <a:pt x="842" y="270"/>
                  </a:lnTo>
                  <a:lnTo>
                    <a:pt x="836" y="280"/>
                  </a:lnTo>
                  <a:lnTo>
                    <a:pt x="831" y="291"/>
                  </a:lnTo>
                  <a:lnTo>
                    <a:pt x="827" y="304"/>
                  </a:lnTo>
                  <a:lnTo>
                    <a:pt x="823" y="317"/>
                  </a:lnTo>
                  <a:lnTo>
                    <a:pt x="812" y="412"/>
                  </a:lnTo>
                  <a:lnTo>
                    <a:pt x="802" y="510"/>
                  </a:lnTo>
                  <a:lnTo>
                    <a:pt x="795" y="610"/>
                  </a:lnTo>
                  <a:lnTo>
                    <a:pt x="787" y="715"/>
                  </a:lnTo>
                  <a:lnTo>
                    <a:pt x="783" y="822"/>
                  </a:lnTo>
                  <a:lnTo>
                    <a:pt x="778" y="933"/>
                  </a:lnTo>
                  <a:lnTo>
                    <a:pt x="776" y="1046"/>
                  </a:lnTo>
                  <a:lnTo>
                    <a:pt x="775" y="1162"/>
                  </a:lnTo>
                  <a:lnTo>
                    <a:pt x="776" y="1168"/>
                  </a:lnTo>
                  <a:lnTo>
                    <a:pt x="777" y="1173"/>
                  </a:lnTo>
                  <a:lnTo>
                    <a:pt x="779" y="1179"/>
                  </a:lnTo>
                  <a:lnTo>
                    <a:pt x="782" y="1183"/>
                  </a:lnTo>
                  <a:lnTo>
                    <a:pt x="786" y="1188"/>
                  </a:lnTo>
                  <a:lnTo>
                    <a:pt x="790" y="1191"/>
                  </a:lnTo>
                  <a:lnTo>
                    <a:pt x="796" y="1194"/>
                  </a:lnTo>
                  <a:lnTo>
                    <a:pt x="802" y="1197"/>
                  </a:lnTo>
                  <a:lnTo>
                    <a:pt x="809" y="1201"/>
                  </a:lnTo>
                  <a:lnTo>
                    <a:pt x="817" y="1203"/>
                  </a:lnTo>
                  <a:lnTo>
                    <a:pt x="826" y="1205"/>
                  </a:lnTo>
                  <a:lnTo>
                    <a:pt x="836" y="1206"/>
                  </a:lnTo>
                  <a:lnTo>
                    <a:pt x="858" y="1208"/>
                  </a:lnTo>
                  <a:lnTo>
                    <a:pt x="882" y="1210"/>
                  </a:lnTo>
                  <a:lnTo>
                    <a:pt x="926" y="1208"/>
                  </a:lnTo>
                  <a:lnTo>
                    <a:pt x="971" y="1206"/>
                  </a:lnTo>
                  <a:lnTo>
                    <a:pt x="1020" y="1201"/>
                  </a:lnTo>
                  <a:lnTo>
                    <a:pt x="1070" y="1194"/>
                  </a:lnTo>
                  <a:lnTo>
                    <a:pt x="1123" y="1186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50"/>
                  </a:lnTo>
                  <a:lnTo>
                    <a:pt x="1342" y="1138"/>
                  </a:lnTo>
                  <a:lnTo>
                    <a:pt x="1390" y="1125"/>
                  </a:lnTo>
                  <a:lnTo>
                    <a:pt x="1435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5" y="1069"/>
                  </a:lnTo>
                  <a:lnTo>
                    <a:pt x="1606" y="1054"/>
                  </a:lnTo>
                  <a:lnTo>
                    <a:pt x="1646" y="1039"/>
                  </a:lnTo>
                  <a:lnTo>
                    <a:pt x="1685" y="1023"/>
                  </a:lnTo>
                  <a:lnTo>
                    <a:pt x="1722" y="1007"/>
                  </a:lnTo>
                  <a:lnTo>
                    <a:pt x="1760" y="989"/>
                  </a:lnTo>
                  <a:lnTo>
                    <a:pt x="1795" y="971"/>
                  </a:lnTo>
                  <a:lnTo>
                    <a:pt x="1829" y="954"/>
                  </a:lnTo>
                  <a:lnTo>
                    <a:pt x="1862" y="935"/>
                  </a:lnTo>
                  <a:lnTo>
                    <a:pt x="1894" y="916"/>
                  </a:lnTo>
                  <a:lnTo>
                    <a:pt x="1925" y="896"/>
                  </a:lnTo>
                  <a:lnTo>
                    <a:pt x="1955" y="876"/>
                  </a:lnTo>
                  <a:lnTo>
                    <a:pt x="1984" y="855"/>
                  </a:lnTo>
                  <a:lnTo>
                    <a:pt x="2010" y="834"/>
                  </a:lnTo>
                  <a:lnTo>
                    <a:pt x="2035" y="813"/>
                  </a:lnTo>
                  <a:lnTo>
                    <a:pt x="2058" y="792"/>
                  </a:lnTo>
                  <a:lnTo>
                    <a:pt x="2079" y="773"/>
                  </a:lnTo>
                  <a:lnTo>
                    <a:pt x="2097" y="752"/>
                  </a:lnTo>
                  <a:lnTo>
                    <a:pt x="2115" y="730"/>
                  </a:lnTo>
                  <a:lnTo>
                    <a:pt x="2131" y="709"/>
                  </a:lnTo>
                  <a:lnTo>
                    <a:pt x="2144" y="688"/>
                  </a:lnTo>
                  <a:lnTo>
                    <a:pt x="2156" y="667"/>
                  </a:lnTo>
                  <a:lnTo>
                    <a:pt x="2166" y="646"/>
                  </a:lnTo>
                  <a:lnTo>
                    <a:pt x="2174" y="624"/>
                  </a:lnTo>
                  <a:lnTo>
                    <a:pt x="2180" y="603"/>
                  </a:lnTo>
                  <a:lnTo>
                    <a:pt x="2185" y="581"/>
                  </a:lnTo>
                  <a:lnTo>
                    <a:pt x="2188" y="560"/>
                  </a:lnTo>
                  <a:lnTo>
                    <a:pt x="2188" y="533"/>
                  </a:lnTo>
                  <a:lnTo>
                    <a:pt x="2188" y="513"/>
                  </a:lnTo>
                  <a:lnTo>
                    <a:pt x="2187" y="494"/>
                  </a:lnTo>
                  <a:lnTo>
                    <a:pt x="2184" y="476"/>
                  </a:lnTo>
                  <a:lnTo>
                    <a:pt x="2179" y="458"/>
                  </a:lnTo>
                  <a:lnTo>
                    <a:pt x="2174" y="440"/>
                  </a:lnTo>
                  <a:lnTo>
                    <a:pt x="2166" y="424"/>
                  </a:lnTo>
                  <a:lnTo>
                    <a:pt x="2156" y="408"/>
                  </a:lnTo>
                  <a:lnTo>
                    <a:pt x="2145" y="393"/>
                  </a:lnTo>
                  <a:lnTo>
                    <a:pt x="2133" y="378"/>
                  </a:lnTo>
                  <a:lnTo>
                    <a:pt x="2117" y="363"/>
                  </a:lnTo>
                  <a:lnTo>
                    <a:pt x="2102" y="350"/>
                  </a:lnTo>
                  <a:lnTo>
                    <a:pt x="2084" y="338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1" y="302"/>
                  </a:lnTo>
                  <a:lnTo>
                    <a:pt x="1997" y="293"/>
                  </a:lnTo>
                  <a:lnTo>
                    <a:pt x="1971" y="283"/>
                  </a:lnTo>
                  <a:lnTo>
                    <a:pt x="1943" y="273"/>
                  </a:lnTo>
                  <a:lnTo>
                    <a:pt x="1913" y="265"/>
                  </a:lnTo>
                  <a:lnTo>
                    <a:pt x="1882" y="257"/>
                  </a:lnTo>
                  <a:lnTo>
                    <a:pt x="1850" y="250"/>
                  </a:lnTo>
                  <a:lnTo>
                    <a:pt x="1816" y="243"/>
                  </a:lnTo>
                  <a:lnTo>
                    <a:pt x="1780" y="237"/>
                  </a:lnTo>
                  <a:lnTo>
                    <a:pt x="1742" y="232"/>
                  </a:lnTo>
                  <a:lnTo>
                    <a:pt x="1703" y="227"/>
                  </a:lnTo>
                  <a:lnTo>
                    <a:pt x="1662" y="223"/>
                  </a:lnTo>
                  <a:lnTo>
                    <a:pt x="1619" y="220"/>
                  </a:lnTo>
                  <a:lnTo>
                    <a:pt x="1575" y="216"/>
                  </a:lnTo>
                  <a:lnTo>
                    <a:pt x="1530" y="214"/>
                  </a:lnTo>
                  <a:lnTo>
                    <a:pt x="1483" y="213"/>
                  </a:lnTo>
                  <a:lnTo>
                    <a:pt x="1433" y="212"/>
                  </a:lnTo>
                  <a:lnTo>
                    <a:pt x="1382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62440" y="1373040"/>
              <a:ext cx="172800" cy="17280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218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3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8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8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8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3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4" y="434"/>
                  </a:lnTo>
                  <a:lnTo>
                    <a:pt x="153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6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6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3" y="10"/>
                  </a:lnTo>
                  <a:lnTo>
                    <a:pt x="174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3000" y="1373040"/>
              <a:ext cx="17316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20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5" y="27"/>
                  </a:lnTo>
                  <a:lnTo>
                    <a:pt x="342" y="38"/>
                  </a:lnTo>
                  <a:lnTo>
                    <a:pt x="360" y="50"/>
                  </a:lnTo>
                  <a:lnTo>
                    <a:pt x="375" y="64"/>
                  </a:lnTo>
                  <a:lnTo>
                    <a:pt x="390" y="80"/>
                  </a:lnTo>
                  <a:lnTo>
                    <a:pt x="402" y="96"/>
                  </a:lnTo>
                  <a:lnTo>
                    <a:pt x="413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6"/>
                  </a:lnTo>
                  <a:lnTo>
                    <a:pt x="438" y="197"/>
                  </a:lnTo>
                  <a:lnTo>
                    <a:pt x="439" y="208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4"/>
                  </a:lnTo>
                  <a:lnTo>
                    <a:pt x="402" y="342"/>
                  </a:lnTo>
                  <a:lnTo>
                    <a:pt x="390" y="359"/>
                  </a:lnTo>
                  <a:lnTo>
                    <a:pt x="375" y="374"/>
                  </a:lnTo>
                  <a:lnTo>
                    <a:pt x="360" y="389"/>
                  </a:lnTo>
                  <a:lnTo>
                    <a:pt x="342" y="401"/>
                  </a:lnTo>
                  <a:lnTo>
                    <a:pt x="325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20" y="438"/>
                  </a:lnTo>
                  <a:lnTo>
                    <a:pt x="209" y="438"/>
                  </a:lnTo>
                  <a:lnTo>
                    <a:pt x="198" y="437"/>
                  </a:lnTo>
                  <a:lnTo>
                    <a:pt x="187" y="436"/>
                  </a:lnTo>
                  <a:lnTo>
                    <a:pt x="176" y="434"/>
                  </a:lnTo>
                  <a:lnTo>
                    <a:pt x="155" y="429"/>
                  </a:lnTo>
                  <a:lnTo>
                    <a:pt x="135" y="422"/>
                  </a:lnTo>
                  <a:lnTo>
                    <a:pt x="116" y="412"/>
                  </a:lnTo>
                  <a:lnTo>
                    <a:pt x="97" y="401"/>
                  </a:lnTo>
                  <a:lnTo>
                    <a:pt x="81" y="389"/>
                  </a:lnTo>
                  <a:lnTo>
                    <a:pt x="65" y="374"/>
                  </a:lnTo>
                  <a:lnTo>
                    <a:pt x="51" y="359"/>
                  </a:lnTo>
                  <a:lnTo>
                    <a:pt x="38" y="342"/>
                  </a:lnTo>
                  <a:lnTo>
                    <a:pt x="27" y="324"/>
                  </a:lnTo>
                  <a:lnTo>
                    <a:pt x="18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3" y="253"/>
                  </a:lnTo>
                  <a:lnTo>
                    <a:pt x="1" y="242"/>
                  </a:lnTo>
                  <a:lnTo>
                    <a:pt x="1" y="231"/>
                  </a:lnTo>
                  <a:lnTo>
                    <a:pt x="0" y="220"/>
                  </a:lnTo>
                  <a:lnTo>
                    <a:pt x="1" y="208"/>
                  </a:lnTo>
                  <a:lnTo>
                    <a:pt x="1" y="197"/>
                  </a:lnTo>
                  <a:lnTo>
                    <a:pt x="3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8" y="134"/>
                  </a:lnTo>
                  <a:lnTo>
                    <a:pt x="27" y="115"/>
                  </a:lnTo>
                  <a:lnTo>
                    <a:pt x="38" y="96"/>
                  </a:lnTo>
                  <a:lnTo>
                    <a:pt x="51" y="80"/>
                  </a:lnTo>
                  <a:lnTo>
                    <a:pt x="65" y="64"/>
                  </a:lnTo>
                  <a:lnTo>
                    <a:pt x="81" y="50"/>
                  </a:lnTo>
                  <a:lnTo>
                    <a:pt x="97" y="38"/>
                  </a:lnTo>
                  <a:lnTo>
                    <a:pt x="116" y="27"/>
                  </a:lnTo>
                  <a:lnTo>
                    <a:pt x="135" y="17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7" y="3"/>
                  </a:lnTo>
                  <a:lnTo>
                    <a:pt x="198" y="1"/>
                  </a:lnTo>
                  <a:lnTo>
                    <a:pt x="209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54800" y="1373040"/>
              <a:ext cx="17460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19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9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4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9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5" y="434"/>
                  </a:lnTo>
                  <a:lnTo>
                    <a:pt x="154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7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19200" y="990720"/>
              <a:ext cx="1338480" cy="815760"/>
            </a:xfrm>
            <a:custGeom>
              <a:avLst/>
              <a:gdLst/>
              <a:ahLst/>
              <a:rect l="l" t="t" r="r" b="b"/>
              <a:pathLst>
                <a:path w="3371" h="2056">
                  <a:moveTo>
                    <a:pt x="140" y="120"/>
                  </a:moveTo>
                  <a:lnTo>
                    <a:pt x="140" y="118"/>
                  </a:lnTo>
                  <a:lnTo>
                    <a:pt x="139" y="116"/>
                  </a:lnTo>
                  <a:lnTo>
                    <a:pt x="136" y="115"/>
                  </a:lnTo>
                  <a:lnTo>
                    <a:pt x="133" y="113"/>
                  </a:lnTo>
                  <a:lnTo>
                    <a:pt x="130" y="110"/>
                  </a:lnTo>
                  <a:lnTo>
                    <a:pt x="124" y="108"/>
                  </a:lnTo>
                  <a:lnTo>
                    <a:pt x="119" y="105"/>
                  </a:lnTo>
                  <a:lnTo>
                    <a:pt x="113" y="103"/>
                  </a:lnTo>
                  <a:lnTo>
                    <a:pt x="107" y="100"/>
                  </a:lnTo>
                  <a:lnTo>
                    <a:pt x="101" y="98"/>
                  </a:lnTo>
                  <a:lnTo>
                    <a:pt x="96" y="96"/>
                  </a:lnTo>
                  <a:lnTo>
                    <a:pt x="92" y="93"/>
                  </a:lnTo>
                  <a:lnTo>
                    <a:pt x="89" y="90"/>
                  </a:lnTo>
                  <a:lnTo>
                    <a:pt x="87" y="88"/>
                  </a:lnTo>
                  <a:lnTo>
                    <a:pt x="86" y="86"/>
                  </a:lnTo>
                  <a:lnTo>
                    <a:pt x="85" y="85"/>
                  </a:lnTo>
                  <a:lnTo>
                    <a:pt x="85" y="77"/>
                  </a:lnTo>
                  <a:lnTo>
                    <a:pt x="86" y="72"/>
                  </a:lnTo>
                  <a:lnTo>
                    <a:pt x="87" y="66"/>
                  </a:lnTo>
                  <a:lnTo>
                    <a:pt x="88" y="61"/>
                  </a:lnTo>
                  <a:lnTo>
                    <a:pt x="90" y="56"/>
                  </a:lnTo>
                  <a:lnTo>
                    <a:pt x="92" y="53"/>
                  </a:lnTo>
                  <a:lnTo>
                    <a:pt x="96" y="50"/>
                  </a:lnTo>
                  <a:lnTo>
                    <a:pt x="99" y="47"/>
                  </a:lnTo>
                  <a:lnTo>
                    <a:pt x="103" y="45"/>
                  </a:lnTo>
                  <a:lnTo>
                    <a:pt x="110" y="43"/>
                  </a:lnTo>
                  <a:lnTo>
                    <a:pt x="118" y="41"/>
                  </a:lnTo>
                  <a:lnTo>
                    <a:pt x="128" y="38"/>
                  </a:lnTo>
                  <a:lnTo>
                    <a:pt x="152" y="33"/>
                  </a:lnTo>
                  <a:lnTo>
                    <a:pt x="183" y="29"/>
                  </a:lnTo>
                  <a:lnTo>
                    <a:pt x="220" y="24"/>
                  </a:lnTo>
                  <a:lnTo>
                    <a:pt x="263" y="20"/>
                  </a:lnTo>
                  <a:lnTo>
                    <a:pt x="314" y="17"/>
                  </a:lnTo>
                  <a:lnTo>
                    <a:pt x="370" y="12"/>
                  </a:lnTo>
                  <a:lnTo>
                    <a:pt x="419" y="9"/>
                  </a:lnTo>
                  <a:lnTo>
                    <a:pt x="464" y="7"/>
                  </a:lnTo>
                  <a:lnTo>
                    <a:pt x="507" y="4"/>
                  </a:lnTo>
                  <a:lnTo>
                    <a:pt x="548" y="3"/>
                  </a:lnTo>
                  <a:lnTo>
                    <a:pt x="586" y="2"/>
                  </a:lnTo>
                  <a:lnTo>
                    <a:pt x="621" y="1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90" y="0"/>
                  </a:lnTo>
                  <a:lnTo>
                    <a:pt x="898" y="2"/>
                  </a:lnTo>
                  <a:lnTo>
                    <a:pt x="1010" y="4"/>
                  </a:lnTo>
                  <a:lnTo>
                    <a:pt x="1126" y="8"/>
                  </a:lnTo>
                  <a:lnTo>
                    <a:pt x="1245" y="12"/>
                  </a:lnTo>
                  <a:lnTo>
                    <a:pt x="1366" y="18"/>
                  </a:lnTo>
                  <a:lnTo>
                    <a:pt x="1492" y="24"/>
                  </a:lnTo>
                  <a:lnTo>
                    <a:pt x="1621" y="31"/>
                  </a:lnTo>
                  <a:lnTo>
                    <a:pt x="1656" y="35"/>
                  </a:lnTo>
                  <a:lnTo>
                    <a:pt x="1693" y="40"/>
                  </a:lnTo>
                  <a:lnTo>
                    <a:pt x="1735" y="44"/>
                  </a:lnTo>
                  <a:lnTo>
                    <a:pt x="1780" y="50"/>
                  </a:lnTo>
                  <a:lnTo>
                    <a:pt x="1830" y="55"/>
                  </a:lnTo>
                  <a:lnTo>
                    <a:pt x="1884" y="62"/>
                  </a:lnTo>
                  <a:lnTo>
                    <a:pt x="1943" y="68"/>
                  </a:lnTo>
                  <a:lnTo>
                    <a:pt x="2004" y="75"/>
                  </a:lnTo>
                  <a:lnTo>
                    <a:pt x="2030" y="77"/>
                  </a:lnTo>
                  <a:lnTo>
                    <a:pt x="2058" y="81"/>
                  </a:lnTo>
                  <a:lnTo>
                    <a:pt x="2091" y="84"/>
                  </a:lnTo>
                  <a:lnTo>
                    <a:pt x="2125" y="88"/>
                  </a:lnTo>
                  <a:lnTo>
                    <a:pt x="2162" y="93"/>
                  </a:lnTo>
                  <a:lnTo>
                    <a:pt x="2203" y="97"/>
                  </a:lnTo>
                  <a:lnTo>
                    <a:pt x="2246" y="103"/>
                  </a:lnTo>
                  <a:lnTo>
                    <a:pt x="2294" y="109"/>
                  </a:lnTo>
                  <a:lnTo>
                    <a:pt x="2339" y="117"/>
                  </a:lnTo>
                  <a:lnTo>
                    <a:pt x="2385" y="127"/>
                  </a:lnTo>
                  <a:lnTo>
                    <a:pt x="2431" y="137"/>
                  </a:lnTo>
                  <a:lnTo>
                    <a:pt x="2476" y="148"/>
                  </a:lnTo>
                  <a:lnTo>
                    <a:pt x="2521" y="159"/>
                  </a:lnTo>
                  <a:lnTo>
                    <a:pt x="2566" y="171"/>
                  </a:lnTo>
                  <a:lnTo>
                    <a:pt x="2610" y="184"/>
                  </a:lnTo>
                  <a:lnTo>
                    <a:pt x="2655" y="198"/>
                  </a:lnTo>
                  <a:lnTo>
                    <a:pt x="2699" y="212"/>
                  </a:lnTo>
                  <a:lnTo>
                    <a:pt x="2743" y="227"/>
                  </a:lnTo>
                  <a:lnTo>
                    <a:pt x="2787" y="243"/>
                  </a:lnTo>
                  <a:lnTo>
                    <a:pt x="2831" y="259"/>
                  </a:lnTo>
                  <a:lnTo>
                    <a:pt x="2874" y="276"/>
                  </a:lnTo>
                  <a:lnTo>
                    <a:pt x="2917" y="295"/>
                  </a:lnTo>
                  <a:lnTo>
                    <a:pt x="2960" y="313"/>
                  </a:lnTo>
                  <a:lnTo>
                    <a:pt x="3004" y="332"/>
                  </a:lnTo>
                  <a:lnTo>
                    <a:pt x="3048" y="354"/>
                  </a:lnTo>
                  <a:lnTo>
                    <a:pt x="3090" y="375"/>
                  </a:lnTo>
                  <a:lnTo>
                    <a:pt x="3128" y="396"/>
                  </a:lnTo>
                  <a:lnTo>
                    <a:pt x="3165" y="417"/>
                  </a:lnTo>
                  <a:lnTo>
                    <a:pt x="3198" y="438"/>
                  </a:lnTo>
                  <a:lnTo>
                    <a:pt x="3228" y="458"/>
                  </a:lnTo>
                  <a:lnTo>
                    <a:pt x="3255" y="478"/>
                  </a:lnTo>
                  <a:lnTo>
                    <a:pt x="3280" y="498"/>
                  </a:lnTo>
                  <a:lnTo>
                    <a:pt x="3302" y="518"/>
                  </a:lnTo>
                  <a:lnTo>
                    <a:pt x="3320" y="537"/>
                  </a:lnTo>
                  <a:lnTo>
                    <a:pt x="3336" y="556"/>
                  </a:lnTo>
                  <a:lnTo>
                    <a:pt x="3349" y="576"/>
                  </a:lnTo>
                  <a:lnTo>
                    <a:pt x="3353" y="585"/>
                  </a:lnTo>
                  <a:lnTo>
                    <a:pt x="3359" y="595"/>
                  </a:lnTo>
                  <a:lnTo>
                    <a:pt x="3362" y="604"/>
                  </a:lnTo>
                  <a:lnTo>
                    <a:pt x="3366" y="612"/>
                  </a:lnTo>
                  <a:lnTo>
                    <a:pt x="3368" y="622"/>
                  </a:lnTo>
                  <a:lnTo>
                    <a:pt x="3370" y="631"/>
                  </a:lnTo>
                  <a:lnTo>
                    <a:pt x="3371" y="640"/>
                  </a:lnTo>
                  <a:lnTo>
                    <a:pt x="3371" y="649"/>
                  </a:lnTo>
                  <a:lnTo>
                    <a:pt x="3371" y="661"/>
                  </a:lnTo>
                  <a:lnTo>
                    <a:pt x="3370" y="672"/>
                  </a:lnTo>
                  <a:lnTo>
                    <a:pt x="3369" y="683"/>
                  </a:lnTo>
                  <a:lnTo>
                    <a:pt x="3367" y="694"/>
                  </a:lnTo>
                  <a:lnTo>
                    <a:pt x="3365" y="705"/>
                  </a:lnTo>
                  <a:lnTo>
                    <a:pt x="3361" y="716"/>
                  </a:lnTo>
                  <a:lnTo>
                    <a:pt x="3357" y="726"/>
                  </a:lnTo>
                  <a:lnTo>
                    <a:pt x="3352" y="737"/>
                  </a:lnTo>
                  <a:lnTo>
                    <a:pt x="3347" y="748"/>
                  </a:lnTo>
                  <a:lnTo>
                    <a:pt x="3341" y="758"/>
                  </a:lnTo>
                  <a:lnTo>
                    <a:pt x="3336" y="769"/>
                  </a:lnTo>
                  <a:lnTo>
                    <a:pt x="3328" y="779"/>
                  </a:lnTo>
                  <a:lnTo>
                    <a:pt x="3313" y="799"/>
                  </a:lnTo>
                  <a:lnTo>
                    <a:pt x="3295" y="820"/>
                  </a:lnTo>
                  <a:lnTo>
                    <a:pt x="3274" y="839"/>
                  </a:lnTo>
                  <a:lnTo>
                    <a:pt x="3252" y="859"/>
                  </a:lnTo>
                  <a:lnTo>
                    <a:pt x="3227" y="877"/>
                  </a:lnTo>
                  <a:lnTo>
                    <a:pt x="3199" y="896"/>
                  </a:lnTo>
                  <a:lnTo>
                    <a:pt x="3169" y="915"/>
                  </a:lnTo>
                  <a:lnTo>
                    <a:pt x="3137" y="932"/>
                  </a:lnTo>
                  <a:lnTo>
                    <a:pt x="3102" y="950"/>
                  </a:lnTo>
                  <a:lnTo>
                    <a:pt x="3064" y="967"/>
                  </a:lnTo>
                  <a:lnTo>
                    <a:pt x="3016" y="988"/>
                  </a:lnTo>
                  <a:lnTo>
                    <a:pt x="2960" y="1009"/>
                  </a:lnTo>
                  <a:lnTo>
                    <a:pt x="2899" y="1030"/>
                  </a:lnTo>
                  <a:lnTo>
                    <a:pt x="2831" y="1052"/>
                  </a:lnTo>
                  <a:lnTo>
                    <a:pt x="2756" y="1074"/>
                  </a:lnTo>
                  <a:lnTo>
                    <a:pt x="2676" y="1097"/>
                  </a:lnTo>
                  <a:lnTo>
                    <a:pt x="2587" y="1119"/>
                  </a:lnTo>
                  <a:lnTo>
                    <a:pt x="2493" y="1142"/>
                  </a:lnTo>
                  <a:lnTo>
                    <a:pt x="2422" y="1161"/>
                  </a:lnTo>
                  <a:lnTo>
                    <a:pt x="2359" y="1177"/>
                  </a:lnTo>
                  <a:lnTo>
                    <a:pt x="2306" y="1192"/>
                  </a:lnTo>
                  <a:lnTo>
                    <a:pt x="2263" y="1206"/>
                  </a:lnTo>
                  <a:lnTo>
                    <a:pt x="2245" y="1212"/>
                  </a:lnTo>
                  <a:lnTo>
                    <a:pt x="2230" y="1218"/>
                  </a:lnTo>
                  <a:lnTo>
                    <a:pt x="2216" y="1224"/>
                  </a:lnTo>
                  <a:lnTo>
                    <a:pt x="2205" y="1228"/>
                  </a:lnTo>
                  <a:lnTo>
                    <a:pt x="2198" y="1234"/>
                  </a:lnTo>
                  <a:lnTo>
                    <a:pt x="2191" y="1238"/>
                  </a:lnTo>
                  <a:lnTo>
                    <a:pt x="2188" y="1243"/>
                  </a:lnTo>
                  <a:lnTo>
                    <a:pt x="2187" y="1246"/>
                  </a:lnTo>
                  <a:lnTo>
                    <a:pt x="2188" y="1250"/>
                  </a:lnTo>
                  <a:lnTo>
                    <a:pt x="2193" y="1256"/>
                  </a:lnTo>
                  <a:lnTo>
                    <a:pt x="2202" y="1264"/>
                  </a:lnTo>
                  <a:lnTo>
                    <a:pt x="2213" y="1272"/>
                  </a:lnTo>
                  <a:lnTo>
                    <a:pt x="2247" y="1294"/>
                  </a:lnTo>
                  <a:lnTo>
                    <a:pt x="2295" y="1323"/>
                  </a:lnTo>
                  <a:lnTo>
                    <a:pt x="2355" y="1357"/>
                  </a:lnTo>
                  <a:lnTo>
                    <a:pt x="2431" y="1398"/>
                  </a:lnTo>
                  <a:lnTo>
                    <a:pt x="2519" y="1445"/>
                  </a:lnTo>
                  <a:lnTo>
                    <a:pt x="2620" y="1497"/>
                  </a:lnTo>
                  <a:lnTo>
                    <a:pt x="2716" y="1547"/>
                  </a:lnTo>
                  <a:lnTo>
                    <a:pt x="2805" y="1591"/>
                  </a:lnTo>
                  <a:lnTo>
                    <a:pt x="2884" y="1631"/>
                  </a:lnTo>
                  <a:lnTo>
                    <a:pt x="2956" y="1665"/>
                  </a:lnTo>
                  <a:lnTo>
                    <a:pt x="3018" y="1695"/>
                  </a:lnTo>
                  <a:lnTo>
                    <a:pt x="3072" y="1720"/>
                  </a:lnTo>
                  <a:lnTo>
                    <a:pt x="3118" y="1741"/>
                  </a:lnTo>
                  <a:lnTo>
                    <a:pt x="3155" y="1757"/>
                  </a:lnTo>
                  <a:lnTo>
                    <a:pt x="3168" y="1761"/>
                  </a:lnTo>
                  <a:lnTo>
                    <a:pt x="3182" y="1766"/>
                  </a:lnTo>
                  <a:lnTo>
                    <a:pt x="3200" y="1770"/>
                  </a:lnTo>
                  <a:lnTo>
                    <a:pt x="3220" y="1774"/>
                  </a:lnTo>
                  <a:lnTo>
                    <a:pt x="3242" y="1778"/>
                  </a:lnTo>
                  <a:lnTo>
                    <a:pt x="3266" y="1781"/>
                  </a:lnTo>
                  <a:lnTo>
                    <a:pt x="3294" y="1784"/>
                  </a:lnTo>
                  <a:lnTo>
                    <a:pt x="3324" y="1788"/>
                  </a:lnTo>
                  <a:lnTo>
                    <a:pt x="3292" y="1802"/>
                  </a:lnTo>
                  <a:lnTo>
                    <a:pt x="3260" y="1814"/>
                  </a:lnTo>
                  <a:lnTo>
                    <a:pt x="3229" y="1826"/>
                  </a:lnTo>
                  <a:lnTo>
                    <a:pt x="3199" y="1837"/>
                  </a:lnTo>
                  <a:lnTo>
                    <a:pt x="3169" y="1848"/>
                  </a:lnTo>
                  <a:lnTo>
                    <a:pt x="3140" y="1857"/>
                  </a:lnTo>
                  <a:lnTo>
                    <a:pt x="3113" y="1866"/>
                  </a:lnTo>
                  <a:lnTo>
                    <a:pt x="3085" y="1874"/>
                  </a:lnTo>
                  <a:lnTo>
                    <a:pt x="3059" y="1880"/>
                  </a:lnTo>
                  <a:lnTo>
                    <a:pt x="3033" y="1886"/>
                  </a:lnTo>
                  <a:lnTo>
                    <a:pt x="3008" y="1891"/>
                  </a:lnTo>
                  <a:lnTo>
                    <a:pt x="2984" y="1895"/>
                  </a:lnTo>
                  <a:lnTo>
                    <a:pt x="2959" y="1898"/>
                  </a:lnTo>
                  <a:lnTo>
                    <a:pt x="2937" y="1900"/>
                  </a:lnTo>
                  <a:lnTo>
                    <a:pt x="2914" y="1901"/>
                  </a:lnTo>
                  <a:lnTo>
                    <a:pt x="2893" y="1902"/>
                  </a:lnTo>
                  <a:lnTo>
                    <a:pt x="2869" y="1901"/>
                  </a:lnTo>
                  <a:lnTo>
                    <a:pt x="2845" y="1900"/>
                  </a:lnTo>
                  <a:lnTo>
                    <a:pt x="2821" y="1897"/>
                  </a:lnTo>
                  <a:lnTo>
                    <a:pt x="2797" y="1893"/>
                  </a:lnTo>
                  <a:lnTo>
                    <a:pt x="2774" y="1888"/>
                  </a:lnTo>
                  <a:lnTo>
                    <a:pt x="2751" y="1882"/>
                  </a:lnTo>
                  <a:lnTo>
                    <a:pt x="2728" y="1874"/>
                  </a:lnTo>
                  <a:lnTo>
                    <a:pt x="2703" y="1865"/>
                  </a:lnTo>
                  <a:lnTo>
                    <a:pt x="2583" y="1819"/>
                  </a:lnTo>
                  <a:lnTo>
                    <a:pt x="2448" y="1766"/>
                  </a:lnTo>
                  <a:lnTo>
                    <a:pt x="2298" y="1708"/>
                  </a:lnTo>
                  <a:lnTo>
                    <a:pt x="2134" y="1644"/>
                  </a:lnTo>
                  <a:lnTo>
                    <a:pt x="1954" y="1576"/>
                  </a:lnTo>
                  <a:lnTo>
                    <a:pt x="1759" y="1502"/>
                  </a:lnTo>
                  <a:lnTo>
                    <a:pt x="1550" y="1422"/>
                  </a:lnTo>
                  <a:lnTo>
                    <a:pt x="1325" y="1339"/>
                  </a:lnTo>
                  <a:lnTo>
                    <a:pt x="1253" y="1346"/>
                  </a:lnTo>
                  <a:lnTo>
                    <a:pt x="1180" y="1354"/>
                  </a:lnTo>
                  <a:lnTo>
                    <a:pt x="1108" y="1361"/>
                  </a:lnTo>
                  <a:lnTo>
                    <a:pt x="1036" y="1366"/>
                  </a:lnTo>
                  <a:lnTo>
                    <a:pt x="964" y="1371"/>
                  </a:lnTo>
                  <a:lnTo>
                    <a:pt x="894" y="1375"/>
                  </a:lnTo>
                  <a:lnTo>
                    <a:pt x="824" y="1378"/>
                  </a:lnTo>
                  <a:lnTo>
                    <a:pt x="754" y="1381"/>
                  </a:lnTo>
                  <a:lnTo>
                    <a:pt x="756" y="1436"/>
                  </a:lnTo>
                  <a:lnTo>
                    <a:pt x="758" y="1490"/>
                  </a:lnTo>
                  <a:lnTo>
                    <a:pt x="759" y="1543"/>
                  </a:lnTo>
                  <a:lnTo>
                    <a:pt x="761" y="1596"/>
                  </a:lnTo>
                  <a:lnTo>
                    <a:pt x="764" y="1648"/>
                  </a:lnTo>
                  <a:lnTo>
                    <a:pt x="766" y="1699"/>
                  </a:lnTo>
                  <a:lnTo>
                    <a:pt x="768" y="1750"/>
                  </a:lnTo>
                  <a:lnTo>
                    <a:pt x="770" y="1800"/>
                  </a:lnTo>
                  <a:lnTo>
                    <a:pt x="770" y="1815"/>
                  </a:lnTo>
                  <a:lnTo>
                    <a:pt x="770" y="1832"/>
                  </a:lnTo>
                  <a:lnTo>
                    <a:pt x="770" y="1850"/>
                  </a:lnTo>
                  <a:lnTo>
                    <a:pt x="771" y="1869"/>
                  </a:lnTo>
                  <a:lnTo>
                    <a:pt x="773" y="1890"/>
                  </a:lnTo>
                  <a:lnTo>
                    <a:pt x="775" y="1914"/>
                  </a:lnTo>
                  <a:lnTo>
                    <a:pt x="778" y="1938"/>
                  </a:lnTo>
                  <a:lnTo>
                    <a:pt x="781" y="1963"/>
                  </a:lnTo>
                  <a:lnTo>
                    <a:pt x="782" y="1965"/>
                  </a:lnTo>
                  <a:lnTo>
                    <a:pt x="783" y="1968"/>
                  </a:lnTo>
                  <a:lnTo>
                    <a:pt x="786" y="1970"/>
                  </a:lnTo>
                  <a:lnTo>
                    <a:pt x="788" y="1972"/>
                  </a:lnTo>
                  <a:lnTo>
                    <a:pt x="791" y="1974"/>
                  </a:lnTo>
                  <a:lnTo>
                    <a:pt x="793" y="1976"/>
                  </a:lnTo>
                  <a:lnTo>
                    <a:pt x="798" y="1979"/>
                  </a:lnTo>
                  <a:lnTo>
                    <a:pt x="801" y="1981"/>
                  </a:lnTo>
                  <a:lnTo>
                    <a:pt x="805" y="1983"/>
                  </a:lnTo>
                  <a:lnTo>
                    <a:pt x="809" y="1985"/>
                  </a:lnTo>
                  <a:lnTo>
                    <a:pt x="812" y="1989"/>
                  </a:lnTo>
                  <a:lnTo>
                    <a:pt x="814" y="1991"/>
                  </a:lnTo>
                  <a:lnTo>
                    <a:pt x="816" y="1994"/>
                  </a:lnTo>
                  <a:lnTo>
                    <a:pt x="818" y="1998"/>
                  </a:lnTo>
                  <a:lnTo>
                    <a:pt x="819" y="2002"/>
                  </a:lnTo>
                  <a:lnTo>
                    <a:pt x="819" y="2006"/>
                  </a:lnTo>
                  <a:lnTo>
                    <a:pt x="818" y="2008"/>
                  </a:lnTo>
                  <a:lnTo>
                    <a:pt x="815" y="2010"/>
                  </a:lnTo>
                  <a:lnTo>
                    <a:pt x="812" y="2012"/>
                  </a:lnTo>
                  <a:lnTo>
                    <a:pt x="807" y="2014"/>
                  </a:lnTo>
                  <a:lnTo>
                    <a:pt x="792" y="2018"/>
                  </a:lnTo>
                  <a:lnTo>
                    <a:pt x="771" y="2023"/>
                  </a:lnTo>
                  <a:lnTo>
                    <a:pt x="745" y="2026"/>
                  </a:lnTo>
                  <a:lnTo>
                    <a:pt x="712" y="2030"/>
                  </a:lnTo>
                  <a:lnTo>
                    <a:pt x="674" y="2035"/>
                  </a:lnTo>
                  <a:lnTo>
                    <a:pt x="629" y="2039"/>
                  </a:lnTo>
                  <a:lnTo>
                    <a:pt x="590" y="2044"/>
                  </a:lnTo>
                  <a:lnTo>
                    <a:pt x="554" y="2047"/>
                  </a:lnTo>
                  <a:lnTo>
                    <a:pt x="521" y="2049"/>
                  </a:lnTo>
                  <a:lnTo>
                    <a:pt x="490" y="2051"/>
                  </a:lnTo>
                  <a:lnTo>
                    <a:pt x="462" y="2054"/>
                  </a:lnTo>
                  <a:lnTo>
                    <a:pt x="437" y="2055"/>
                  </a:lnTo>
                  <a:lnTo>
                    <a:pt x="415" y="2056"/>
                  </a:lnTo>
                  <a:lnTo>
                    <a:pt x="395" y="2056"/>
                  </a:lnTo>
                  <a:lnTo>
                    <a:pt x="373" y="2056"/>
                  </a:lnTo>
                  <a:lnTo>
                    <a:pt x="348" y="2055"/>
                  </a:lnTo>
                  <a:lnTo>
                    <a:pt x="323" y="2054"/>
                  </a:lnTo>
                  <a:lnTo>
                    <a:pt x="295" y="2051"/>
                  </a:lnTo>
                  <a:lnTo>
                    <a:pt x="267" y="2048"/>
                  </a:lnTo>
                  <a:lnTo>
                    <a:pt x="236" y="2045"/>
                  </a:lnTo>
                  <a:lnTo>
                    <a:pt x="203" y="2042"/>
                  </a:lnTo>
                  <a:lnTo>
                    <a:pt x="168" y="2037"/>
                  </a:lnTo>
                  <a:lnTo>
                    <a:pt x="129" y="2030"/>
                  </a:lnTo>
                  <a:lnTo>
                    <a:pt x="94" y="2025"/>
                  </a:lnTo>
                  <a:lnTo>
                    <a:pt x="65" y="2018"/>
                  </a:lnTo>
                  <a:lnTo>
                    <a:pt x="41" y="2012"/>
                  </a:lnTo>
                  <a:lnTo>
                    <a:pt x="23" y="2005"/>
                  </a:lnTo>
                  <a:lnTo>
                    <a:pt x="9" y="1998"/>
                  </a:lnTo>
                  <a:lnTo>
                    <a:pt x="5" y="1995"/>
                  </a:lnTo>
                  <a:lnTo>
                    <a:pt x="2" y="1992"/>
                  </a:lnTo>
                  <a:lnTo>
                    <a:pt x="0" y="1989"/>
                  </a:lnTo>
                  <a:lnTo>
                    <a:pt x="0" y="1985"/>
                  </a:lnTo>
                  <a:lnTo>
                    <a:pt x="0" y="1990"/>
                  </a:lnTo>
                  <a:lnTo>
                    <a:pt x="0" y="1991"/>
                  </a:lnTo>
                  <a:lnTo>
                    <a:pt x="1" y="1989"/>
                  </a:lnTo>
                  <a:lnTo>
                    <a:pt x="2" y="1983"/>
                  </a:lnTo>
                  <a:lnTo>
                    <a:pt x="6" y="1961"/>
                  </a:lnTo>
                  <a:lnTo>
                    <a:pt x="12" y="1926"/>
                  </a:lnTo>
                  <a:lnTo>
                    <a:pt x="18" y="1877"/>
                  </a:lnTo>
                  <a:lnTo>
                    <a:pt x="26" y="1815"/>
                  </a:lnTo>
                  <a:lnTo>
                    <a:pt x="36" y="1739"/>
                  </a:lnTo>
                  <a:lnTo>
                    <a:pt x="47" y="1650"/>
                  </a:lnTo>
                  <a:lnTo>
                    <a:pt x="57" y="1577"/>
                  </a:lnTo>
                  <a:lnTo>
                    <a:pt x="66" y="1502"/>
                  </a:lnTo>
                  <a:lnTo>
                    <a:pt x="74" y="1426"/>
                  </a:lnTo>
                  <a:lnTo>
                    <a:pt x="81" y="1346"/>
                  </a:lnTo>
                  <a:lnTo>
                    <a:pt x="88" y="1266"/>
                  </a:lnTo>
                  <a:lnTo>
                    <a:pt x="94" y="1184"/>
                  </a:lnTo>
                  <a:lnTo>
                    <a:pt x="100" y="1099"/>
                  </a:lnTo>
                  <a:lnTo>
                    <a:pt x="106" y="1013"/>
                  </a:lnTo>
                  <a:lnTo>
                    <a:pt x="114" y="867"/>
                  </a:lnTo>
                  <a:lnTo>
                    <a:pt x="121" y="732"/>
                  </a:lnTo>
                  <a:lnTo>
                    <a:pt x="126" y="606"/>
                  </a:lnTo>
                  <a:lnTo>
                    <a:pt x="131" y="490"/>
                  </a:lnTo>
                  <a:lnTo>
                    <a:pt x="135" y="383"/>
                  </a:lnTo>
                  <a:lnTo>
                    <a:pt x="138" y="286"/>
                  </a:lnTo>
                  <a:lnTo>
                    <a:pt x="140" y="198"/>
                  </a:lnTo>
                  <a:lnTo>
                    <a:pt x="140" y="120"/>
                  </a:lnTo>
                  <a:close/>
                  <a:moveTo>
                    <a:pt x="1077" y="221"/>
                  </a:moveTo>
                  <a:lnTo>
                    <a:pt x="1056" y="221"/>
                  </a:lnTo>
                  <a:lnTo>
                    <a:pt x="1036" y="222"/>
                  </a:lnTo>
                  <a:lnTo>
                    <a:pt x="1017" y="224"/>
                  </a:lnTo>
                  <a:lnTo>
                    <a:pt x="1000" y="226"/>
                  </a:lnTo>
                  <a:lnTo>
                    <a:pt x="982" y="231"/>
                  </a:lnTo>
                  <a:lnTo>
                    <a:pt x="967" y="234"/>
                  </a:lnTo>
                  <a:lnTo>
                    <a:pt x="951" y="239"/>
                  </a:lnTo>
                  <a:lnTo>
                    <a:pt x="938" y="245"/>
                  </a:lnTo>
                  <a:lnTo>
                    <a:pt x="925" y="251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2" y="284"/>
                  </a:lnTo>
                  <a:lnTo>
                    <a:pt x="874" y="294"/>
                  </a:lnTo>
                  <a:lnTo>
                    <a:pt x="867" y="305"/>
                  </a:lnTo>
                  <a:lnTo>
                    <a:pt x="861" y="316"/>
                  </a:lnTo>
                  <a:lnTo>
                    <a:pt x="846" y="350"/>
                  </a:lnTo>
                  <a:lnTo>
                    <a:pt x="833" y="386"/>
                  </a:lnTo>
                  <a:lnTo>
                    <a:pt x="820" y="425"/>
                  </a:lnTo>
                  <a:lnTo>
                    <a:pt x="809" y="466"/>
                  </a:lnTo>
                  <a:lnTo>
                    <a:pt x="799" y="509"/>
                  </a:lnTo>
                  <a:lnTo>
                    <a:pt x="789" y="554"/>
                  </a:lnTo>
                  <a:lnTo>
                    <a:pt x="781" y="600"/>
                  </a:lnTo>
                  <a:lnTo>
                    <a:pt x="773" y="650"/>
                  </a:lnTo>
                  <a:lnTo>
                    <a:pt x="767" y="702"/>
                  </a:lnTo>
                  <a:lnTo>
                    <a:pt x="762" y="756"/>
                  </a:lnTo>
                  <a:lnTo>
                    <a:pt x="758" y="812"/>
                  </a:lnTo>
                  <a:lnTo>
                    <a:pt x="756" y="871"/>
                  </a:lnTo>
                  <a:lnTo>
                    <a:pt x="754" y="931"/>
                  </a:lnTo>
                  <a:lnTo>
                    <a:pt x="752" y="994"/>
                  </a:lnTo>
                  <a:lnTo>
                    <a:pt x="752" y="1059"/>
                  </a:lnTo>
                  <a:lnTo>
                    <a:pt x="754" y="1128"/>
                  </a:lnTo>
                  <a:lnTo>
                    <a:pt x="754" y="1200"/>
                  </a:lnTo>
                  <a:lnTo>
                    <a:pt x="840" y="1196"/>
                  </a:lnTo>
                  <a:lnTo>
                    <a:pt x="924" y="1192"/>
                  </a:lnTo>
                  <a:lnTo>
                    <a:pt x="1009" y="1186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1" y="1162"/>
                  </a:lnTo>
                  <a:lnTo>
                    <a:pt x="1344" y="1152"/>
                  </a:lnTo>
                  <a:lnTo>
                    <a:pt x="1428" y="1140"/>
                  </a:lnTo>
                  <a:lnTo>
                    <a:pt x="1511" y="1128"/>
                  </a:lnTo>
                  <a:lnTo>
                    <a:pt x="1594" y="1113"/>
                  </a:lnTo>
                  <a:lnTo>
                    <a:pt x="1677" y="1098"/>
                  </a:lnTo>
                  <a:lnTo>
                    <a:pt x="1759" y="1081"/>
                  </a:lnTo>
                  <a:lnTo>
                    <a:pt x="1841" y="1064"/>
                  </a:lnTo>
                  <a:lnTo>
                    <a:pt x="1923" y="1045"/>
                  </a:lnTo>
                  <a:lnTo>
                    <a:pt x="2004" y="1025"/>
                  </a:lnTo>
                  <a:lnTo>
                    <a:pt x="2086" y="1003"/>
                  </a:lnTo>
                  <a:lnTo>
                    <a:pt x="2176" y="979"/>
                  </a:lnTo>
                  <a:lnTo>
                    <a:pt x="2259" y="953"/>
                  </a:lnTo>
                  <a:lnTo>
                    <a:pt x="2299" y="940"/>
                  </a:lnTo>
                  <a:lnTo>
                    <a:pt x="2338" y="927"/>
                  </a:lnTo>
                  <a:lnTo>
                    <a:pt x="2375" y="915"/>
                  </a:lnTo>
                  <a:lnTo>
                    <a:pt x="2411" y="902"/>
                  </a:lnTo>
                  <a:lnTo>
                    <a:pt x="2445" y="888"/>
                  </a:lnTo>
                  <a:lnTo>
                    <a:pt x="2477" y="875"/>
                  </a:lnTo>
                  <a:lnTo>
                    <a:pt x="2508" y="862"/>
                  </a:lnTo>
                  <a:lnTo>
                    <a:pt x="2538" y="848"/>
                  </a:lnTo>
                  <a:lnTo>
                    <a:pt x="2566" y="834"/>
                  </a:lnTo>
                  <a:lnTo>
                    <a:pt x="2593" y="821"/>
                  </a:lnTo>
                  <a:lnTo>
                    <a:pt x="2618" y="807"/>
                  </a:lnTo>
                  <a:lnTo>
                    <a:pt x="2641" y="793"/>
                  </a:lnTo>
                  <a:lnTo>
                    <a:pt x="2665" y="779"/>
                  </a:lnTo>
                  <a:lnTo>
                    <a:pt x="2686" y="765"/>
                  </a:lnTo>
                  <a:lnTo>
                    <a:pt x="2704" y="750"/>
                  </a:lnTo>
                  <a:lnTo>
                    <a:pt x="2723" y="737"/>
                  </a:lnTo>
                  <a:lnTo>
                    <a:pt x="2740" y="723"/>
                  </a:lnTo>
                  <a:lnTo>
                    <a:pt x="2755" y="707"/>
                  </a:lnTo>
                  <a:lnTo>
                    <a:pt x="2768" y="693"/>
                  </a:lnTo>
                  <a:lnTo>
                    <a:pt x="2781" y="679"/>
                  </a:lnTo>
                  <a:lnTo>
                    <a:pt x="2792" y="664"/>
                  </a:lnTo>
                  <a:lnTo>
                    <a:pt x="2801" y="649"/>
                  </a:lnTo>
                  <a:lnTo>
                    <a:pt x="2809" y="635"/>
                  </a:lnTo>
                  <a:lnTo>
                    <a:pt x="2816" y="619"/>
                  </a:lnTo>
                  <a:lnTo>
                    <a:pt x="2820" y="604"/>
                  </a:lnTo>
                  <a:lnTo>
                    <a:pt x="2825" y="589"/>
                  </a:lnTo>
                  <a:lnTo>
                    <a:pt x="2827" y="574"/>
                  </a:lnTo>
                  <a:lnTo>
                    <a:pt x="2827" y="558"/>
                  </a:lnTo>
                  <a:lnTo>
                    <a:pt x="2827" y="544"/>
                  </a:lnTo>
                  <a:lnTo>
                    <a:pt x="2825" y="531"/>
                  </a:lnTo>
                  <a:lnTo>
                    <a:pt x="2821" y="518"/>
                  </a:lnTo>
                  <a:lnTo>
                    <a:pt x="2817" y="504"/>
                  </a:lnTo>
                  <a:lnTo>
                    <a:pt x="2811" y="492"/>
                  </a:lnTo>
                  <a:lnTo>
                    <a:pt x="2805" y="480"/>
                  </a:lnTo>
                  <a:lnTo>
                    <a:pt x="2796" y="468"/>
                  </a:lnTo>
                  <a:lnTo>
                    <a:pt x="2787" y="456"/>
                  </a:lnTo>
                  <a:lnTo>
                    <a:pt x="2776" y="445"/>
                  </a:lnTo>
                  <a:lnTo>
                    <a:pt x="2764" y="434"/>
                  </a:lnTo>
                  <a:lnTo>
                    <a:pt x="2751" y="423"/>
                  </a:lnTo>
                  <a:lnTo>
                    <a:pt x="2736" y="412"/>
                  </a:lnTo>
                  <a:lnTo>
                    <a:pt x="2721" y="402"/>
                  </a:lnTo>
                  <a:lnTo>
                    <a:pt x="2703" y="392"/>
                  </a:lnTo>
                  <a:lnTo>
                    <a:pt x="2686" y="382"/>
                  </a:lnTo>
                  <a:lnTo>
                    <a:pt x="2666" y="372"/>
                  </a:lnTo>
                  <a:lnTo>
                    <a:pt x="2645" y="363"/>
                  </a:lnTo>
                  <a:lnTo>
                    <a:pt x="2623" y="354"/>
                  </a:lnTo>
                  <a:lnTo>
                    <a:pt x="2599" y="345"/>
                  </a:lnTo>
                  <a:lnTo>
                    <a:pt x="2575" y="338"/>
                  </a:lnTo>
                  <a:lnTo>
                    <a:pt x="2550" y="329"/>
                  </a:lnTo>
                  <a:lnTo>
                    <a:pt x="2522" y="321"/>
                  </a:lnTo>
                  <a:lnTo>
                    <a:pt x="2495" y="315"/>
                  </a:lnTo>
                  <a:lnTo>
                    <a:pt x="2465" y="307"/>
                  </a:lnTo>
                  <a:lnTo>
                    <a:pt x="2402" y="294"/>
                  </a:lnTo>
                  <a:lnTo>
                    <a:pt x="2333" y="281"/>
                  </a:lnTo>
                  <a:lnTo>
                    <a:pt x="2261" y="270"/>
                  </a:lnTo>
                  <a:lnTo>
                    <a:pt x="2183" y="260"/>
                  </a:lnTo>
                  <a:lnTo>
                    <a:pt x="2138" y="256"/>
                  </a:lnTo>
                  <a:lnTo>
                    <a:pt x="2089" y="251"/>
                  </a:lnTo>
                  <a:lnTo>
                    <a:pt x="2038" y="247"/>
                  </a:lnTo>
                  <a:lnTo>
                    <a:pt x="1983" y="243"/>
                  </a:lnTo>
                  <a:lnTo>
                    <a:pt x="1864" y="236"/>
                  </a:lnTo>
                  <a:lnTo>
                    <a:pt x="1733" y="231"/>
                  </a:lnTo>
                  <a:lnTo>
                    <a:pt x="1588" y="226"/>
                  </a:lnTo>
                  <a:lnTo>
                    <a:pt x="1430" y="223"/>
                  </a:lnTo>
                  <a:lnTo>
                    <a:pt x="1260" y="222"/>
                  </a:lnTo>
                  <a:lnTo>
                    <a:pt x="1077" y="22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395520" y="1014120"/>
              <a:ext cx="1138320" cy="830160"/>
            </a:xfrm>
            <a:custGeom>
              <a:avLst/>
              <a:gdLst/>
              <a:ahLst/>
              <a:rect l="l" t="t" r="r" b="b"/>
              <a:pathLst>
                <a:path w="2869" h="2090">
                  <a:moveTo>
                    <a:pt x="82" y="175"/>
                  </a:moveTo>
                  <a:lnTo>
                    <a:pt x="81" y="167"/>
                  </a:lnTo>
                  <a:lnTo>
                    <a:pt x="80" y="159"/>
                  </a:lnTo>
                  <a:lnTo>
                    <a:pt x="77" y="150"/>
                  </a:lnTo>
                  <a:lnTo>
                    <a:pt x="73" y="141"/>
                  </a:lnTo>
                  <a:lnTo>
                    <a:pt x="66" y="131"/>
                  </a:lnTo>
                  <a:lnTo>
                    <a:pt x="59" y="120"/>
                  </a:lnTo>
                  <a:lnTo>
                    <a:pt x="50" y="110"/>
                  </a:lnTo>
                  <a:lnTo>
                    <a:pt x="42" y="98"/>
                  </a:lnTo>
                  <a:lnTo>
                    <a:pt x="32" y="88"/>
                  </a:lnTo>
                  <a:lnTo>
                    <a:pt x="24" y="78"/>
                  </a:lnTo>
                  <a:lnTo>
                    <a:pt x="16" y="69"/>
                  </a:lnTo>
                  <a:lnTo>
                    <a:pt x="11" y="61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12" y="23"/>
                  </a:lnTo>
                  <a:lnTo>
                    <a:pt x="17" y="20"/>
                  </a:lnTo>
                  <a:lnTo>
                    <a:pt x="25" y="16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70" y="5"/>
                  </a:lnTo>
                  <a:lnTo>
                    <a:pt x="101" y="2"/>
                  </a:lnTo>
                  <a:lnTo>
                    <a:pt x="138" y="1"/>
                  </a:lnTo>
                  <a:lnTo>
                    <a:pt x="179" y="0"/>
                  </a:lnTo>
                  <a:lnTo>
                    <a:pt x="333" y="0"/>
                  </a:lnTo>
                  <a:lnTo>
                    <a:pt x="480" y="1"/>
                  </a:lnTo>
                  <a:lnTo>
                    <a:pt x="618" y="1"/>
                  </a:lnTo>
                  <a:lnTo>
                    <a:pt x="747" y="1"/>
                  </a:lnTo>
                  <a:lnTo>
                    <a:pt x="869" y="2"/>
                  </a:lnTo>
                  <a:lnTo>
                    <a:pt x="981" y="3"/>
                  </a:lnTo>
                  <a:lnTo>
                    <a:pt x="1086" y="4"/>
                  </a:lnTo>
                  <a:lnTo>
                    <a:pt x="1182" y="5"/>
                  </a:lnTo>
                  <a:lnTo>
                    <a:pt x="1309" y="7"/>
                  </a:lnTo>
                  <a:lnTo>
                    <a:pt x="1448" y="10"/>
                  </a:lnTo>
                  <a:lnTo>
                    <a:pt x="1598" y="13"/>
                  </a:lnTo>
                  <a:lnTo>
                    <a:pt x="1762" y="16"/>
                  </a:lnTo>
                  <a:lnTo>
                    <a:pt x="1935" y="21"/>
                  </a:lnTo>
                  <a:lnTo>
                    <a:pt x="2122" y="25"/>
                  </a:lnTo>
                  <a:lnTo>
                    <a:pt x="2319" y="31"/>
                  </a:lnTo>
                  <a:lnTo>
                    <a:pt x="2529" y="36"/>
                  </a:lnTo>
                  <a:lnTo>
                    <a:pt x="2549" y="38"/>
                  </a:lnTo>
                  <a:lnTo>
                    <a:pt x="2569" y="39"/>
                  </a:lnTo>
                  <a:lnTo>
                    <a:pt x="2586" y="42"/>
                  </a:lnTo>
                  <a:lnTo>
                    <a:pt x="2603" y="45"/>
                  </a:lnTo>
                  <a:lnTo>
                    <a:pt x="2617" y="48"/>
                  </a:lnTo>
                  <a:lnTo>
                    <a:pt x="2632" y="52"/>
                  </a:lnTo>
                  <a:lnTo>
                    <a:pt x="2644" y="55"/>
                  </a:lnTo>
                  <a:lnTo>
                    <a:pt x="2656" y="59"/>
                  </a:lnTo>
                  <a:lnTo>
                    <a:pt x="2666" y="65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1"/>
                  </a:lnTo>
                  <a:lnTo>
                    <a:pt x="2692" y="87"/>
                  </a:lnTo>
                  <a:lnTo>
                    <a:pt x="2696" y="93"/>
                  </a:lnTo>
                  <a:lnTo>
                    <a:pt x="2697" y="101"/>
                  </a:lnTo>
                  <a:lnTo>
                    <a:pt x="2698" y="109"/>
                  </a:lnTo>
                  <a:lnTo>
                    <a:pt x="2697" y="114"/>
                  </a:lnTo>
                  <a:lnTo>
                    <a:pt x="2695" y="120"/>
                  </a:lnTo>
                  <a:lnTo>
                    <a:pt x="2691" y="125"/>
                  </a:lnTo>
                  <a:lnTo>
                    <a:pt x="2687" y="130"/>
                  </a:lnTo>
                  <a:lnTo>
                    <a:pt x="2680" y="135"/>
                  </a:lnTo>
                  <a:lnTo>
                    <a:pt x="2674" y="140"/>
                  </a:lnTo>
                  <a:lnTo>
                    <a:pt x="2664" y="143"/>
                  </a:lnTo>
                  <a:lnTo>
                    <a:pt x="2654" y="148"/>
                  </a:lnTo>
                  <a:lnTo>
                    <a:pt x="2643" y="151"/>
                  </a:lnTo>
                  <a:lnTo>
                    <a:pt x="2629" y="154"/>
                  </a:lnTo>
                  <a:lnTo>
                    <a:pt x="2615" y="157"/>
                  </a:lnTo>
                  <a:lnTo>
                    <a:pt x="2600" y="160"/>
                  </a:lnTo>
                  <a:lnTo>
                    <a:pt x="2563" y="164"/>
                  </a:lnTo>
                  <a:lnTo>
                    <a:pt x="2522" y="167"/>
                  </a:lnTo>
                  <a:lnTo>
                    <a:pt x="2456" y="172"/>
                  </a:lnTo>
                  <a:lnTo>
                    <a:pt x="2382" y="175"/>
                  </a:lnTo>
                  <a:lnTo>
                    <a:pt x="2303" y="178"/>
                  </a:lnTo>
                  <a:lnTo>
                    <a:pt x="2218" y="183"/>
                  </a:lnTo>
                  <a:lnTo>
                    <a:pt x="2125" y="186"/>
                  </a:lnTo>
                  <a:lnTo>
                    <a:pt x="2028" y="188"/>
                  </a:lnTo>
                  <a:lnTo>
                    <a:pt x="1923" y="192"/>
                  </a:lnTo>
                  <a:lnTo>
                    <a:pt x="1812" y="195"/>
                  </a:lnTo>
                  <a:lnTo>
                    <a:pt x="1688" y="197"/>
                  </a:lnTo>
                  <a:lnTo>
                    <a:pt x="1572" y="201"/>
                  </a:lnTo>
                  <a:lnTo>
                    <a:pt x="1467" y="203"/>
                  </a:lnTo>
                  <a:lnTo>
                    <a:pt x="1372" y="205"/>
                  </a:lnTo>
                  <a:lnTo>
                    <a:pt x="1288" y="208"/>
                  </a:lnTo>
                  <a:lnTo>
                    <a:pt x="1213" y="210"/>
                  </a:lnTo>
                  <a:lnTo>
                    <a:pt x="1148" y="213"/>
                  </a:lnTo>
                  <a:lnTo>
                    <a:pt x="1094" y="215"/>
                  </a:lnTo>
                  <a:lnTo>
                    <a:pt x="1047" y="218"/>
                  </a:lnTo>
                  <a:lnTo>
                    <a:pt x="1007" y="223"/>
                  </a:lnTo>
                  <a:lnTo>
                    <a:pt x="988" y="225"/>
                  </a:lnTo>
                  <a:lnTo>
                    <a:pt x="971" y="228"/>
                  </a:lnTo>
                  <a:lnTo>
                    <a:pt x="956" y="231"/>
                  </a:lnTo>
                  <a:lnTo>
                    <a:pt x="941" y="235"/>
                  </a:lnTo>
                  <a:lnTo>
                    <a:pt x="928" y="238"/>
                  </a:lnTo>
                  <a:lnTo>
                    <a:pt x="917" y="242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2" y="257"/>
                  </a:lnTo>
                  <a:lnTo>
                    <a:pt x="886" y="262"/>
                  </a:lnTo>
                  <a:lnTo>
                    <a:pt x="882" y="268"/>
                  </a:lnTo>
                  <a:lnTo>
                    <a:pt x="878" y="273"/>
                  </a:lnTo>
                  <a:lnTo>
                    <a:pt x="877" y="280"/>
                  </a:lnTo>
                  <a:lnTo>
                    <a:pt x="875" y="295"/>
                  </a:lnTo>
                  <a:lnTo>
                    <a:pt x="872" y="321"/>
                  </a:lnTo>
                  <a:lnTo>
                    <a:pt x="867" y="356"/>
                  </a:lnTo>
                  <a:lnTo>
                    <a:pt x="862" y="400"/>
                  </a:lnTo>
                  <a:lnTo>
                    <a:pt x="856" y="453"/>
                  </a:lnTo>
                  <a:lnTo>
                    <a:pt x="849" y="516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5"/>
                  </a:lnTo>
                  <a:lnTo>
                    <a:pt x="2002" y="1224"/>
                  </a:lnTo>
                  <a:lnTo>
                    <a:pt x="2049" y="1224"/>
                  </a:lnTo>
                  <a:lnTo>
                    <a:pt x="2098" y="1224"/>
                  </a:lnTo>
                  <a:lnTo>
                    <a:pt x="2154" y="1224"/>
                  </a:lnTo>
                  <a:lnTo>
                    <a:pt x="2213" y="1225"/>
                  </a:lnTo>
                  <a:lnTo>
                    <a:pt x="2276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7" y="1230"/>
                  </a:lnTo>
                  <a:lnTo>
                    <a:pt x="2474" y="1235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8"/>
                  </a:lnTo>
                  <a:lnTo>
                    <a:pt x="2523" y="1252"/>
                  </a:lnTo>
                  <a:lnTo>
                    <a:pt x="2531" y="1257"/>
                  </a:lnTo>
                  <a:lnTo>
                    <a:pt x="2537" y="1262"/>
                  </a:lnTo>
                  <a:lnTo>
                    <a:pt x="2541" y="1268"/>
                  </a:lnTo>
                  <a:lnTo>
                    <a:pt x="2544" y="1273"/>
                  </a:lnTo>
                  <a:lnTo>
                    <a:pt x="2548" y="1280"/>
                  </a:lnTo>
                  <a:lnTo>
                    <a:pt x="2549" y="1286"/>
                  </a:lnTo>
                  <a:lnTo>
                    <a:pt x="2550" y="1294"/>
                  </a:lnTo>
                  <a:lnTo>
                    <a:pt x="2549" y="1302"/>
                  </a:lnTo>
                  <a:lnTo>
                    <a:pt x="2548" y="1310"/>
                  </a:lnTo>
                  <a:lnTo>
                    <a:pt x="2544" y="1316"/>
                  </a:lnTo>
                  <a:lnTo>
                    <a:pt x="2541" y="1323"/>
                  </a:lnTo>
                  <a:lnTo>
                    <a:pt x="2536" y="1329"/>
                  </a:lnTo>
                  <a:lnTo>
                    <a:pt x="2530" y="1335"/>
                  </a:lnTo>
                  <a:lnTo>
                    <a:pt x="2522" y="1340"/>
                  </a:lnTo>
                  <a:lnTo>
                    <a:pt x="2515" y="1346"/>
                  </a:lnTo>
                  <a:lnTo>
                    <a:pt x="2505" y="1350"/>
                  </a:lnTo>
                  <a:lnTo>
                    <a:pt x="2495" y="1355"/>
                  </a:lnTo>
                  <a:lnTo>
                    <a:pt x="2483" y="1358"/>
                  </a:lnTo>
                  <a:lnTo>
                    <a:pt x="2470" y="1361"/>
                  </a:lnTo>
                  <a:lnTo>
                    <a:pt x="2456" y="1365"/>
                  </a:lnTo>
                  <a:lnTo>
                    <a:pt x="2442" y="1367"/>
                  </a:lnTo>
                  <a:lnTo>
                    <a:pt x="2425" y="1369"/>
                  </a:lnTo>
                  <a:lnTo>
                    <a:pt x="2409" y="1370"/>
                  </a:lnTo>
                  <a:lnTo>
                    <a:pt x="2363" y="1374"/>
                  </a:lnTo>
                  <a:lnTo>
                    <a:pt x="2288" y="1377"/>
                  </a:lnTo>
                  <a:lnTo>
                    <a:pt x="2182" y="1381"/>
                  </a:lnTo>
                  <a:lnTo>
                    <a:pt x="2046" y="1388"/>
                  </a:lnTo>
                  <a:lnTo>
                    <a:pt x="1880" y="1395"/>
                  </a:lnTo>
                  <a:lnTo>
                    <a:pt x="1682" y="1402"/>
                  </a:lnTo>
                  <a:lnTo>
                    <a:pt x="1454" y="1411"/>
                  </a:lnTo>
                  <a:lnTo>
                    <a:pt x="1195" y="1421"/>
                  </a:lnTo>
                  <a:lnTo>
                    <a:pt x="1158" y="1422"/>
                  </a:lnTo>
                  <a:lnTo>
                    <a:pt x="1116" y="1424"/>
                  </a:lnTo>
                  <a:lnTo>
                    <a:pt x="1069" y="1427"/>
                  </a:lnTo>
                  <a:lnTo>
                    <a:pt x="1019" y="1428"/>
                  </a:lnTo>
                  <a:lnTo>
                    <a:pt x="963" y="1430"/>
                  </a:lnTo>
                  <a:lnTo>
                    <a:pt x="904" y="1432"/>
                  </a:lnTo>
                  <a:lnTo>
                    <a:pt x="840" y="1434"/>
                  </a:lnTo>
                  <a:lnTo>
                    <a:pt x="771" y="1436"/>
                  </a:lnTo>
                  <a:lnTo>
                    <a:pt x="768" y="1486"/>
                  </a:lnTo>
                  <a:lnTo>
                    <a:pt x="766" y="1534"/>
                  </a:lnTo>
                  <a:lnTo>
                    <a:pt x="763" y="1579"/>
                  </a:lnTo>
                  <a:lnTo>
                    <a:pt x="761" y="1622"/>
                  </a:lnTo>
                  <a:lnTo>
                    <a:pt x="759" y="1663"/>
                  </a:lnTo>
                  <a:lnTo>
                    <a:pt x="758" y="1701"/>
                  </a:lnTo>
                  <a:lnTo>
                    <a:pt x="758" y="1738"/>
                  </a:lnTo>
                  <a:lnTo>
                    <a:pt x="757" y="1772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5" y="1801"/>
                  </a:lnTo>
                  <a:lnTo>
                    <a:pt x="770" y="1809"/>
                  </a:lnTo>
                  <a:lnTo>
                    <a:pt x="777" y="1817"/>
                  </a:lnTo>
                  <a:lnTo>
                    <a:pt x="786" y="1824"/>
                  </a:lnTo>
                  <a:lnTo>
                    <a:pt x="796" y="1830"/>
                  </a:lnTo>
                  <a:lnTo>
                    <a:pt x="808" y="1836"/>
                  </a:lnTo>
                  <a:lnTo>
                    <a:pt x="821" y="1841"/>
                  </a:lnTo>
                  <a:lnTo>
                    <a:pt x="835" y="1846"/>
                  </a:lnTo>
                  <a:lnTo>
                    <a:pt x="852" y="1849"/>
                  </a:lnTo>
                  <a:lnTo>
                    <a:pt x="870" y="1853"/>
                  </a:lnTo>
                  <a:lnTo>
                    <a:pt x="889" y="1855"/>
                  </a:lnTo>
                  <a:lnTo>
                    <a:pt x="910" y="1856"/>
                  </a:lnTo>
                  <a:lnTo>
                    <a:pt x="934" y="1857"/>
                  </a:lnTo>
                  <a:lnTo>
                    <a:pt x="958" y="1858"/>
                  </a:lnTo>
                  <a:lnTo>
                    <a:pt x="1032" y="1858"/>
                  </a:lnTo>
                  <a:lnTo>
                    <a:pt x="1115" y="1857"/>
                  </a:lnTo>
                  <a:lnTo>
                    <a:pt x="1206" y="1857"/>
                  </a:lnTo>
                  <a:lnTo>
                    <a:pt x="1307" y="1857"/>
                  </a:lnTo>
                  <a:lnTo>
                    <a:pt x="1416" y="1857"/>
                  </a:lnTo>
                  <a:lnTo>
                    <a:pt x="1534" y="1857"/>
                  </a:lnTo>
                  <a:lnTo>
                    <a:pt x="1661" y="1857"/>
                  </a:lnTo>
                  <a:lnTo>
                    <a:pt x="1797" y="1857"/>
                  </a:lnTo>
                  <a:lnTo>
                    <a:pt x="1933" y="1856"/>
                  </a:lnTo>
                  <a:lnTo>
                    <a:pt x="2059" y="1856"/>
                  </a:lnTo>
                  <a:lnTo>
                    <a:pt x="2177" y="1856"/>
                  </a:lnTo>
                  <a:lnTo>
                    <a:pt x="2286" y="1856"/>
                  </a:lnTo>
                  <a:lnTo>
                    <a:pt x="2387" y="1856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9"/>
                  </a:lnTo>
                  <a:lnTo>
                    <a:pt x="2759" y="1861"/>
                  </a:lnTo>
                  <a:lnTo>
                    <a:pt x="2778" y="1864"/>
                  </a:lnTo>
                  <a:lnTo>
                    <a:pt x="2796" y="1867"/>
                  </a:lnTo>
                  <a:lnTo>
                    <a:pt x="2812" y="1870"/>
                  </a:lnTo>
                  <a:lnTo>
                    <a:pt x="2825" y="1873"/>
                  </a:lnTo>
                  <a:lnTo>
                    <a:pt x="2837" y="1878"/>
                  </a:lnTo>
                  <a:lnTo>
                    <a:pt x="2847" y="1883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900"/>
                  </a:lnTo>
                  <a:lnTo>
                    <a:pt x="2869" y="1907"/>
                  </a:lnTo>
                  <a:lnTo>
                    <a:pt x="2869" y="1913"/>
                  </a:lnTo>
                  <a:lnTo>
                    <a:pt x="2869" y="1920"/>
                  </a:lnTo>
                  <a:lnTo>
                    <a:pt x="2867" y="1925"/>
                  </a:lnTo>
                  <a:lnTo>
                    <a:pt x="2863" y="1931"/>
                  </a:lnTo>
                  <a:lnTo>
                    <a:pt x="2858" y="1935"/>
                  </a:lnTo>
                  <a:lnTo>
                    <a:pt x="2851" y="1941"/>
                  </a:lnTo>
                  <a:lnTo>
                    <a:pt x="2844" y="1945"/>
                  </a:lnTo>
                  <a:lnTo>
                    <a:pt x="2834" y="1950"/>
                  </a:lnTo>
                  <a:lnTo>
                    <a:pt x="2824" y="1953"/>
                  </a:lnTo>
                  <a:lnTo>
                    <a:pt x="2812" y="1957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8" y="1973"/>
                  </a:lnTo>
                  <a:lnTo>
                    <a:pt x="2683" y="1978"/>
                  </a:lnTo>
                  <a:lnTo>
                    <a:pt x="2591" y="1986"/>
                  </a:lnTo>
                  <a:lnTo>
                    <a:pt x="2485" y="1995"/>
                  </a:lnTo>
                  <a:lnTo>
                    <a:pt x="2367" y="2003"/>
                  </a:lnTo>
                  <a:lnTo>
                    <a:pt x="2234" y="2013"/>
                  </a:lnTo>
                  <a:lnTo>
                    <a:pt x="2088" y="2021"/>
                  </a:lnTo>
                  <a:lnTo>
                    <a:pt x="1931" y="2030"/>
                  </a:lnTo>
                  <a:lnTo>
                    <a:pt x="1759" y="2040"/>
                  </a:lnTo>
                  <a:lnTo>
                    <a:pt x="1575" y="2050"/>
                  </a:lnTo>
                  <a:lnTo>
                    <a:pt x="1386" y="2059"/>
                  </a:lnTo>
                  <a:lnTo>
                    <a:pt x="1212" y="2068"/>
                  </a:lnTo>
                  <a:lnTo>
                    <a:pt x="1053" y="2074"/>
                  </a:lnTo>
                  <a:lnTo>
                    <a:pt x="908" y="2080"/>
                  </a:lnTo>
                  <a:lnTo>
                    <a:pt x="777" y="2084"/>
                  </a:lnTo>
                  <a:lnTo>
                    <a:pt x="661" y="2086"/>
                  </a:lnTo>
                  <a:lnTo>
                    <a:pt x="559" y="2089"/>
                  </a:lnTo>
                  <a:lnTo>
                    <a:pt x="472" y="2090"/>
                  </a:lnTo>
                  <a:lnTo>
                    <a:pt x="417" y="2089"/>
                  </a:lnTo>
                  <a:lnTo>
                    <a:pt x="367" y="2086"/>
                  </a:lnTo>
                  <a:lnTo>
                    <a:pt x="320" y="2083"/>
                  </a:lnTo>
                  <a:lnTo>
                    <a:pt x="276" y="2079"/>
                  </a:lnTo>
                  <a:lnTo>
                    <a:pt x="236" y="2073"/>
                  </a:lnTo>
                  <a:lnTo>
                    <a:pt x="199" y="2067"/>
                  </a:lnTo>
                  <a:lnTo>
                    <a:pt x="183" y="2062"/>
                  </a:lnTo>
                  <a:lnTo>
                    <a:pt x="166" y="2058"/>
                  </a:lnTo>
                  <a:lnTo>
                    <a:pt x="152" y="2053"/>
                  </a:lnTo>
                  <a:lnTo>
                    <a:pt x="138" y="2048"/>
                  </a:lnTo>
                  <a:lnTo>
                    <a:pt x="124" y="2042"/>
                  </a:lnTo>
                  <a:lnTo>
                    <a:pt x="111" y="2037"/>
                  </a:lnTo>
                  <a:lnTo>
                    <a:pt x="100" y="2031"/>
                  </a:lnTo>
                  <a:lnTo>
                    <a:pt x="89" y="2025"/>
                  </a:lnTo>
                  <a:lnTo>
                    <a:pt x="79" y="2018"/>
                  </a:lnTo>
                  <a:lnTo>
                    <a:pt x="70" y="2011"/>
                  </a:lnTo>
                  <a:lnTo>
                    <a:pt x="63" y="2004"/>
                  </a:lnTo>
                  <a:lnTo>
                    <a:pt x="56" y="1996"/>
                  </a:lnTo>
                  <a:lnTo>
                    <a:pt x="49" y="1988"/>
                  </a:lnTo>
                  <a:lnTo>
                    <a:pt x="44" y="1979"/>
                  </a:lnTo>
                  <a:lnTo>
                    <a:pt x="39" y="1972"/>
                  </a:lnTo>
                  <a:lnTo>
                    <a:pt x="36" y="1963"/>
                  </a:lnTo>
                  <a:lnTo>
                    <a:pt x="34" y="1953"/>
                  </a:lnTo>
                  <a:lnTo>
                    <a:pt x="32" y="1944"/>
                  </a:lnTo>
                  <a:lnTo>
                    <a:pt x="31" y="1934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9"/>
                  </a:lnTo>
                  <a:lnTo>
                    <a:pt x="53" y="1436"/>
                  </a:lnTo>
                  <a:lnTo>
                    <a:pt x="63" y="1210"/>
                  </a:lnTo>
                  <a:lnTo>
                    <a:pt x="69" y="991"/>
                  </a:lnTo>
                  <a:lnTo>
                    <a:pt x="75" y="777"/>
                  </a:lnTo>
                  <a:lnTo>
                    <a:pt x="79" y="570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11840" y="1017360"/>
              <a:ext cx="1549440" cy="822240"/>
            </a:xfrm>
            <a:custGeom>
              <a:avLst/>
              <a:gdLst/>
              <a:ahLst/>
              <a:rect l="l" t="t" r="r" b="b"/>
              <a:pathLst>
                <a:path w="3903" h="2072">
                  <a:moveTo>
                    <a:pt x="1686" y="0"/>
                  </a:moveTo>
                  <a:lnTo>
                    <a:pt x="1702" y="0"/>
                  </a:lnTo>
                  <a:lnTo>
                    <a:pt x="1722" y="0"/>
                  </a:lnTo>
                  <a:lnTo>
                    <a:pt x="1743" y="1"/>
                  </a:lnTo>
                  <a:lnTo>
                    <a:pt x="1766" y="2"/>
                  </a:lnTo>
                  <a:lnTo>
                    <a:pt x="1791" y="3"/>
                  </a:lnTo>
                  <a:lnTo>
                    <a:pt x="1819" y="4"/>
                  </a:lnTo>
                  <a:lnTo>
                    <a:pt x="1848" y="6"/>
                  </a:lnTo>
                  <a:lnTo>
                    <a:pt x="1879" y="8"/>
                  </a:lnTo>
                  <a:lnTo>
                    <a:pt x="1911" y="11"/>
                  </a:lnTo>
                  <a:lnTo>
                    <a:pt x="1939" y="12"/>
                  </a:lnTo>
                  <a:lnTo>
                    <a:pt x="1967" y="14"/>
                  </a:lnTo>
                  <a:lnTo>
                    <a:pt x="1992" y="15"/>
                  </a:lnTo>
                  <a:lnTo>
                    <a:pt x="2016" y="16"/>
                  </a:lnTo>
                  <a:lnTo>
                    <a:pt x="2038" y="16"/>
                  </a:lnTo>
                  <a:lnTo>
                    <a:pt x="2058" y="17"/>
                  </a:lnTo>
                  <a:lnTo>
                    <a:pt x="2074" y="17"/>
                  </a:lnTo>
                  <a:lnTo>
                    <a:pt x="2085" y="17"/>
                  </a:lnTo>
                  <a:lnTo>
                    <a:pt x="2097" y="16"/>
                  </a:lnTo>
                  <a:lnTo>
                    <a:pt x="2111" y="16"/>
                  </a:lnTo>
                  <a:lnTo>
                    <a:pt x="2125" y="15"/>
                  </a:lnTo>
                  <a:lnTo>
                    <a:pt x="2141" y="15"/>
                  </a:lnTo>
                  <a:lnTo>
                    <a:pt x="2158" y="14"/>
                  </a:lnTo>
                  <a:lnTo>
                    <a:pt x="2177" y="13"/>
                  </a:lnTo>
                  <a:lnTo>
                    <a:pt x="2197" y="11"/>
                  </a:lnTo>
                  <a:lnTo>
                    <a:pt x="2217" y="9"/>
                  </a:lnTo>
                  <a:lnTo>
                    <a:pt x="2235" y="8"/>
                  </a:lnTo>
                  <a:lnTo>
                    <a:pt x="2252" y="7"/>
                  </a:lnTo>
                  <a:lnTo>
                    <a:pt x="2268" y="6"/>
                  </a:lnTo>
                  <a:lnTo>
                    <a:pt x="2284" y="6"/>
                  </a:lnTo>
                  <a:lnTo>
                    <a:pt x="2297" y="5"/>
                  </a:lnTo>
                  <a:lnTo>
                    <a:pt x="2310" y="5"/>
                  </a:lnTo>
                  <a:lnTo>
                    <a:pt x="2323" y="5"/>
                  </a:lnTo>
                  <a:lnTo>
                    <a:pt x="2360" y="5"/>
                  </a:lnTo>
                  <a:lnTo>
                    <a:pt x="2396" y="6"/>
                  </a:lnTo>
                  <a:lnTo>
                    <a:pt x="2430" y="7"/>
                  </a:lnTo>
                  <a:lnTo>
                    <a:pt x="2462" y="9"/>
                  </a:lnTo>
                  <a:lnTo>
                    <a:pt x="2490" y="13"/>
                  </a:lnTo>
                  <a:lnTo>
                    <a:pt x="2518" y="16"/>
                  </a:lnTo>
                  <a:lnTo>
                    <a:pt x="2542" y="20"/>
                  </a:lnTo>
                  <a:lnTo>
                    <a:pt x="2565" y="25"/>
                  </a:lnTo>
                  <a:lnTo>
                    <a:pt x="2585" y="30"/>
                  </a:lnTo>
                  <a:lnTo>
                    <a:pt x="2604" y="37"/>
                  </a:lnTo>
                  <a:lnTo>
                    <a:pt x="2619" y="44"/>
                  </a:lnTo>
                  <a:lnTo>
                    <a:pt x="2634" y="51"/>
                  </a:lnTo>
                  <a:lnTo>
                    <a:pt x="2645" y="59"/>
                  </a:lnTo>
                  <a:lnTo>
                    <a:pt x="2655" y="68"/>
                  </a:lnTo>
                  <a:lnTo>
                    <a:pt x="2661" y="77"/>
                  </a:lnTo>
                  <a:lnTo>
                    <a:pt x="2667" y="87"/>
                  </a:lnTo>
                  <a:lnTo>
                    <a:pt x="2674" y="111"/>
                  </a:lnTo>
                  <a:lnTo>
                    <a:pt x="2681" y="139"/>
                  </a:lnTo>
                  <a:lnTo>
                    <a:pt x="2691" y="168"/>
                  </a:lnTo>
                  <a:lnTo>
                    <a:pt x="2702" y="201"/>
                  </a:lnTo>
                  <a:lnTo>
                    <a:pt x="2714" y="238"/>
                  </a:lnTo>
                  <a:lnTo>
                    <a:pt x="2728" y="277"/>
                  </a:lnTo>
                  <a:lnTo>
                    <a:pt x="2743" y="318"/>
                  </a:lnTo>
                  <a:lnTo>
                    <a:pt x="2760" y="363"/>
                  </a:lnTo>
                  <a:lnTo>
                    <a:pt x="2786" y="418"/>
                  </a:lnTo>
                  <a:lnTo>
                    <a:pt x="2814" y="473"/>
                  </a:lnTo>
                  <a:lnTo>
                    <a:pt x="2841" y="528"/>
                  </a:lnTo>
                  <a:lnTo>
                    <a:pt x="2869" y="582"/>
                  </a:lnTo>
                  <a:lnTo>
                    <a:pt x="2899" y="636"/>
                  </a:lnTo>
                  <a:lnTo>
                    <a:pt x="2928" y="689"/>
                  </a:lnTo>
                  <a:lnTo>
                    <a:pt x="2957" y="742"/>
                  </a:lnTo>
                  <a:lnTo>
                    <a:pt x="2988" y="795"/>
                  </a:lnTo>
                  <a:lnTo>
                    <a:pt x="3019" y="847"/>
                  </a:lnTo>
                  <a:lnTo>
                    <a:pt x="3051" y="899"/>
                  </a:lnTo>
                  <a:lnTo>
                    <a:pt x="3083" y="950"/>
                  </a:lnTo>
                  <a:lnTo>
                    <a:pt x="3116" y="1000"/>
                  </a:lnTo>
                  <a:lnTo>
                    <a:pt x="3149" y="1051"/>
                  </a:lnTo>
                  <a:lnTo>
                    <a:pt x="3184" y="1101"/>
                  </a:lnTo>
                  <a:lnTo>
                    <a:pt x="3218" y="1151"/>
                  </a:lnTo>
                  <a:lnTo>
                    <a:pt x="3253" y="1199"/>
                  </a:lnTo>
                  <a:lnTo>
                    <a:pt x="3289" y="1249"/>
                  </a:lnTo>
                  <a:lnTo>
                    <a:pt x="3325" y="1296"/>
                  </a:lnTo>
                  <a:lnTo>
                    <a:pt x="3362" y="1345"/>
                  </a:lnTo>
                  <a:lnTo>
                    <a:pt x="3399" y="1392"/>
                  </a:lnTo>
                  <a:lnTo>
                    <a:pt x="3438" y="1439"/>
                  </a:lnTo>
                  <a:lnTo>
                    <a:pt x="3476" y="1485"/>
                  </a:lnTo>
                  <a:lnTo>
                    <a:pt x="3515" y="1531"/>
                  </a:lnTo>
                  <a:lnTo>
                    <a:pt x="3555" y="1578"/>
                  </a:lnTo>
                  <a:lnTo>
                    <a:pt x="3595" y="1623"/>
                  </a:lnTo>
                  <a:lnTo>
                    <a:pt x="3636" y="1667"/>
                  </a:lnTo>
                  <a:lnTo>
                    <a:pt x="3677" y="1712"/>
                  </a:lnTo>
                  <a:lnTo>
                    <a:pt x="3719" y="1755"/>
                  </a:lnTo>
                  <a:lnTo>
                    <a:pt x="3762" y="1799"/>
                  </a:lnTo>
                  <a:lnTo>
                    <a:pt x="3805" y="1842"/>
                  </a:lnTo>
                  <a:lnTo>
                    <a:pt x="3849" y="1885"/>
                  </a:lnTo>
                  <a:lnTo>
                    <a:pt x="3894" y="1927"/>
                  </a:lnTo>
                  <a:lnTo>
                    <a:pt x="3896" y="1930"/>
                  </a:lnTo>
                  <a:lnTo>
                    <a:pt x="3898" y="1931"/>
                  </a:lnTo>
                  <a:lnTo>
                    <a:pt x="3899" y="1933"/>
                  </a:lnTo>
                  <a:lnTo>
                    <a:pt x="3900" y="1934"/>
                  </a:lnTo>
                  <a:lnTo>
                    <a:pt x="3901" y="1936"/>
                  </a:lnTo>
                  <a:lnTo>
                    <a:pt x="3902" y="1938"/>
                  </a:lnTo>
                  <a:lnTo>
                    <a:pt x="3902" y="1940"/>
                  </a:lnTo>
                  <a:lnTo>
                    <a:pt x="3903" y="1942"/>
                  </a:lnTo>
                  <a:lnTo>
                    <a:pt x="3902" y="1947"/>
                  </a:lnTo>
                  <a:lnTo>
                    <a:pt x="3899" y="1952"/>
                  </a:lnTo>
                  <a:lnTo>
                    <a:pt x="3894" y="1956"/>
                  </a:lnTo>
                  <a:lnTo>
                    <a:pt x="3887" y="1959"/>
                  </a:lnTo>
                  <a:lnTo>
                    <a:pt x="3878" y="1963"/>
                  </a:lnTo>
                  <a:lnTo>
                    <a:pt x="3867" y="1964"/>
                  </a:lnTo>
                  <a:lnTo>
                    <a:pt x="3854" y="1965"/>
                  </a:lnTo>
                  <a:lnTo>
                    <a:pt x="3838" y="1966"/>
                  </a:lnTo>
                  <a:lnTo>
                    <a:pt x="3831" y="1966"/>
                  </a:lnTo>
                  <a:lnTo>
                    <a:pt x="3823" y="1965"/>
                  </a:lnTo>
                  <a:lnTo>
                    <a:pt x="3814" y="1965"/>
                  </a:lnTo>
                  <a:lnTo>
                    <a:pt x="3804" y="1965"/>
                  </a:lnTo>
                  <a:lnTo>
                    <a:pt x="3793" y="1964"/>
                  </a:lnTo>
                  <a:lnTo>
                    <a:pt x="3781" y="1964"/>
                  </a:lnTo>
                  <a:lnTo>
                    <a:pt x="3769" y="1963"/>
                  </a:lnTo>
                  <a:lnTo>
                    <a:pt x="3754" y="1962"/>
                  </a:lnTo>
                  <a:lnTo>
                    <a:pt x="3741" y="1960"/>
                  </a:lnTo>
                  <a:lnTo>
                    <a:pt x="3729" y="1960"/>
                  </a:lnTo>
                  <a:lnTo>
                    <a:pt x="3717" y="1959"/>
                  </a:lnTo>
                  <a:lnTo>
                    <a:pt x="3706" y="1958"/>
                  </a:lnTo>
                  <a:lnTo>
                    <a:pt x="3696" y="1958"/>
                  </a:lnTo>
                  <a:lnTo>
                    <a:pt x="3686" y="1958"/>
                  </a:lnTo>
                  <a:lnTo>
                    <a:pt x="3677" y="1958"/>
                  </a:lnTo>
                  <a:lnTo>
                    <a:pt x="3669" y="1957"/>
                  </a:lnTo>
                  <a:lnTo>
                    <a:pt x="3595" y="1966"/>
                  </a:lnTo>
                  <a:lnTo>
                    <a:pt x="3528" y="1974"/>
                  </a:lnTo>
                  <a:lnTo>
                    <a:pt x="3466" y="1980"/>
                  </a:lnTo>
                  <a:lnTo>
                    <a:pt x="3411" y="1986"/>
                  </a:lnTo>
                  <a:lnTo>
                    <a:pt x="3362" y="1989"/>
                  </a:lnTo>
                  <a:lnTo>
                    <a:pt x="3319" y="1992"/>
                  </a:lnTo>
                  <a:lnTo>
                    <a:pt x="3283" y="1994"/>
                  </a:lnTo>
                  <a:lnTo>
                    <a:pt x="3253" y="1995"/>
                  </a:lnTo>
                  <a:lnTo>
                    <a:pt x="3206" y="1994"/>
                  </a:lnTo>
                  <a:lnTo>
                    <a:pt x="3164" y="1990"/>
                  </a:lnTo>
                  <a:lnTo>
                    <a:pt x="3145" y="1988"/>
                  </a:lnTo>
                  <a:lnTo>
                    <a:pt x="3127" y="1986"/>
                  </a:lnTo>
                  <a:lnTo>
                    <a:pt x="3111" y="1983"/>
                  </a:lnTo>
                  <a:lnTo>
                    <a:pt x="3095" y="1979"/>
                  </a:lnTo>
                  <a:lnTo>
                    <a:pt x="3081" y="1975"/>
                  </a:lnTo>
                  <a:lnTo>
                    <a:pt x="3069" y="1970"/>
                  </a:lnTo>
                  <a:lnTo>
                    <a:pt x="3057" y="1966"/>
                  </a:lnTo>
                  <a:lnTo>
                    <a:pt x="3047" y="1960"/>
                  </a:lnTo>
                  <a:lnTo>
                    <a:pt x="3038" y="1954"/>
                  </a:lnTo>
                  <a:lnTo>
                    <a:pt x="3029" y="1947"/>
                  </a:lnTo>
                  <a:lnTo>
                    <a:pt x="3022" y="1941"/>
                  </a:lnTo>
                  <a:lnTo>
                    <a:pt x="3018" y="1933"/>
                  </a:lnTo>
                  <a:lnTo>
                    <a:pt x="2979" y="1868"/>
                  </a:lnTo>
                  <a:lnTo>
                    <a:pt x="2941" y="1803"/>
                  </a:lnTo>
                  <a:lnTo>
                    <a:pt x="2901" y="1739"/>
                  </a:lnTo>
                  <a:lnTo>
                    <a:pt x="2861" y="1676"/>
                  </a:lnTo>
                  <a:lnTo>
                    <a:pt x="2820" y="1613"/>
                  </a:lnTo>
                  <a:lnTo>
                    <a:pt x="2778" y="1551"/>
                  </a:lnTo>
                  <a:lnTo>
                    <a:pt x="2737" y="1490"/>
                  </a:lnTo>
                  <a:lnTo>
                    <a:pt x="2695" y="1431"/>
                  </a:lnTo>
                  <a:lnTo>
                    <a:pt x="1052" y="1478"/>
                  </a:lnTo>
                  <a:lnTo>
                    <a:pt x="1030" y="1503"/>
                  </a:lnTo>
                  <a:lnTo>
                    <a:pt x="1009" y="1528"/>
                  </a:lnTo>
                  <a:lnTo>
                    <a:pt x="987" y="1555"/>
                  </a:lnTo>
                  <a:lnTo>
                    <a:pt x="966" y="1583"/>
                  </a:lnTo>
                  <a:lnTo>
                    <a:pt x="944" y="1613"/>
                  </a:lnTo>
                  <a:lnTo>
                    <a:pt x="922" y="1644"/>
                  </a:lnTo>
                  <a:lnTo>
                    <a:pt x="899" y="1677"/>
                  </a:lnTo>
                  <a:lnTo>
                    <a:pt x="876" y="1710"/>
                  </a:lnTo>
                  <a:lnTo>
                    <a:pt x="854" y="1745"/>
                  </a:lnTo>
                  <a:lnTo>
                    <a:pt x="832" y="1782"/>
                  </a:lnTo>
                  <a:lnTo>
                    <a:pt x="809" y="1820"/>
                  </a:lnTo>
                  <a:lnTo>
                    <a:pt x="786" y="1859"/>
                  </a:lnTo>
                  <a:lnTo>
                    <a:pt x="739" y="1942"/>
                  </a:lnTo>
                  <a:lnTo>
                    <a:pt x="693" y="2030"/>
                  </a:lnTo>
                  <a:lnTo>
                    <a:pt x="690" y="2034"/>
                  </a:lnTo>
                  <a:lnTo>
                    <a:pt x="685" y="2040"/>
                  </a:lnTo>
                  <a:lnTo>
                    <a:pt x="681" y="2044"/>
                  </a:lnTo>
                  <a:lnTo>
                    <a:pt x="676" y="2049"/>
                  </a:lnTo>
                  <a:lnTo>
                    <a:pt x="665" y="2055"/>
                  </a:lnTo>
                  <a:lnTo>
                    <a:pt x="652" y="2062"/>
                  </a:lnTo>
                  <a:lnTo>
                    <a:pt x="637" y="2066"/>
                  </a:lnTo>
                  <a:lnTo>
                    <a:pt x="619" y="2070"/>
                  </a:lnTo>
                  <a:lnTo>
                    <a:pt x="600" y="2072"/>
                  </a:lnTo>
                  <a:lnTo>
                    <a:pt x="578" y="2072"/>
                  </a:lnTo>
                  <a:lnTo>
                    <a:pt x="529" y="2072"/>
                  </a:lnTo>
                  <a:lnTo>
                    <a:pt x="481" y="2071"/>
                  </a:lnTo>
                  <a:lnTo>
                    <a:pt x="439" y="2070"/>
                  </a:lnTo>
                  <a:lnTo>
                    <a:pt x="400" y="2068"/>
                  </a:lnTo>
                  <a:lnTo>
                    <a:pt x="366" y="2065"/>
                  </a:lnTo>
                  <a:lnTo>
                    <a:pt x="335" y="2062"/>
                  </a:lnTo>
                  <a:lnTo>
                    <a:pt x="309" y="2059"/>
                  </a:lnTo>
                  <a:lnTo>
                    <a:pt x="286" y="2054"/>
                  </a:lnTo>
                  <a:lnTo>
                    <a:pt x="258" y="2045"/>
                  </a:lnTo>
                  <a:lnTo>
                    <a:pt x="229" y="2038"/>
                  </a:lnTo>
                  <a:lnTo>
                    <a:pt x="202" y="2029"/>
                  </a:lnTo>
                  <a:lnTo>
                    <a:pt x="173" y="2020"/>
                  </a:lnTo>
                  <a:lnTo>
                    <a:pt x="145" y="2011"/>
                  </a:lnTo>
                  <a:lnTo>
                    <a:pt x="118" y="2004"/>
                  </a:lnTo>
                  <a:lnTo>
                    <a:pt x="90" y="1995"/>
                  </a:lnTo>
                  <a:lnTo>
                    <a:pt x="63" y="1986"/>
                  </a:lnTo>
                  <a:lnTo>
                    <a:pt x="48" y="1981"/>
                  </a:lnTo>
                  <a:lnTo>
                    <a:pt x="35" y="1975"/>
                  </a:lnTo>
                  <a:lnTo>
                    <a:pt x="24" y="1969"/>
                  </a:lnTo>
                  <a:lnTo>
                    <a:pt x="16" y="1962"/>
                  </a:lnTo>
                  <a:lnTo>
                    <a:pt x="9" y="1954"/>
                  </a:lnTo>
                  <a:lnTo>
                    <a:pt x="4" y="1945"/>
                  </a:lnTo>
                  <a:lnTo>
                    <a:pt x="1" y="1936"/>
                  </a:lnTo>
                  <a:lnTo>
                    <a:pt x="0" y="1926"/>
                  </a:lnTo>
                  <a:lnTo>
                    <a:pt x="2" y="1919"/>
                  </a:lnTo>
                  <a:lnTo>
                    <a:pt x="7" y="1909"/>
                  </a:lnTo>
                  <a:lnTo>
                    <a:pt x="15" y="1894"/>
                  </a:lnTo>
                  <a:lnTo>
                    <a:pt x="27" y="1877"/>
                  </a:lnTo>
                  <a:lnTo>
                    <a:pt x="43" y="1856"/>
                  </a:lnTo>
                  <a:lnTo>
                    <a:pt x="62" y="1830"/>
                  </a:lnTo>
                  <a:lnTo>
                    <a:pt x="85" y="1803"/>
                  </a:lnTo>
                  <a:lnTo>
                    <a:pt x="110" y="1772"/>
                  </a:lnTo>
                  <a:lnTo>
                    <a:pt x="172" y="1699"/>
                  </a:lnTo>
                  <a:lnTo>
                    <a:pt x="248" y="1613"/>
                  </a:lnTo>
                  <a:lnTo>
                    <a:pt x="338" y="1514"/>
                  </a:lnTo>
                  <a:lnTo>
                    <a:pt x="441" y="1401"/>
                  </a:lnTo>
                  <a:lnTo>
                    <a:pt x="508" y="1328"/>
                  </a:lnTo>
                  <a:lnTo>
                    <a:pt x="575" y="1256"/>
                  </a:lnTo>
                  <a:lnTo>
                    <a:pt x="642" y="1185"/>
                  </a:lnTo>
                  <a:lnTo>
                    <a:pt x="710" y="1112"/>
                  </a:lnTo>
                  <a:lnTo>
                    <a:pt x="777" y="1040"/>
                  </a:lnTo>
                  <a:lnTo>
                    <a:pt x="844" y="967"/>
                  </a:lnTo>
                  <a:lnTo>
                    <a:pt x="912" y="896"/>
                  </a:lnTo>
                  <a:lnTo>
                    <a:pt x="978" y="823"/>
                  </a:lnTo>
                  <a:lnTo>
                    <a:pt x="1042" y="752"/>
                  </a:lnTo>
                  <a:lnTo>
                    <a:pt x="1099" y="688"/>
                  </a:lnTo>
                  <a:lnTo>
                    <a:pt x="1150" y="632"/>
                  </a:lnTo>
                  <a:lnTo>
                    <a:pt x="1195" y="581"/>
                  </a:lnTo>
                  <a:lnTo>
                    <a:pt x="1233" y="539"/>
                  </a:lnTo>
                  <a:lnTo>
                    <a:pt x="1265" y="503"/>
                  </a:lnTo>
                  <a:lnTo>
                    <a:pt x="1290" y="474"/>
                  </a:lnTo>
                  <a:lnTo>
                    <a:pt x="1309" y="453"/>
                  </a:lnTo>
                  <a:lnTo>
                    <a:pt x="1352" y="400"/>
                  </a:lnTo>
                  <a:lnTo>
                    <a:pt x="1393" y="348"/>
                  </a:lnTo>
                  <a:lnTo>
                    <a:pt x="1430" y="299"/>
                  </a:lnTo>
                  <a:lnTo>
                    <a:pt x="1465" y="250"/>
                  </a:lnTo>
                  <a:lnTo>
                    <a:pt x="1497" y="204"/>
                  </a:lnTo>
                  <a:lnTo>
                    <a:pt x="1525" y="160"/>
                  </a:lnTo>
                  <a:lnTo>
                    <a:pt x="1552" y="116"/>
                  </a:lnTo>
                  <a:lnTo>
                    <a:pt x="1575" y="76"/>
                  </a:lnTo>
                  <a:lnTo>
                    <a:pt x="1576" y="69"/>
                  </a:lnTo>
                  <a:lnTo>
                    <a:pt x="1578" y="62"/>
                  </a:lnTo>
                  <a:lnTo>
                    <a:pt x="1580" y="57"/>
                  </a:lnTo>
                  <a:lnTo>
                    <a:pt x="1582" y="50"/>
                  </a:lnTo>
                  <a:lnTo>
                    <a:pt x="1584" y="44"/>
                  </a:lnTo>
                  <a:lnTo>
                    <a:pt x="1585" y="38"/>
                  </a:lnTo>
                  <a:lnTo>
                    <a:pt x="1587" y="32"/>
                  </a:lnTo>
                  <a:lnTo>
                    <a:pt x="1588" y="25"/>
                  </a:lnTo>
                  <a:lnTo>
                    <a:pt x="1595" y="19"/>
                  </a:lnTo>
                  <a:lnTo>
                    <a:pt x="1602" y="14"/>
                  </a:lnTo>
                  <a:lnTo>
                    <a:pt x="1612" y="9"/>
                  </a:lnTo>
                  <a:lnTo>
                    <a:pt x="1623" y="6"/>
                  </a:lnTo>
                  <a:lnTo>
                    <a:pt x="1636" y="3"/>
                  </a:lnTo>
                  <a:lnTo>
                    <a:pt x="1650" y="1"/>
                  </a:lnTo>
                  <a:lnTo>
                    <a:pt x="1667" y="0"/>
                  </a:lnTo>
                  <a:lnTo>
                    <a:pt x="1686" y="0"/>
                  </a:lnTo>
                  <a:close/>
                  <a:moveTo>
                    <a:pt x="2587" y="1280"/>
                  </a:moveTo>
                  <a:lnTo>
                    <a:pt x="2047" y="398"/>
                  </a:lnTo>
                  <a:lnTo>
                    <a:pt x="1185" y="1314"/>
                  </a:lnTo>
                  <a:lnTo>
                    <a:pt x="2587" y="128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13440" y="995400"/>
              <a:ext cx="1103400" cy="815400"/>
            </a:xfrm>
            <a:custGeom>
              <a:avLst/>
              <a:gdLst/>
              <a:ahLst/>
              <a:rect l="l" t="t" r="r" b="b"/>
              <a:pathLst>
                <a:path w="2780" h="2055">
                  <a:moveTo>
                    <a:pt x="116" y="475"/>
                  </a:moveTo>
                  <a:lnTo>
                    <a:pt x="116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3" y="213"/>
                  </a:lnTo>
                  <a:lnTo>
                    <a:pt x="111" y="169"/>
                  </a:lnTo>
                  <a:lnTo>
                    <a:pt x="109" y="133"/>
                  </a:lnTo>
                  <a:lnTo>
                    <a:pt x="106" y="105"/>
                  </a:lnTo>
                  <a:lnTo>
                    <a:pt x="104" y="86"/>
                  </a:lnTo>
                  <a:lnTo>
                    <a:pt x="103" y="84"/>
                  </a:lnTo>
                  <a:lnTo>
                    <a:pt x="103" y="81"/>
                  </a:lnTo>
                  <a:lnTo>
                    <a:pt x="100" y="77"/>
                  </a:lnTo>
                  <a:lnTo>
                    <a:pt x="99" y="74"/>
                  </a:lnTo>
                  <a:lnTo>
                    <a:pt x="96" y="71"/>
                  </a:lnTo>
                  <a:lnTo>
                    <a:pt x="94" y="66"/>
                  </a:lnTo>
                  <a:lnTo>
                    <a:pt x="89" y="63"/>
                  </a:lnTo>
                  <a:lnTo>
                    <a:pt x="86" y="59"/>
                  </a:lnTo>
                  <a:lnTo>
                    <a:pt x="82" y="54"/>
                  </a:lnTo>
                  <a:lnTo>
                    <a:pt x="78" y="50"/>
                  </a:lnTo>
                  <a:lnTo>
                    <a:pt x="75" y="46"/>
                  </a:lnTo>
                  <a:lnTo>
                    <a:pt x="73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70" y="37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9" y="17"/>
                  </a:lnTo>
                  <a:lnTo>
                    <a:pt x="84" y="13"/>
                  </a:lnTo>
                  <a:lnTo>
                    <a:pt x="89" y="11"/>
                  </a:lnTo>
                  <a:lnTo>
                    <a:pt x="96" y="9"/>
                  </a:lnTo>
                  <a:lnTo>
                    <a:pt x="110" y="5"/>
                  </a:lnTo>
                  <a:lnTo>
                    <a:pt x="129" y="2"/>
                  </a:lnTo>
                  <a:lnTo>
                    <a:pt x="15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12" y="1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5"/>
                  </a:lnTo>
                  <a:lnTo>
                    <a:pt x="256" y="6"/>
                  </a:lnTo>
                  <a:lnTo>
                    <a:pt x="267" y="6"/>
                  </a:lnTo>
                  <a:lnTo>
                    <a:pt x="277" y="7"/>
                  </a:lnTo>
                  <a:lnTo>
                    <a:pt x="287" y="7"/>
                  </a:lnTo>
                  <a:lnTo>
                    <a:pt x="296" y="8"/>
                  </a:lnTo>
                  <a:lnTo>
                    <a:pt x="304" y="8"/>
                  </a:lnTo>
                  <a:lnTo>
                    <a:pt x="311" y="8"/>
                  </a:lnTo>
                  <a:lnTo>
                    <a:pt x="317" y="8"/>
                  </a:lnTo>
                  <a:lnTo>
                    <a:pt x="336" y="8"/>
                  </a:lnTo>
                  <a:lnTo>
                    <a:pt x="355" y="8"/>
                  </a:lnTo>
                  <a:lnTo>
                    <a:pt x="379" y="8"/>
                  </a:lnTo>
                  <a:lnTo>
                    <a:pt x="403" y="7"/>
                  </a:lnTo>
                  <a:lnTo>
                    <a:pt x="429" y="7"/>
                  </a:lnTo>
                  <a:lnTo>
                    <a:pt x="458" y="6"/>
                  </a:lnTo>
                  <a:lnTo>
                    <a:pt x="489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5" y="2"/>
                  </a:lnTo>
                  <a:lnTo>
                    <a:pt x="614" y="1"/>
                  </a:lnTo>
                  <a:lnTo>
                    <a:pt x="640" y="1"/>
                  </a:lnTo>
                  <a:lnTo>
                    <a:pt x="665" y="1"/>
                  </a:lnTo>
                  <a:lnTo>
                    <a:pt x="686" y="0"/>
                  </a:lnTo>
                  <a:lnTo>
                    <a:pt x="705" y="0"/>
                  </a:lnTo>
                  <a:lnTo>
                    <a:pt x="723" y="0"/>
                  </a:lnTo>
                  <a:lnTo>
                    <a:pt x="821" y="0"/>
                  </a:lnTo>
                  <a:lnTo>
                    <a:pt x="919" y="2"/>
                  </a:lnTo>
                  <a:lnTo>
                    <a:pt x="1013" y="5"/>
                  </a:lnTo>
                  <a:lnTo>
                    <a:pt x="1106" y="8"/>
                  </a:lnTo>
                  <a:lnTo>
                    <a:pt x="1198" y="12"/>
                  </a:lnTo>
                  <a:lnTo>
                    <a:pt x="1288" y="19"/>
                  </a:lnTo>
                  <a:lnTo>
                    <a:pt x="1376" y="24"/>
                  </a:lnTo>
                  <a:lnTo>
                    <a:pt x="1462" y="32"/>
                  </a:lnTo>
                  <a:lnTo>
                    <a:pt x="1547" y="41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8" y="73"/>
                  </a:lnTo>
                  <a:lnTo>
                    <a:pt x="1866" y="86"/>
                  </a:lnTo>
                  <a:lnTo>
                    <a:pt x="1942" y="99"/>
                  </a:lnTo>
                  <a:lnTo>
                    <a:pt x="2015" y="114"/>
                  </a:lnTo>
                  <a:lnTo>
                    <a:pt x="2088" y="129"/>
                  </a:lnTo>
                  <a:lnTo>
                    <a:pt x="2130" y="140"/>
                  </a:lnTo>
                  <a:lnTo>
                    <a:pt x="2172" y="150"/>
                  </a:lnTo>
                  <a:lnTo>
                    <a:pt x="2211" y="160"/>
                  </a:lnTo>
                  <a:lnTo>
                    <a:pt x="2250" y="171"/>
                  </a:lnTo>
                  <a:lnTo>
                    <a:pt x="2286" y="182"/>
                  </a:lnTo>
                  <a:lnTo>
                    <a:pt x="2323" y="193"/>
                  </a:lnTo>
                  <a:lnTo>
                    <a:pt x="2357" y="205"/>
                  </a:lnTo>
                  <a:lnTo>
                    <a:pt x="2390" y="216"/>
                  </a:lnTo>
                  <a:lnTo>
                    <a:pt x="2422" y="229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09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4" y="307"/>
                  </a:lnTo>
                  <a:lnTo>
                    <a:pt x="2607" y="321"/>
                  </a:lnTo>
                  <a:lnTo>
                    <a:pt x="2628" y="335"/>
                  </a:lnTo>
                  <a:lnTo>
                    <a:pt x="2647" y="349"/>
                  </a:lnTo>
                  <a:lnTo>
                    <a:pt x="2665" y="364"/>
                  </a:lnTo>
                  <a:lnTo>
                    <a:pt x="2683" y="379"/>
                  </a:lnTo>
                  <a:lnTo>
                    <a:pt x="2698" y="394"/>
                  </a:lnTo>
                  <a:lnTo>
                    <a:pt x="2713" y="410"/>
                  </a:lnTo>
                  <a:lnTo>
                    <a:pt x="2725" y="425"/>
                  </a:lnTo>
                  <a:lnTo>
                    <a:pt x="2737" y="442"/>
                  </a:lnTo>
                  <a:lnTo>
                    <a:pt x="2747" y="457"/>
                  </a:lnTo>
                  <a:lnTo>
                    <a:pt x="2756" y="474"/>
                  </a:lnTo>
                  <a:lnTo>
                    <a:pt x="2763" y="490"/>
                  </a:lnTo>
                  <a:lnTo>
                    <a:pt x="2769" y="508"/>
                  </a:lnTo>
                  <a:lnTo>
                    <a:pt x="2773" y="524"/>
                  </a:lnTo>
                  <a:lnTo>
                    <a:pt x="2777" y="542"/>
                  </a:lnTo>
                  <a:lnTo>
                    <a:pt x="2779" y="560"/>
                  </a:lnTo>
                  <a:lnTo>
                    <a:pt x="2780" y="578"/>
                  </a:lnTo>
                  <a:lnTo>
                    <a:pt x="2779" y="597"/>
                  </a:lnTo>
                  <a:lnTo>
                    <a:pt x="2778" y="616"/>
                  </a:lnTo>
                  <a:lnTo>
                    <a:pt x="2774" y="635"/>
                  </a:lnTo>
                  <a:lnTo>
                    <a:pt x="2770" y="653"/>
                  </a:lnTo>
                  <a:lnTo>
                    <a:pt x="2766" y="672"/>
                  </a:lnTo>
                  <a:lnTo>
                    <a:pt x="2759" y="691"/>
                  </a:lnTo>
                  <a:lnTo>
                    <a:pt x="2751" y="709"/>
                  </a:lnTo>
                  <a:lnTo>
                    <a:pt x="2742" y="727"/>
                  </a:lnTo>
                  <a:lnTo>
                    <a:pt x="2732" y="745"/>
                  </a:lnTo>
                  <a:lnTo>
                    <a:pt x="2721" y="763"/>
                  </a:lnTo>
                  <a:lnTo>
                    <a:pt x="2709" y="780"/>
                  </a:lnTo>
                  <a:lnTo>
                    <a:pt x="2696" y="798"/>
                  </a:lnTo>
                  <a:lnTo>
                    <a:pt x="2680" y="816"/>
                  </a:lnTo>
                  <a:lnTo>
                    <a:pt x="2665" y="833"/>
                  </a:lnTo>
                  <a:lnTo>
                    <a:pt x="2648" y="850"/>
                  </a:lnTo>
                  <a:lnTo>
                    <a:pt x="2630" y="868"/>
                  </a:lnTo>
                  <a:lnTo>
                    <a:pt x="2611" y="884"/>
                  </a:lnTo>
                  <a:lnTo>
                    <a:pt x="2590" y="901"/>
                  </a:lnTo>
                  <a:lnTo>
                    <a:pt x="2568" y="918"/>
                  </a:lnTo>
                  <a:lnTo>
                    <a:pt x="2546" y="935"/>
                  </a:lnTo>
                  <a:lnTo>
                    <a:pt x="2522" y="950"/>
                  </a:lnTo>
                  <a:lnTo>
                    <a:pt x="2496" y="967"/>
                  </a:lnTo>
                  <a:lnTo>
                    <a:pt x="2470" y="983"/>
                  </a:lnTo>
                  <a:lnTo>
                    <a:pt x="2442" y="999"/>
                  </a:lnTo>
                  <a:lnTo>
                    <a:pt x="2413" y="1015"/>
                  </a:lnTo>
                  <a:lnTo>
                    <a:pt x="2384" y="1031"/>
                  </a:lnTo>
                  <a:lnTo>
                    <a:pt x="2353" y="1046"/>
                  </a:lnTo>
                  <a:lnTo>
                    <a:pt x="2321" y="1062"/>
                  </a:lnTo>
                  <a:lnTo>
                    <a:pt x="2287" y="1077"/>
                  </a:lnTo>
                  <a:lnTo>
                    <a:pt x="2252" y="1093"/>
                  </a:lnTo>
                  <a:lnTo>
                    <a:pt x="2217" y="1107"/>
                  </a:lnTo>
                  <a:lnTo>
                    <a:pt x="2180" y="1122"/>
                  </a:lnTo>
                  <a:lnTo>
                    <a:pt x="2143" y="1137"/>
                  </a:lnTo>
                  <a:lnTo>
                    <a:pt x="2104" y="1151"/>
                  </a:lnTo>
                  <a:lnTo>
                    <a:pt x="2066" y="1164"/>
                  </a:lnTo>
                  <a:lnTo>
                    <a:pt x="2027" y="1178"/>
                  </a:lnTo>
                  <a:lnTo>
                    <a:pt x="1949" y="1203"/>
                  </a:lnTo>
                  <a:lnTo>
                    <a:pt x="1869" y="1226"/>
                  </a:lnTo>
                  <a:lnTo>
                    <a:pt x="1788" y="1248"/>
                  </a:lnTo>
                  <a:lnTo>
                    <a:pt x="1706" y="1267"/>
                  </a:lnTo>
                  <a:lnTo>
                    <a:pt x="1622" y="1285"/>
                  </a:lnTo>
                  <a:lnTo>
                    <a:pt x="1537" y="1301"/>
                  </a:lnTo>
                  <a:lnTo>
                    <a:pt x="1451" y="1314"/>
                  </a:lnTo>
                  <a:lnTo>
                    <a:pt x="1363" y="1327"/>
                  </a:lnTo>
                  <a:lnTo>
                    <a:pt x="1274" y="1337"/>
                  </a:lnTo>
                  <a:lnTo>
                    <a:pt x="1183" y="1345"/>
                  </a:lnTo>
                  <a:lnTo>
                    <a:pt x="1092" y="1352"/>
                  </a:lnTo>
                  <a:lnTo>
                    <a:pt x="999" y="1356"/>
                  </a:lnTo>
                  <a:lnTo>
                    <a:pt x="904" y="1360"/>
                  </a:lnTo>
                  <a:lnTo>
                    <a:pt x="809" y="1361"/>
                  </a:lnTo>
                  <a:lnTo>
                    <a:pt x="806" y="1383"/>
                  </a:lnTo>
                  <a:lnTo>
                    <a:pt x="803" y="1405"/>
                  </a:lnTo>
                  <a:lnTo>
                    <a:pt x="800" y="1426"/>
                  </a:lnTo>
                  <a:lnTo>
                    <a:pt x="798" y="1446"/>
                  </a:lnTo>
                  <a:lnTo>
                    <a:pt x="797" y="1465"/>
                  </a:lnTo>
                  <a:lnTo>
                    <a:pt x="796" y="1483"/>
                  </a:lnTo>
                  <a:lnTo>
                    <a:pt x="795" y="1500"/>
                  </a:lnTo>
                  <a:lnTo>
                    <a:pt x="795" y="1515"/>
                  </a:lnTo>
                  <a:lnTo>
                    <a:pt x="795" y="1554"/>
                  </a:lnTo>
                  <a:lnTo>
                    <a:pt x="796" y="1591"/>
                  </a:lnTo>
                  <a:lnTo>
                    <a:pt x="797" y="1628"/>
                  </a:lnTo>
                  <a:lnTo>
                    <a:pt x="799" y="1662"/>
                  </a:lnTo>
                  <a:lnTo>
                    <a:pt x="801" y="1696"/>
                  </a:lnTo>
                  <a:lnTo>
                    <a:pt x="804" y="1727"/>
                  </a:lnTo>
                  <a:lnTo>
                    <a:pt x="807" y="1758"/>
                  </a:lnTo>
                  <a:lnTo>
                    <a:pt x="811" y="1788"/>
                  </a:lnTo>
                  <a:lnTo>
                    <a:pt x="816" y="1815"/>
                  </a:lnTo>
                  <a:lnTo>
                    <a:pt x="820" y="1842"/>
                  </a:lnTo>
                  <a:lnTo>
                    <a:pt x="826" y="1866"/>
                  </a:lnTo>
                  <a:lnTo>
                    <a:pt x="832" y="1890"/>
                  </a:lnTo>
                  <a:lnTo>
                    <a:pt x="838" y="1913"/>
                  </a:lnTo>
                  <a:lnTo>
                    <a:pt x="846" y="1934"/>
                  </a:lnTo>
                  <a:lnTo>
                    <a:pt x="852" y="1952"/>
                  </a:lnTo>
                  <a:lnTo>
                    <a:pt x="861" y="1971"/>
                  </a:lnTo>
                  <a:lnTo>
                    <a:pt x="866" y="1981"/>
                  </a:lnTo>
                  <a:lnTo>
                    <a:pt x="870" y="1991"/>
                  </a:lnTo>
                  <a:lnTo>
                    <a:pt x="873" y="1998"/>
                  </a:lnTo>
                  <a:lnTo>
                    <a:pt x="877" y="2004"/>
                  </a:lnTo>
                  <a:lnTo>
                    <a:pt x="879" y="2007"/>
                  </a:lnTo>
                  <a:lnTo>
                    <a:pt x="881" y="2011"/>
                  </a:lnTo>
                  <a:lnTo>
                    <a:pt x="881" y="2011"/>
                  </a:lnTo>
                  <a:lnTo>
                    <a:pt x="882" y="2010"/>
                  </a:lnTo>
                  <a:lnTo>
                    <a:pt x="881" y="2015"/>
                  </a:lnTo>
                  <a:lnTo>
                    <a:pt x="880" y="2021"/>
                  </a:lnTo>
                  <a:lnTo>
                    <a:pt x="877" y="2025"/>
                  </a:lnTo>
                  <a:lnTo>
                    <a:pt x="872" y="2030"/>
                  </a:lnTo>
                  <a:lnTo>
                    <a:pt x="867" y="2034"/>
                  </a:lnTo>
                  <a:lnTo>
                    <a:pt x="860" y="2037"/>
                  </a:lnTo>
                  <a:lnTo>
                    <a:pt x="852" y="2041"/>
                  </a:lnTo>
                  <a:lnTo>
                    <a:pt x="843" y="2044"/>
                  </a:lnTo>
                  <a:lnTo>
                    <a:pt x="834" y="2047"/>
                  </a:lnTo>
                  <a:lnTo>
                    <a:pt x="822" y="2049"/>
                  </a:lnTo>
                  <a:lnTo>
                    <a:pt x="810" y="2050"/>
                  </a:lnTo>
                  <a:lnTo>
                    <a:pt x="796" y="2053"/>
                  </a:lnTo>
                  <a:lnTo>
                    <a:pt x="766" y="2055"/>
                  </a:lnTo>
                  <a:lnTo>
                    <a:pt x="730" y="2055"/>
                  </a:lnTo>
                  <a:lnTo>
                    <a:pt x="720" y="2055"/>
                  </a:lnTo>
                  <a:lnTo>
                    <a:pt x="709" y="2055"/>
                  </a:lnTo>
                  <a:lnTo>
                    <a:pt x="697" y="2054"/>
                  </a:lnTo>
                  <a:lnTo>
                    <a:pt x="684" y="2053"/>
                  </a:lnTo>
                  <a:lnTo>
                    <a:pt x="671" y="2052"/>
                  </a:lnTo>
                  <a:lnTo>
                    <a:pt x="658" y="2049"/>
                  </a:lnTo>
                  <a:lnTo>
                    <a:pt x="644" y="2047"/>
                  </a:lnTo>
                  <a:lnTo>
                    <a:pt x="629" y="2045"/>
                  </a:lnTo>
                  <a:lnTo>
                    <a:pt x="614" y="2043"/>
                  </a:lnTo>
                  <a:lnTo>
                    <a:pt x="601" y="2041"/>
                  </a:lnTo>
                  <a:lnTo>
                    <a:pt x="588" y="2038"/>
                  </a:lnTo>
                  <a:lnTo>
                    <a:pt x="576" y="2037"/>
                  </a:lnTo>
                  <a:lnTo>
                    <a:pt x="566" y="2036"/>
                  </a:lnTo>
                  <a:lnTo>
                    <a:pt x="556" y="2035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29" y="2035"/>
                  </a:lnTo>
                  <a:lnTo>
                    <a:pt x="522" y="2035"/>
                  </a:lnTo>
                  <a:lnTo>
                    <a:pt x="514" y="2036"/>
                  </a:lnTo>
                  <a:lnTo>
                    <a:pt x="507" y="2036"/>
                  </a:lnTo>
                  <a:lnTo>
                    <a:pt x="498" y="2037"/>
                  </a:lnTo>
                  <a:lnTo>
                    <a:pt x="489" y="2038"/>
                  </a:lnTo>
                  <a:lnTo>
                    <a:pt x="478" y="2039"/>
                  </a:lnTo>
                  <a:lnTo>
                    <a:pt x="468" y="2041"/>
                  </a:lnTo>
                  <a:lnTo>
                    <a:pt x="459" y="2042"/>
                  </a:lnTo>
                  <a:lnTo>
                    <a:pt x="450" y="2043"/>
                  </a:lnTo>
                  <a:lnTo>
                    <a:pt x="443" y="2043"/>
                  </a:lnTo>
                  <a:lnTo>
                    <a:pt x="435" y="2044"/>
                  </a:lnTo>
                  <a:lnTo>
                    <a:pt x="428" y="2044"/>
                  </a:lnTo>
                  <a:lnTo>
                    <a:pt x="423" y="2044"/>
                  </a:lnTo>
                  <a:lnTo>
                    <a:pt x="417" y="2044"/>
                  </a:lnTo>
                  <a:lnTo>
                    <a:pt x="395" y="2044"/>
                  </a:lnTo>
                  <a:lnTo>
                    <a:pt x="371" y="2042"/>
                  </a:lnTo>
                  <a:lnTo>
                    <a:pt x="344" y="2039"/>
                  </a:lnTo>
                  <a:lnTo>
                    <a:pt x="315" y="2036"/>
                  </a:lnTo>
                  <a:lnTo>
                    <a:pt x="284" y="2032"/>
                  </a:lnTo>
                  <a:lnTo>
                    <a:pt x="249" y="2026"/>
                  </a:lnTo>
                  <a:lnTo>
                    <a:pt x="213" y="2021"/>
                  </a:lnTo>
                  <a:lnTo>
                    <a:pt x="176" y="2013"/>
                  </a:lnTo>
                  <a:lnTo>
                    <a:pt x="134" y="2004"/>
                  </a:lnTo>
                  <a:lnTo>
                    <a:pt x="98" y="1996"/>
                  </a:lnTo>
                  <a:lnTo>
                    <a:pt x="68" y="1988"/>
                  </a:lnTo>
                  <a:lnTo>
                    <a:pt x="44" y="1980"/>
                  </a:lnTo>
                  <a:lnTo>
                    <a:pt x="24" y="1972"/>
                  </a:lnTo>
                  <a:lnTo>
                    <a:pt x="11" y="1964"/>
                  </a:lnTo>
                  <a:lnTo>
                    <a:pt x="6" y="1961"/>
                  </a:lnTo>
                  <a:lnTo>
                    <a:pt x="2" y="1958"/>
                  </a:lnTo>
                  <a:lnTo>
                    <a:pt x="0" y="1953"/>
                  </a:lnTo>
                  <a:lnTo>
                    <a:pt x="0" y="1950"/>
                  </a:lnTo>
                  <a:lnTo>
                    <a:pt x="0" y="1948"/>
                  </a:lnTo>
                  <a:lnTo>
                    <a:pt x="1" y="1945"/>
                  </a:lnTo>
                  <a:lnTo>
                    <a:pt x="2" y="1942"/>
                  </a:lnTo>
                  <a:lnTo>
                    <a:pt x="3" y="1939"/>
                  </a:lnTo>
                  <a:lnTo>
                    <a:pt x="6" y="1935"/>
                  </a:lnTo>
                  <a:lnTo>
                    <a:pt x="8" y="1931"/>
                  </a:lnTo>
                  <a:lnTo>
                    <a:pt x="11" y="1927"/>
                  </a:lnTo>
                  <a:lnTo>
                    <a:pt x="15" y="1922"/>
                  </a:lnTo>
                  <a:lnTo>
                    <a:pt x="19" y="1918"/>
                  </a:lnTo>
                  <a:lnTo>
                    <a:pt x="22" y="1914"/>
                  </a:lnTo>
                  <a:lnTo>
                    <a:pt x="25" y="1910"/>
                  </a:lnTo>
                  <a:lnTo>
                    <a:pt x="28" y="1907"/>
                  </a:lnTo>
                  <a:lnTo>
                    <a:pt x="30" y="1904"/>
                  </a:lnTo>
                  <a:lnTo>
                    <a:pt x="32" y="1900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8" y="1875"/>
                  </a:lnTo>
                  <a:lnTo>
                    <a:pt x="41" y="1850"/>
                  </a:lnTo>
                  <a:lnTo>
                    <a:pt x="45" y="1818"/>
                  </a:lnTo>
                  <a:lnTo>
                    <a:pt x="49" y="1781"/>
                  </a:lnTo>
                  <a:lnTo>
                    <a:pt x="56" y="1691"/>
                  </a:lnTo>
                  <a:lnTo>
                    <a:pt x="65" y="1577"/>
                  </a:lnTo>
                  <a:lnTo>
                    <a:pt x="74" y="1442"/>
                  </a:lnTo>
                  <a:lnTo>
                    <a:pt x="83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0"/>
                  </a:lnTo>
                  <a:lnTo>
                    <a:pt x="108" y="778"/>
                  </a:lnTo>
                  <a:lnTo>
                    <a:pt x="110" y="720"/>
                  </a:lnTo>
                  <a:lnTo>
                    <a:pt x="113" y="664"/>
                  </a:lnTo>
                  <a:lnTo>
                    <a:pt x="115" y="611"/>
                  </a:lnTo>
                  <a:lnTo>
                    <a:pt x="116" y="563"/>
                  </a:lnTo>
                  <a:lnTo>
                    <a:pt x="116" y="518"/>
                  </a:lnTo>
                  <a:lnTo>
                    <a:pt x="116" y="475"/>
                  </a:lnTo>
                  <a:close/>
                  <a:moveTo>
                    <a:pt x="1381" y="211"/>
                  </a:moveTo>
                  <a:lnTo>
                    <a:pt x="1334" y="211"/>
                  </a:lnTo>
                  <a:lnTo>
                    <a:pt x="1288" y="212"/>
                  </a:lnTo>
                  <a:lnTo>
                    <a:pt x="1245" y="212"/>
                  </a:lnTo>
                  <a:lnTo>
                    <a:pt x="1203" y="213"/>
                  </a:lnTo>
                  <a:lnTo>
                    <a:pt x="1164" y="214"/>
                  </a:lnTo>
                  <a:lnTo>
                    <a:pt x="1126" y="215"/>
                  </a:lnTo>
                  <a:lnTo>
                    <a:pt x="1091" y="216"/>
                  </a:lnTo>
                  <a:lnTo>
                    <a:pt x="1057" y="219"/>
                  </a:lnTo>
                  <a:lnTo>
                    <a:pt x="1023" y="220"/>
                  </a:lnTo>
                  <a:lnTo>
                    <a:pt x="992" y="222"/>
                  </a:lnTo>
                  <a:lnTo>
                    <a:pt x="965" y="224"/>
                  </a:lnTo>
                  <a:lnTo>
                    <a:pt x="941" y="227"/>
                  </a:lnTo>
                  <a:lnTo>
                    <a:pt x="920" y="231"/>
                  </a:lnTo>
                  <a:lnTo>
                    <a:pt x="901" y="234"/>
                  </a:lnTo>
                  <a:lnTo>
                    <a:pt x="886" y="239"/>
                  </a:lnTo>
                  <a:lnTo>
                    <a:pt x="874" y="242"/>
                  </a:lnTo>
                  <a:lnTo>
                    <a:pt x="866" y="247"/>
                  </a:lnTo>
                  <a:lnTo>
                    <a:pt x="857" y="254"/>
                  </a:lnTo>
                  <a:lnTo>
                    <a:pt x="848" y="262"/>
                  </a:lnTo>
                  <a:lnTo>
                    <a:pt x="841" y="269"/>
                  </a:lnTo>
                  <a:lnTo>
                    <a:pt x="836" y="279"/>
                  </a:lnTo>
                  <a:lnTo>
                    <a:pt x="830" y="290"/>
                  </a:lnTo>
                  <a:lnTo>
                    <a:pt x="826" y="303"/>
                  </a:lnTo>
                  <a:lnTo>
                    <a:pt x="822" y="316"/>
                  </a:lnTo>
                  <a:lnTo>
                    <a:pt x="811" y="411"/>
                  </a:lnTo>
                  <a:lnTo>
                    <a:pt x="803" y="509"/>
                  </a:lnTo>
                  <a:lnTo>
                    <a:pt x="794" y="610"/>
                  </a:lnTo>
                  <a:lnTo>
                    <a:pt x="787" y="714"/>
                  </a:lnTo>
                  <a:lnTo>
                    <a:pt x="782" y="821"/>
                  </a:lnTo>
                  <a:lnTo>
                    <a:pt x="778" y="932"/>
                  </a:lnTo>
                  <a:lnTo>
                    <a:pt x="776" y="1045"/>
                  </a:lnTo>
                  <a:lnTo>
                    <a:pt x="775" y="1162"/>
                  </a:lnTo>
                  <a:lnTo>
                    <a:pt x="775" y="1168"/>
                  </a:lnTo>
                  <a:lnTo>
                    <a:pt x="776" y="1173"/>
                  </a:lnTo>
                  <a:lnTo>
                    <a:pt x="778" y="1178"/>
                  </a:lnTo>
                  <a:lnTo>
                    <a:pt x="782" y="1182"/>
                  </a:lnTo>
                  <a:lnTo>
                    <a:pt x="785" y="1186"/>
                  </a:lnTo>
                  <a:lnTo>
                    <a:pt x="789" y="1191"/>
                  </a:lnTo>
                  <a:lnTo>
                    <a:pt x="795" y="1194"/>
                  </a:lnTo>
                  <a:lnTo>
                    <a:pt x="801" y="1197"/>
                  </a:lnTo>
                  <a:lnTo>
                    <a:pt x="808" y="1200"/>
                  </a:lnTo>
                  <a:lnTo>
                    <a:pt x="817" y="1203"/>
                  </a:lnTo>
                  <a:lnTo>
                    <a:pt x="825" y="1204"/>
                  </a:lnTo>
                  <a:lnTo>
                    <a:pt x="835" y="1206"/>
                  </a:lnTo>
                  <a:lnTo>
                    <a:pt x="857" y="1209"/>
                  </a:lnTo>
                  <a:lnTo>
                    <a:pt x="882" y="1210"/>
                  </a:lnTo>
                  <a:lnTo>
                    <a:pt x="925" y="1209"/>
                  </a:lnTo>
                  <a:lnTo>
                    <a:pt x="972" y="1205"/>
                  </a:lnTo>
                  <a:lnTo>
                    <a:pt x="1019" y="1201"/>
                  </a:lnTo>
                  <a:lnTo>
                    <a:pt x="1070" y="1194"/>
                  </a:lnTo>
                  <a:lnTo>
                    <a:pt x="1123" y="1185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49"/>
                  </a:lnTo>
                  <a:lnTo>
                    <a:pt x="1342" y="1137"/>
                  </a:lnTo>
                  <a:lnTo>
                    <a:pt x="1389" y="1125"/>
                  </a:lnTo>
                  <a:lnTo>
                    <a:pt x="1434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4" y="1069"/>
                  </a:lnTo>
                  <a:lnTo>
                    <a:pt x="1605" y="1054"/>
                  </a:lnTo>
                  <a:lnTo>
                    <a:pt x="1645" y="1039"/>
                  </a:lnTo>
                  <a:lnTo>
                    <a:pt x="1685" y="1022"/>
                  </a:lnTo>
                  <a:lnTo>
                    <a:pt x="1722" y="1005"/>
                  </a:lnTo>
                  <a:lnTo>
                    <a:pt x="1759" y="989"/>
                  </a:lnTo>
                  <a:lnTo>
                    <a:pt x="1794" y="971"/>
                  </a:lnTo>
                  <a:lnTo>
                    <a:pt x="1828" y="952"/>
                  </a:lnTo>
                  <a:lnTo>
                    <a:pt x="1861" y="935"/>
                  </a:lnTo>
                  <a:lnTo>
                    <a:pt x="1893" y="915"/>
                  </a:lnTo>
                  <a:lnTo>
                    <a:pt x="1925" y="896"/>
                  </a:lnTo>
                  <a:lnTo>
                    <a:pt x="1955" y="875"/>
                  </a:lnTo>
                  <a:lnTo>
                    <a:pt x="1984" y="854"/>
                  </a:lnTo>
                  <a:lnTo>
                    <a:pt x="2009" y="834"/>
                  </a:lnTo>
                  <a:lnTo>
                    <a:pt x="2035" y="813"/>
                  </a:lnTo>
                  <a:lnTo>
                    <a:pt x="2057" y="792"/>
                  </a:lnTo>
                  <a:lnTo>
                    <a:pt x="2078" y="772"/>
                  </a:lnTo>
                  <a:lnTo>
                    <a:pt x="2098" y="751"/>
                  </a:lnTo>
                  <a:lnTo>
                    <a:pt x="2114" y="730"/>
                  </a:lnTo>
                  <a:lnTo>
                    <a:pt x="2130" y="709"/>
                  </a:lnTo>
                  <a:lnTo>
                    <a:pt x="2144" y="688"/>
                  </a:lnTo>
                  <a:lnTo>
                    <a:pt x="2155" y="667"/>
                  </a:lnTo>
                  <a:lnTo>
                    <a:pt x="2165" y="645"/>
                  </a:lnTo>
                  <a:lnTo>
                    <a:pt x="2174" y="624"/>
                  </a:lnTo>
                  <a:lnTo>
                    <a:pt x="2180" y="602"/>
                  </a:lnTo>
                  <a:lnTo>
                    <a:pt x="2185" y="581"/>
                  </a:lnTo>
                  <a:lnTo>
                    <a:pt x="2187" y="559"/>
                  </a:lnTo>
                  <a:lnTo>
                    <a:pt x="2187" y="533"/>
                  </a:lnTo>
                  <a:lnTo>
                    <a:pt x="2188" y="513"/>
                  </a:lnTo>
                  <a:lnTo>
                    <a:pt x="2186" y="493"/>
                  </a:lnTo>
                  <a:lnTo>
                    <a:pt x="2184" y="476"/>
                  </a:lnTo>
                  <a:lnTo>
                    <a:pt x="2179" y="457"/>
                  </a:lnTo>
                  <a:lnTo>
                    <a:pt x="2173" y="440"/>
                  </a:lnTo>
                  <a:lnTo>
                    <a:pt x="2165" y="424"/>
                  </a:lnTo>
                  <a:lnTo>
                    <a:pt x="2156" y="407"/>
                  </a:lnTo>
                  <a:lnTo>
                    <a:pt x="2145" y="392"/>
                  </a:lnTo>
                  <a:lnTo>
                    <a:pt x="2132" y="378"/>
                  </a:lnTo>
                  <a:lnTo>
                    <a:pt x="2117" y="363"/>
                  </a:lnTo>
                  <a:lnTo>
                    <a:pt x="2101" y="350"/>
                  </a:lnTo>
                  <a:lnTo>
                    <a:pt x="2083" y="337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0" y="303"/>
                  </a:lnTo>
                  <a:lnTo>
                    <a:pt x="1996" y="291"/>
                  </a:lnTo>
                  <a:lnTo>
                    <a:pt x="1970" y="282"/>
                  </a:lnTo>
                  <a:lnTo>
                    <a:pt x="1942" y="273"/>
                  </a:lnTo>
                  <a:lnTo>
                    <a:pt x="1913" y="264"/>
                  </a:lnTo>
                  <a:lnTo>
                    <a:pt x="1882" y="256"/>
                  </a:lnTo>
                  <a:lnTo>
                    <a:pt x="1849" y="250"/>
                  </a:lnTo>
                  <a:lnTo>
                    <a:pt x="1815" y="243"/>
                  </a:lnTo>
                  <a:lnTo>
                    <a:pt x="1780" y="236"/>
                  </a:lnTo>
                  <a:lnTo>
                    <a:pt x="1742" y="231"/>
                  </a:lnTo>
                  <a:lnTo>
                    <a:pt x="1702" y="226"/>
                  </a:lnTo>
                  <a:lnTo>
                    <a:pt x="1662" y="222"/>
                  </a:lnTo>
                  <a:lnTo>
                    <a:pt x="1618" y="219"/>
                  </a:lnTo>
                  <a:lnTo>
                    <a:pt x="1574" y="216"/>
                  </a:lnTo>
                  <a:lnTo>
                    <a:pt x="1529" y="214"/>
                  </a:lnTo>
                  <a:lnTo>
                    <a:pt x="1482" y="212"/>
                  </a:lnTo>
                  <a:lnTo>
                    <a:pt x="1432" y="211"/>
                  </a:lnTo>
                  <a:lnTo>
                    <a:pt x="1381" y="21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9556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6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6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79" y="390"/>
                  </a:lnTo>
                  <a:lnTo>
                    <a:pt x="64" y="376"/>
                  </a:lnTo>
                  <a:lnTo>
                    <a:pt x="49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49" y="81"/>
                  </a:lnTo>
                  <a:lnTo>
                    <a:pt x="64" y="65"/>
                  </a:lnTo>
                  <a:lnTo>
                    <a:pt x="79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864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40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9" y="81"/>
                  </a:lnTo>
                  <a:lnTo>
                    <a:pt x="401" y="97"/>
                  </a:lnTo>
                  <a:lnTo>
                    <a:pt x="412" y="115"/>
                  </a:lnTo>
                  <a:lnTo>
                    <a:pt x="422" y="135"/>
                  </a:lnTo>
                  <a:lnTo>
                    <a:pt x="430" y="155"/>
                  </a:lnTo>
                  <a:lnTo>
                    <a:pt x="434" y="176"/>
                  </a:lnTo>
                  <a:lnTo>
                    <a:pt x="436" y="187"/>
                  </a:lnTo>
                  <a:lnTo>
                    <a:pt x="437" y="198"/>
                  </a:lnTo>
                  <a:lnTo>
                    <a:pt x="438" y="209"/>
                  </a:lnTo>
                  <a:lnTo>
                    <a:pt x="440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30" y="285"/>
                  </a:lnTo>
                  <a:lnTo>
                    <a:pt x="422" y="305"/>
                  </a:lnTo>
                  <a:lnTo>
                    <a:pt x="412" y="325"/>
                  </a:lnTo>
                  <a:lnTo>
                    <a:pt x="401" y="342"/>
                  </a:lnTo>
                  <a:lnTo>
                    <a:pt x="389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6" y="435"/>
                  </a:lnTo>
                  <a:lnTo>
                    <a:pt x="155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0" y="360"/>
                  </a:lnTo>
                  <a:lnTo>
                    <a:pt x="38" y="342"/>
                  </a:lnTo>
                  <a:lnTo>
                    <a:pt x="27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5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5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7" y="115"/>
                  </a:lnTo>
                  <a:lnTo>
                    <a:pt x="38" y="97"/>
                  </a:lnTo>
                  <a:lnTo>
                    <a:pt x="50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882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19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5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5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4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19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1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51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65240" y="191268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1">
                  <a:moveTo>
                    <a:pt x="918" y="269"/>
                  </a:moveTo>
                  <a:lnTo>
                    <a:pt x="1433" y="246"/>
                  </a:lnTo>
                  <a:lnTo>
                    <a:pt x="1947" y="225"/>
                  </a:lnTo>
                  <a:lnTo>
                    <a:pt x="2460" y="204"/>
                  </a:lnTo>
                  <a:lnTo>
                    <a:pt x="2975" y="185"/>
                  </a:lnTo>
                  <a:lnTo>
                    <a:pt x="3489" y="168"/>
                  </a:lnTo>
                  <a:lnTo>
                    <a:pt x="4004" y="151"/>
                  </a:lnTo>
                  <a:lnTo>
                    <a:pt x="4517" y="135"/>
                  </a:lnTo>
                  <a:lnTo>
                    <a:pt x="5032" y="120"/>
                  </a:lnTo>
                  <a:lnTo>
                    <a:pt x="5545" y="107"/>
                  </a:lnTo>
                  <a:lnTo>
                    <a:pt x="6059" y="94"/>
                  </a:lnTo>
                  <a:lnTo>
                    <a:pt x="6573" y="83"/>
                  </a:lnTo>
                  <a:lnTo>
                    <a:pt x="7085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2" y="45"/>
                  </a:lnTo>
                  <a:lnTo>
                    <a:pt x="9133" y="37"/>
                  </a:lnTo>
                  <a:lnTo>
                    <a:pt x="9644" y="31"/>
                  </a:lnTo>
                  <a:lnTo>
                    <a:pt x="10154" y="25"/>
                  </a:lnTo>
                  <a:lnTo>
                    <a:pt x="10664" y="20"/>
                  </a:lnTo>
                  <a:lnTo>
                    <a:pt x="11173" y="15"/>
                  </a:lnTo>
                  <a:lnTo>
                    <a:pt x="11682" y="12"/>
                  </a:lnTo>
                  <a:lnTo>
                    <a:pt x="12190" y="9"/>
                  </a:lnTo>
                  <a:lnTo>
                    <a:pt x="12697" y="5"/>
                  </a:lnTo>
                  <a:lnTo>
                    <a:pt x="13202" y="4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1"/>
                  </a:lnTo>
                  <a:lnTo>
                    <a:pt x="17218" y="2"/>
                  </a:lnTo>
                  <a:lnTo>
                    <a:pt x="17313" y="3"/>
                  </a:lnTo>
                  <a:lnTo>
                    <a:pt x="17391" y="5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5"/>
                  </a:lnTo>
                  <a:lnTo>
                    <a:pt x="17580" y="28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5"/>
                  </a:lnTo>
                  <a:lnTo>
                    <a:pt x="17583" y="37"/>
                  </a:lnTo>
                  <a:lnTo>
                    <a:pt x="17581" y="40"/>
                  </a:lnTo>
                  <a:lnTo>
                    <a:pt x="17575" y="44"/>
                  </a:lnTo>
                  <a:lnTo>
                    <a:pt x="17569" y="48"/>
                  </a:lnTo>
                  <a:lnTo>
                    <a:pt x="17562" y="52"/>
                  </a:lnTo>
                  <a:lnTo>
                    <a:pt x="17558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59" y="57"/>
                  </a:lnTo>
                  <a:lnTo>
                    <a:pt x="17562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5"/>
                  </a:lnTo>
                  <a:lnTo>
                    <a:pt x="14270" y="93"/>
                  </a:lnTo>
                  <a:lnTo>
                    <a:pt x="13721" y="101"/>
                  </a:lnTo>
                  <a:lnTo>
                    <a:pt x="13173" y="111"/>
                  </a:lnTo>
                  <a:lnTo>
                    <a:pt x="12623" y="121"/>
                  </a:lnTo>
                  <a:lnTo>
                    <a:pt x="12074" y="132"/>
                  </a:lnTo>
                  <a:lnTo>
                    <a:pt x="11525" y="144"/>
                  </a:lnTo>
                  <a:lnTo>
                    <a:pt x="10977" y="158"/>
                  </a:lnTo>
                  <a:lnTo>
                    <a:pt x="10427" y="171"/>
                  </a:lnTo>
                  <a:lnTo>
                    <a:pt x="9878" y="184"/>
                  </a:lnTo>
                  <a:lnTo>
                    <a:pt x="9331" y="200"/>
                  </a:lnTo>
                  <a:lnTo>
                    <a:pt x="8782" y="215"/>
                  </a:lnTo>
                  <a:lnTo>
                    <a:pt x="8233" y="231"/>
                  </a:lnTo>
                  <a:lnTo>
                    <a:pt x="7686" y="248"/>
                  </a:lnTo>
                  <a:lnTo>
                    <a:pt x="7138" y="265"/>
                  </a:lnTo>
                  <a:lnTo>
                    <a:pt x="6590" y="284"/>
                  </a:lnTo>
                  <a:lnTo>
                    <a:pt x="6044" y="301"/>
                  </a:lnTo>
                  <a:lnTo>
                    <a:pt x="5498" y="321"/>
                  </a:lnTo>
                  <a:lnTo>
                    <a:pt x="4951" y="341"/>
                  </a:lnTo>
                  <a:lnTo>
                    <a:pt x="4406" y="361"/>
                  </a:lnTo>
                  <a:lnTo>
                    <a:pt x="3315" y="403"/>
                  </a:lnTo>
                  <a:lnTo>
                    <a:pt x="2227" y="447"/>
                  </a:lnTo>
                  <a:lnTo>
                    <a:pt x="1141" y="493"/>
                  </a:lnTo>
                  <a:lnTo>
                    <a:pt x="57" y="541"/>
                  </a:lnTo>
                  <a:lnTo>
                    <a:pt x="38" y="541"/>
                  </a:lnTo>
                  <a:lnTo>
                    <a:pt x="23" y="538"/>
                  </a:lnTo>
                  <a:lnTo>
                    <a:pt x="12" y="535"/>
                  </a:lnTo>
                  <a:lnTo>
                    <a:pt x="4" y="531"/>
                  </a:lnTo>
                  <a:lnTo>
                    <a:pt x="0" y="524"/>
                  </a:lnTo>
                  <a:lnTo>
                    <a:pt x="0" y="517"/>
                  </a:lnTo>
                  <a:lnTo>
                    <a:pt x="2" y="510"/>
                  </a:lnTo>
                  <a:lnTo>
                    <a:pt x="8" y="501"/>
                  </a:lnTo>
                  <a:lnTo>
                    <a:pt x="17" y="491"/>
                  </a:lnTo>
                  <a:lnTo>
                    <a:pt x="30" y="480"/>
                  </a:lnTo>
                  <a:lnTo>
                    <a:pt x="46" y="469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3"/>
                  </a:lnTo>
                  <a:lnTo>
                    <a:pt x="136" y="419"/>
                  </a:lnTo>
                  <a:lnTo>
                    <a:pt x="166" y="407"/>
                  </a:lnTo>
                  <a:lnTo>
                    <a:pt x="198" y="394"/>
                  </a:lnTo>
                  <a:lnTo>
                    <a:pt x="233" y="381"/>
                  </a:lnTo>
                  <a:lnTo>
                    <a:pt x="270" y="369"/>
                  </a:lnTo>
                  <a:lnTo>
                    <a:pt x="309" y="356"/>
                  </a:lnTo>
                  <a:lnTo>
                    <a:pt x="350" y="344"/>
                  </a:lnTo>
                  <a:lnTo>
                    <a:pt x="393" y="333"/>
                  </a:lnTo>
                  <a:lnTo>
                    <a:pt x="438" y="322"/>
                  </a:lnTo>
                  <a:lnTo>
                    <a:pt x="485" y="312"/>
                  </a:lnTo>
                  <a:lnTo>
                    <a:pt x="534" y="302"/>
                  </a:lnTo>
                  <a:lnTo>
                    <a:pt x="585" y="295"/>
                  </a:lnTo>
                  <a:lnTo>
                    <a:pt x="637" y="287"/>
                  </a:lnTo>
                  <a:lnTo>
                    <a:pt x="691" y="281"/>
                  </a:lnTo>
                  <a:lnTo>
                    <a:pt x="746" y="276"/>
                  </a:lnTo>
                  <a:lnTo>
                    <a:pt x="802" y="272"/>
                  </a:lnTo>
                  <a:lnTo>
                    <a:pt x="860" y="270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98720" y="187776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0">
                  <a:moveTo>
                    <a:pt x="918" y="269"/>
                  </a:moveTo>
                  <a:lnTo>
                    <a:pt x="1433" y="246"/>
                  </a:lnTo>
                  <a:lnTo>
                    <a:pt x="1947" y="224"/>
                  </a:lnTo>
                  <a:lnTo>
                    <a:pt x="2462" y="204"/>
                  </a:lnTo>
                  <a:lnTo>
                    <a:pt x="2976" y="185"/>
                  </a:lnTo>
                  <a:lnTo>
                    <a:pt x="3489" y="167"/>
                  </a:lnTo>
                  <a:lnTo>
                    <a:pt x="4004" y="150"/>
                  </a:lnTo>
                  <a:lnTo>
                    <a:pt x="4518" y="135"/>
                  </a:lnTo>
                  <a:lnTo>
                    <a:pt x="5032" y="120"/>
                  </a:lnTo>
                  <a:lnTo>
                    <a:pt x="5546" y="106"/>
                  </a:lnTo>
                  <a:lnTo>
                    <a:pt x="6059" y="94"/>
                  </a:lnTo>
                  <a:lnTo>
                    <a:pt x="6573" y="82"/>
                  </a:lnTo>
                  <a:lnTo>
                    <a:pt x="7086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3" y="44"/>
                  </a:lnTo>
                  <a:lnTo>
                    <a:pt x="9134" y="37"/>
                  </a:lnTo>
                  <a:lnTo>
                    <a:pt x="9645" y="31"/>
                  </a:lnTo>
                  <a:lnTo>
                    <a:pt x="10155" y="24"/>
                  </a:lnTo>
                  <a:lnTo>
                    <a:pt x="10664" y="20"/>
                  </a:lnTo>
                  <a:lnTo>
                    <a:pt x="11174" y="15"/>
                  </a:lnTo>
                  <a:lnTo>
                    <a:pt x="11682" y="11"/>
                  </a:lnTo>
                  <a:lnTo>
                    <a:pt x="12190" y="8"/>
                  </a:lnTo>
                  <a:lnTo>
                    <a:pt x="12697" y="5"/>
                  </a:lnTo>
                  <a:lnTo>
                    <a:pt x="13203" y="3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0"/>
                  </a:lnTo>
                  <a:lnTo>
                    <a:pt x="17219" y="2"/>
                  </a:lnTo>
                  <a:lnTo>
                    <a:pt x="17314" y="3"/>
                  </a:lnTo>
                  <a:lnTo>
                    <a:pt x="17391" y="4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4"/>
                  </a:lnTo>
                  <a:lnTo>
                    <a:pt x="17580" y="26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4"/>
                  </a:lnTo>
                  <a:lnTo>
                    <a:pt x="17583" y="36"/>
                  </a:lnTo>
                  <a:lnTo>
                    <a:pt x="17582" y="40"/>
                  </a:lnTo>
                  <a:lnTo>
                    <a:pt x="17576" y="44"/>
                  </a:lnTo>
                  <a:lnTo>
                    <a:pt x="17569" y="47"/>
                  </a:lnTo>
                  <a:lnTo>
                    <a:pt x="17563" y="52"/>
                  </a:lnTo>
                  <a:lnTo>
                    <a:pt x="17559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60" y="56"/>
                  </a:lnTo>
                  <a:lnTo>
                    <a:pt x="17563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4"/>
                  </a:lnTo>
                  <a:lnTo>
                    <a:pt x="14271" y="93"/>
                  </a:lnTo>
                  <a:lnTo>
                    <a:pt x="13721" y="101"/>
                  </a:lnTo>
                  <a:lnTo>
                    <a:pt x="13173" y="110"/>
                  </a:lnTo>
                  <a:lnTo>
                    <a:pt x="12624" y="121"/>
                  </a:lnTo>
                  <a:lnTo>
                    <a:pt x="12074" y="132"/>
                  </a:lnTo>
                  <a:lnTo>
                    <a:pt x="11525" y="145"/>
                  </a:lnTo>
                  <a:lnTo>
                    <a:pt x="10977" y="157"/>
                  </a:lnTo>
                  <a:lnTo>
                    <a:pt x="10428" y="170"/>
                  </a:lnTo>
                  <a:lnTo>
                    <a:pt x="9879" y="184"/>
                  </a:lnTo>
                  <a:lnTo>
                    <a:pt x="9331" y="199"/>
                  </a:lnTo>
                  <a:lnTo>
                    <a:pt x="8782" y="214"/>
                  </a:lnTo>
                  <a:lnTo>
                    <a:pt x="8234" y="231"/>
                  </a:lnTo>
                  <a:lnTo>
                    <a:pt x="7687" y="247"/>
                  </a:lnTo>
                  <a:lnTo>
                    <a:pt x="7139" y="265"/>
                  </a:lnTo>
                  <a:lnTo>
                    <a:pt x="6592" y="282"/>
                  </a:lnTo>
                  <a:lnTo>
                    <a:pt x="6044" y="301"/>
                  </a:lnTo>
                  <a:lnTo>
                    <a:pt x="5498" y="320"/>
                  </a:lnTo>
                  <a:lnTo>
                    <a:pt x="4952" y="340"/>
                  </a:lnTo>
                  <a:lnTo>
                    <a:pt x="4406" y="361"/>
                  </a:lnTo>
                  <a:lnTo>
                    <a:pt x="3316" y="403"/>
                  </a:lnTo>
                  <a:lnTo>
                    <a:pt x="2227" y="447"/>
                  </a:lnTo>
                  <a:lnTo>
                    <a:pt x="1141" y="492"/>
                  </a:lnTo>
                  <a:lnTo>
                    <a:pt x="58" y="540"/>
                  </a:lnTo>
                  <a:lnTo>
                    <a:pt x="39" y="540"/>
                  </a:lnTo>
                  <a:lnTo>
                    <a:pt x="24" y="538"/>
                  </a:lnTo>
                  <a:lnTo>
                    <a:pt x="12" y="535"/>
                  </a:lnTo>
                  <a:lnTo>
                    <a:pt x="4" y="530"/>
                  </a:lnTo>
                  <a:lnTo>
                    <a:pt x="1" y="524"/>
                  </a:lnTo>
                  <a:lnTo>
                    <a:pt x="0" y="518"/>
                  </a:lnTo>
                  <a:lnTo>
                    <a:pt x="3" y="509"/>
                  </a:lnTo>
                  <a:lnTo>
                    <a:pt x="8" y="500"/>
                  </a:lnTo>
                  <a:lnTo>
                    <a:pt x="18" y="490"/>
                  </a:lnTo>
                  <a:lnTo>
                    <a:pt x="31" y="480"/>
                  </a:lnTo>
                  <a:lnTo>
                    <a:pt x="46" y="468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1"/>
                  </a:lnTo>
                  <a:lnTo>
                    <a:pt x="138" y="419"/>
                  </a:lnTo>
                  <a:lnTo>
                    <a:pt x="167" y="406"/>
                  </a:lnTo>
                  <a:lnTo>
                    <a:pt x="199" y="394"/>
                  </a:lnTo>
                  <a:lnTo>
                    <a:pt x="234" y="381"/>
                  </a:lnTo>
                  <a:lnTo>
                    <a:pt x="270" y="369"/>
                  </a:lnTo>
                  <a:lnTo>
                    <a:pt x="309" y="355"/>
                  </a:lnTo>
                  <a:lnTo>
                    <a:pt x="351" y="344"/>
                  </a:lnTo>
                  <a:lnTo>
                    <a:pt x="394" y="332"/>
                  </a:lnTo>
                  <a:lnTo>
                    <a:pt x="439" y="322"/>
                  </a:lnTo>
                  <a:lnTo>
                    <a:pt x="485" y="311"/>
                  </a:lnTo>
                  <a:lnTo>
                    <a:pt x="535" y="302"/>
                  </a:lnTo>
                  <a:lnTo>
                    <a:pt x="585" y="293"/>
                  </a:lnTo>
                  <a:lnTo>
                    <a:pt x="638" y="287"/>
                  </a:lnTo>
                  <a:lnTo>
                    <a:pt x="691" y="280"/>
                  </a:lnTo>
                  <a:lnTo>
                    <a:pt x="746" y="276"/>
                  </a:lnTo>
                  <a:lnTo>
                    <a:pt x="802" y="271"/>
                  </a:lnTo>
                  <a:lnTo>
                    <a:pt x="860" y="269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1" name="AFRICA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2936880" cy="3048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523880" y="3733920"/>
            <a:ext cx="65534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Other Christian Issu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44480" y="2174760"/>
            <a:ext cx="5853240" cy="2508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Britannic Bold"/>
              </a:rPr>
              <a:t>THE CHURCH SHOULD 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Britannic Bold"/>
              </a:rPr>
              <a:t>SALT AND L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Britannic Bold"/>
              </a:rPr>
              <a:t>IN A WORLD THAT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Britannic Bold"/>
              </a:rPr>
              <a:t>DARK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Britannic Bold"/>
              </a:rPr>
              <a:t>HAS LOST 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Britannic Bold"/>
              </a:rPr>
              <a:t>W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20:08:42Z</dcterms:created>
  <dc:creator>adriaan</dc:creator>
  <dc:description/>
  <dc:language>en-US</dc:language>
  <cp:lastModifiedBy>Vern Tisdalle</cp:lastModifiedBy>
  <dcterms:modified xsi:type="dcterms:W3CDTF">2005-12-22T09:31:48Z</dcterms:modified>
  <cp:revision>263</cp:revision>
  <dc:subject/>
  <dc:title>No Slide Title</dc:title>
</cp:coreProperties>
</file>